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61E3F-FD30-4A7F-84F2-897C58963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274E2-1455-43A0-8A98-F4D031920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A5824-B923-4364-8254-F879A7EA24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CD654-0007-4013-B1D3-B629B198D4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91CE8-0EDB-43E9-9DBE-AFCFC68F48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25BEF-DCC9-4709-BDC3-FEC576B48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5C5F3-CACA-4E75-802D-0BA7D228A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A8D0E-A7D6-406B-A288-30CE8A485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B7D6C-799A-4A9D-B40D-834E5D350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081F-D823-4D80-AAD3-4424B5DEA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4D3D5-8B54-4586-BCF0-737A0FC9E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0099B-C750-45CE-B970-C2CEE071A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6D51-56E8-40C6-A1E9-BA95C5DFD9B1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Dinaminis objektų kūrima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ų perdav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4360" y="1341360"/>
          <a:ext cx="253656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25365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84360" y="1989000"/>
          <a:ext cx="2319120" cy="108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989000"/>
                    <a:ext cx="231912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84360" y="3284640"/>
          <a:ext cx="5337000" cy="28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3284640"/>
                    <a:ext cx="533700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443640" y="5013360"/>
          <a:ext cx="2403360" cy="15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43640" y="5013360"/>
                    <a:ext cx="240336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ų perdavimas į konstruktorių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Norint išvengti konstruktoriuje kopijavimo pabičiui, reikia apibrėžti konstruktorių su byref paramet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55640" y="0"/>
          <a:ext cx="5484960" cy="701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0"/>
                    <a:ext cx="5484960" cy="701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4360" y="1341360"/>
          <a:ext cx="5413320" cy="16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413320" cy="16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84360" y="5157720"/>
          <a:ext cx="4152600" cy="93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5157720"/>
                    <a:ext cx="415260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11 skyri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Dinaminių objektų masyv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4360" y="1989000"/>
          <a:ext cx="8459640" cy="25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845964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Dinaminio masyvo plėt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4360" y="1341360"/>
          <a:ext cx="803880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803880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Nuorodos ir kopijavimo konstruktoriu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uorod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4360" y="1341360"/>
          <a:ext cx="5873760" cy="371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873760" cy="37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uorodos funkcijų parametruos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4360" y="1341360"/>
          <a:ext cx="5599080" cy="45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59908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nstantinės nuorod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4360" y="1341360"/>
          <a:ext cx="252540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252540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uorodos į rodyklę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ai norime keisti ne objektą, o pačios rodyklės reikšmę funkcijoj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42920" y="2349360"/>
          <a:ext cx="1760760" cy="2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349360"/>
                    <a:ext cx="1760760" cy="2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971640" y="2708280"/>
          <a:ext cx="169056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2708280"/>
                    <a:ext cx="16905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971640" y="3789360"/>
          <a:ext cx="4205160" cy="250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3789360"/>
                    <a:ext cx="420516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Kopijavimo konstruktoriu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3-04T14:09:33Z</dcterms:modified>
  <cp:revision>37</cp:revision>
  <dc:subject/>
  <dc:title>PowerPoint Presentation</dc:title>
</cp:coreProperties>
</file>