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CA9C-AF29-46A0-8369-93F5A62AB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0477-C381-49F5-8B9B-D365CA8B3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4818-0360-4F1E-82A4-4C28A5241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39C9-6202-4BE8-8069-CF5673E95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C63D-BEB4-4294-BB0C-E158E3A87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4158-334B-4058-BCD2-EBBB1736B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5C25-BCF7-4BD2-A8C4-7C34DA69C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8256-48F1-402D-8F25-C4F3D8BEE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100E-EA5E-4726-B1DD-C4584B3CB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36F2-1013-46AE-AC8C-0CD0869D6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BD7A-FF87-4CF3-BDD8-A5349D3D4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8EF6-66D5-46BE-82E6-974BF3537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DD49-0345-4333-8606-7BAE6D6F3E76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25365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36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4360" y="1989000"/>
          <a:ext cx="2319120" cy="10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89000"/>
                    <a:ext cx="231912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84360" y="3284640"/>
          <a:ext cx="533700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284640"/>
                    <a:ext cx="5337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43640" y="5013360"/>
          <a:ext cx="2403360" cy="15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5013360"/>
                    <a:ext cx="2403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 į konstruktorių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orint išvengti konstruktoriuje kopijavimo pabičiui, reikia apibrėžti konstruktorių su byref paramet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0"/>
          <a:ext cx="5484960" cy="70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548496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341360"/>
          <a:ext cx="5413320" cy="16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41332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84360" y="5157720"/>
          <a:ext cx="41526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157720"/>
                    <a:ext cx="41526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1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989000"/>
          <a:ext cx="84596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4596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o masyvo plėt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341360"/>
          <a:ext cx="80388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8038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Nuorodos ir 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341360"/>
          <a:ext cx="5873760" cy="37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873760" cy="37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funkcijų parametruos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341360"/>
          <a:ext cx="55990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990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nstantinės 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341360"/>
          <a:ext cx="252540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2540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į rodyklę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norime keisti ne objektą, o pačios rodyklės reikšmę funkcijo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42920" y="2349360"/>
          <a:ext cx="176076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76076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71640" y="2708280"/>
          <a:ext cx="16905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708280"/>
                    <a:ext cx="1690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71640" y="3789360"/>
          <a:ext cx="4205160" cy="250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789360"/>
                    <a:ext cx="42051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3-04T14:09:33Z</dcterms:modified>
  <cp:revision>37</cp:revision>
  <dc:subject/>
  <dc:title>PowerPoint Presentation</dc:title>
</cp:coreProperties>
</file>