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2F9AD-207A-4847-8A23-A07A5EE295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7F411-DBE0-4B3D-AD55-0D68B77E5F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BC188-1B4D-414D-9871-921DC5358A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34731-B02A-4783-ADDA-A46D84175B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4360" y="29160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4DF6F-45CB-4E12-9CCA-5FA8637478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EEBCC-CCC0-4D1E-9123-78DDA96E51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31A81-D7D3-4167-98EE-427D3DDC25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3D0D2-F9E2-40E0-A798-A03C0268F5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4360" y="29160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FCB90-7729-4F13-9282-C898778CF4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F61FA-442B-4300-A434-25E279F3C3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CEA69-C77F-495E-A4CF-C041F68C8C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E3223-8281-4610-96C7-702F4351F6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-3240" y="6200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3240" y="621828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-3240" y="623556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-3240" y="6254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066680"/>
            <a:ext cx="9144000" cy="228600"/>
          </a:xfrm>
          <a:prstGeom prst="rect">
            <a:avLst/>
          </a:prstGeom>
          <a:solidFill>
            <a:srgbClr val="d7d7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00" rIns="72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8457840" y="6248160"/>
            <a:ext cx="68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7d7c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1624C-4061-4EB7-86BB-F16D3FBEA7E6}" type="slidenum">
              <a:rPr b="0" lang="en-US" sz="1400" spc="-1" strike="noStrike">
                <a:solidFill>
                  <a:srgbClr val="d7d7ce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45" name=""/>
          <p:cNvSpPr/>
          <p:nvPr/>
        </p:nvSpPr>
        <p:spPr>
          <a:xfrm>
            <a:off x="-3240" y="6200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3240" y="621828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3240" y="623556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-3240" y="6254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523880"/>
            <a:ext cx="9144000" cy="228600"/>
          </a:xfrm>
          <a:prstGeom prst="rect">
            <a:avLst/>
          </a:prstGeom>
          <a:solidFill>
            <a:srgbClr val="d7d7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lvl="1" marL="457200" indent="0"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lnSpc>
                <a:spcPct val="110000"/>
              </a:lnSpc>
              <a:spcBef>
                <a:spcPts val="400"/>
              </a:spcBef>
              <a:buClr>
                <a:srgbClr val="c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lnSpc>
                <a:spcPct val="110000"/>
              </a:lnSpc>
              <a:spcBef>
                <a:spcPts val="400"/>
              </a:spcBef>
              <a:buClr>
                <a:srgbClr val="c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Objektinis programavimas C++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404040"/>
                </a:solidFill>
                <a:latin typeface="Verdana"/>
              </a:rPr>
              <a:t>Dinaminis objektų kūrimas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Kompozicija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84360" y="1341360"/>
          <a:ext cx="4433760" cy="293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4433760" cy="29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Kompozicija (2)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4360" y="1341360"/>
          <a:ext cx="514332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514332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Kompozicija (3)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684360" y="1341360"/>
          <a:ext cx="4638600" cy="391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4638600" cy="39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Paveldėjima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684360" y="1333440"/>
          <a:ext cx="4429080" cy="552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33440"/>
                    <a:ext cx="4429080" cy="552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Vidinių objektų inicializavima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684360" y="1341360"/>
          <a:ext cx="4592520" cy="21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4592520" cy="2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684360" y="2276640"/>
          <a:ext cx="5748120" cy="204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2276640"/>
                    <a:ext cx="5748120" cy="20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684360" y="2997360"/>
          <a:ext cx="5599080" cy="3130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4360" y="2997360"/>
                    <a:ext cx="5599080" cy="31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Inicializavimo tvarka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Ta tvarka kaip deklaruota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755640" y="1916280"/>
          <a:ext cx="3737160" cy="61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916280"/>
                    <a:ext cx="3737160" cy="61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826920" y="2708280"/>
          <a:ext cx="3964320" cy="60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6920" y="2708280"/>
                    <a:ext cx="396432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971640" y="3645000"/>
          <a:ext cx="2444760" cy="294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71640" y="3645000"/>
                    <a:ext cx="2444760" cy="29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Namų darbai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Perskaityti TICPP 13 ir 14 skyri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Objekto kūrima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Kai kuriamas objekta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1. Išskiriama atmint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Statinėje atmintyj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Stek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Dinaminėje atmintyje (</a:t>
            </a:r>
            <a:r>
              <a:rPr b="0" i="1" lang="lt-LT" sz="2000" spc="-1" strike="noStrike">
                <a:solidFill>
                  <a:srgbClr val="000000"/>
                </a:solidFill>
                <a:latin typeface="Verdana"/>
              </a:rPr>
              <a:t>heap</a:t>
            </a: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2. Kviečiamas konstruktori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Dinaminis sukūrima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Be konstruktoriaus reikėtų daryti taip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Tačiau galim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971640" y="1989000"/>
          <a:ext cx="4376520" cy="30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989000"/>
                    <a:ext cx="4376520" cy="3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920880" y="2421000"/>
          <a:ext cx="2251080" cy="331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0880" y="2421000"/>
                    <a:ext cx="2251080" cy="33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971640" y="4581360"/>
          <a:ext cx="3459240" cy="298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71640" y="4581360"/>
                    <a:ext cx="3459240" cy="2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Atlaisvinima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Dinaminėje atmintyje sukurtą objektą atlaisvinam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lt-LT" sz="1600" spc="-1" strike="noStrike">
                <a:solidFill>
                  <a:srgbClr val="3333cc"/>
                </a:solidFill>
                <a:latin typeface="Courier New"/>
              </a:rPr>
              <a:t>delete</a:t>
            </a:r>
            <a:r>
              <a:rPr b="1" lang="lt-LT" sz="1600" spc="-1" strike="noStrike">
                <a:solidFill>
                  <a:srgbClr val="000000"/>
                </a:solidFill>
                <a:latin typeface="Courier New"/>
              </a:rPr>
              <a:t> fp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Pavyzdy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84360" y="1341360"/>
          <a:ext cx="5564160" cy="483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5564160" cy="48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Dinaminių objektų masyvai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755640" y="1557360"/>
          <a:ext cx="3405240" cy="26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557360"/>
                    <a:ext cx="3405240" cy="2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804960" y="2205000"/>
          <a:ext cx="2936880" cy="228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04960" y="2205000"/>
                    <a:ext cx="293688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755640" y="3068640"/>
          <a:ext cx="4341960" cy="479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5640" y="3068640"/>
                    <a:ext cx="434196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755640" y="4149720"/>
          <a:ext cx="1496880" cy="274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5640" y="4149720"/>
                    <a:ext cx="1496880" cy="2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755640" y="4508640"/>
          <a:ext cx="1851120" cy="250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5640" y="4508640"/>
                    <a:ext cx="1851120" cy="25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Pagražinimas const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Neleidžiame keisti 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</a:rPr>
              <a:t>q</a:t>
            </a: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 reikšmės (bet ne 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</a:rPr>
              <a:t>*q</a:t>
            </a: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!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84360" y="2133720"/>
          <a:ext cx="2695320" cy="24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133720"/>
                    <a:ext cx="2695320" cy="2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out_of_memory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84360" y="1341360"/>
          <a:ext cx="5933880" cy="491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5933880" cy="491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Objektinis programavimas C++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404040"/>
                </a:solidFill>
                <a:latin typeface="Verdana"/>
              </a:rPr>
              <a:t>Kompozicija ir paveldėjimas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0T20:44:31Z</dcterms:created>
  <dc:creator>Andrius Adamonis</dc:creator>
  <dc:description/>
  <dc:language>en-US</dc:language>
  <cp:lastModifiedBy>Andrius Adamonis</cp:lastModifiedBy>
  <dcterms:modified xsi:type="dcterms:W3CDTF">2005-02-25T14:03:44Z</dcterms:modified>
  <cp:revision>34</cp:revision>
  <dc:subject/>
  <dc:title>PowerPoint Presentation</dc:title>
</cp:coreProperties>
</file>