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7291-86B3-44A2-90D3-0F64F9C536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Tačiau daug griežtesnis tipų tikrinimas nei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C++ enum nėra sutapatinamas su int, todė negalima rašyti shape++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Masyvo pirmo elemento adresas yra tas pats kaip masyvo adres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Negalima perduoti masyvo pagal reikšmę – visada perduodamas pirmo elemento ad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Galima lygiai taip pat naudoti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Tačiau + ir – operatoriai leidžia prie rodyklės pridėti tik sveiką skaičių (ir neleidžia kitos rodyklė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1D5E-4098-43EB-8865-25433DFD6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AF22-6C0F-4A97-BAAF-43080DD89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7139-952D-4E8E-9EA8-3B34FD7B8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1DC4-6FBA-44B2-A5DE-7BE3B461A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D6EE-14C8-4C5E-8A06-1065B0B6A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6EF1-9562-444D-88B9-AA04B18DA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BAE9-9E23-4DD4-BB0D-4E42C24A6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D78A-9796-400C-AC84-E02149EBB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B67A-27E8-4AC7-964C-708983A0C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E221-EF79-402C-AF13-A79EC0836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E19E-24EE-4423-9F3D-6B8639FAA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5107-24CB-47D1-B1B0-22D658AE9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B8DD-C7D4-4997-8BC2-38C705A07DC5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C++ pagrind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unkcijų masyv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919320" cy="571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460980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lasės ir objekt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(turinys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lasės Point apibrėžimo pavyzdys (struct ir clas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Matomumas su private,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onstruktorius, destruktori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Suskaidymas į hpp ir cpp failus, #ifdef apskliaudi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iki 6 skyriaus (imtina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enum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5472000" cy="4149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5805360"/>
            <a:ext cx="367164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union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530600" cy="2054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0200" y="3381480"/>
            <a:ext cx="44402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479840" cy="205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474012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syvai ir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925720" cy="2427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4360" y="3700440"/>
            <a:ext cx="4095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dresų aritmeti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530520" cy="2979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4360" y="5229360"/>
            <a:ext cx="12841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dresų aritmeti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53052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2234880" cy="6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unkcijų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1803240" cy="238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1672920" cy="28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84360" y="2781360"/>
          <a:ext cx="1342800" cy="19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781360"/>
                    <a:ext cx="134280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udėtingos išraišk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1 yra rodyklė į funkciją, kuri turi vieną int parametrą ir grąžina rodyklę į 10 void* masyv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325680" cy="25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4476600" cy="287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4592520" cy="517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84360" y="5661000"/>
            <a:ext cx="2749320" cy="273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2924280"/>
            <a:ext cx="77724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2 yra rodyklė į funkciją, kuri turi 3 parametrus ir grąžina rodyklę į funkciją, kuri turi int parametrą ir grąžina 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" y="4508640"/>
            <a:ext cx="77724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3 yra rodyklė į funkciją, kuri neturi parametrų ir grąžina rodyklę į 10 elementų masyvą rodyklių į funkcijas be parametrų ir grąžinančių 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587700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4 yra funkcija, kuri grąžina rodyklę į 10 elementų masyvą rodyklių į funkcijų, grąžinančių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21T11:40:50Z</dcterms:modified>
  <cp:revision>33</cp:revision>
  <dc:subject/>
  <dc:title>PowerPoint Presentation</dc:title>
</cp:coreProperties>
</file>