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wmf" ContentType="image/x-wmf"/>
  <Override PartName="/ppt/media/image5.wmf" ContentType="image/x-wmf"/>
  <Override PartName="/ppt/media/image6.png" ContentType="image/png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827A-7F7D-4B90-BD41-C22F475E9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8255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55240" y="3902040"/>
            <a:ext cx="8255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FAE3-3E03-431B-ABDC-B65C06A8F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402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385600" y="1752480"/>
            <a:ext cx="402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55240" y="3902040"/>
            <a:ext cx="402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385600" y="3902040"/>
            <a:ext cx="402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033A-8FA4-4F3C-BC98-A1FD9D126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265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946320" y="1752480"/>
            <a:ext cx="265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737400" y="1752480"/>
            <a:ext cx="265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55240" y="3902040"/>
            <a:ext cx="265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946320" y="3902040"/>
            <a:ext cx="265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737400" y="3902040"/>
            <a:ext cx="265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1925-A4B9-49B6-ABEC-9EA6EC019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C63D2-5D88-4F5E-B776-F22B62A57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155240" y="1752480"/>
            <a:ext cx="8255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65F17-4B67-40FD-92AB-79A864424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825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697F0-E6B2-45F9-BD6A-D5F22B2C0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4028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385600" y="1752480"/>
            <a:ext cx="4028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72B4B-7C24-4B5B-AE10-9612E69AA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5BC7D-5C92-4044-906D-ADEA914CF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55240" y="380520"/>
            <a:ext cx="8255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BE139-2469-44A3-BC37-1A3E9DF52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402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85600" y="1752480"/>
            <a:ext cx="4028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155240" y="3902040"/>
            <a:ext cx="402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02729-6C46-4607-B08D-10FCAD1AA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55240" y="1752480"/>
            <a:ext cx="8255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BDA7-62A9-47FA-8BD6-CDBAB6768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4028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85600" y="1752480"/>
            <a:ext cx="402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85600" y="3902040"/>
            <a:ext cx="402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27773-8060-4835-9003-F429BFE26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402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385600" y="1752480"/>
            <a:ext cx="402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55240" y="3902040"/>
            <a:ext cx="8255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5ED07-7D41-48D1-B8E4-0E5EE8E5D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8255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155240" y="3902040"/>
            <a:ext cx="8255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53091-A17F-4ECE-85BE-A4C4E1BFE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402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385600" y="1752480"/>
            <a:ext cx="402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155240" y="3902040"/>
            <a:ext cx="402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385600" y="3902040"/>
            <a:ext cx="402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CE6EB-5C52-412B-840C-57685E805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265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946320" y="1752480"/>
            <a:ext cx="265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737400" y="1752480"/>
            <a:ext cx="265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155240" y="3902040"/>
            <a:ext cx="265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946320" y="3902040"/>
            <a:ext cx="265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737400" y="3902040"/>
            <a:ext cx="265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A7061-FB83-4983-92B0-25021DABA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825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3D2F-7FB8-4F76-8348-B66E17BCE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4028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385600" y="1752480"/>
            <a:ext cx="4028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1B53-2CF2-4ACE-AF79-2F4FA1DF4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04F7-14BD-4846-B851-1FEFC68A0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55240" y="380520"/>
            <a:ext cx="8255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F791-3BC5-47ED-8542-B164E7ACE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402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85600" y="1752480"/>
            <a:ext cx="4028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55240" y="3902040"/>
            <a:ext cx="402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CE2A-D0F2-4861-A9F5-1904E8FA2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4028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85600" y="1752480"/>
            <a:ext cx="402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85600" y="3902040"/>
            <a:ext cx="402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EA74-7838-4FCC-B616-A4C7DC003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402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85600" y="1752480"/>
            <a:ext cx="402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55240" y="3902040"/>
            <a:ext cx="8255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2E44-735C-482A-BBD8-16D153D38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0240" y="228600"/>
            <a:ext cx="892656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100160" y="1600200"/>
            <a:ext cx="831060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minispir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27944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minispir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27944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155240" y="1752480"/>
            <a:ext cx="825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98720" y="610704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740040" y="6107040"/>
            <a:ext cx="3137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454520" y="610704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4DDC4-2B71-4F71-8482-16BEB4EA39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73120" y="201600"/>
            <a:ext cx="909792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minispir" descr=""/>
          <p:cNvPicPr/>
          <p:nvPr/>
        </p:nvPicPr>
        <p:blipFill>
          <a:blip r:embed="rId3"/>
          <a:stretch/>
        </p:blipFill>
        <p:spPr>
          <a:xfrm>
            <a:off x="0" y="50760"/>
            <a:ext cx="127944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646200" y="4130640"/>
            <a:ext cx="11286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minispir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27944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720" y="2057040"/>
            <a:ext cx="8364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174320" y="609588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816360" y="6095880"/>
            <a:ext cx="3137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531200" y="609588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C9461-5DB6-474F-8908-781AFE7053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360" y="1371600"/>
            <a:ext cx="84200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lt-LT" sz="4000" spc="-1" strike="noStrike">
                <a:solidFill>
                  <a:srgbClr val="221304"/>
                </a:solidFill>
                <a:latin typeface="Times New Roman"/>
              </a:rPr>
              <a:t>DUOMENŲ BAZĖS IR  INFORMACIJOS SISTEMOS</a:t>
            </a:r>
            <a:br>
              <a:rPr sz="4000"/>
            </a:br>
            <a:br>
              <a:rPr sz="4000"/>
            </a:br>
            <a:r>
              <a:rPr b="0" lang="en-US" sz="2800" spc="-1" strike="noStrike">
                <a:solidFill>
                  <a:srgbClr val="221304"/>
                </a:solidFill>
                <a:latin typeface="Times New Roman"/>
              </a:rPr>
              <a:t> 2 </a:t>
            </a:r>
            <a:r>
              <a:rPr b="0" lang="lt-LT" sz="2800" spc="-1" strike="noStrike">
                <a:solidFill>
                  <a:srgbClr val="221304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221304"/>
                </a:solidFill>
                <a:latin typeface="Times New Roman"/>
              </a:rPr>
              <a:t>askaita</a:t>
            </a:r>
            <a:r>
              <a:rPr b="0" lang="lt-LT" sz="2800" spc="-1" strike="noStrike">
                <a:solidFill>
                  <a:srgbClr val="221304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lt-LT" sz="2800" spc="-1" strike="noStrike">
                <a:solidFill>
                  <a:srgbClr val="221304"/>
                </a:solidFill>
                <a:latin typeface="Times New Roman"/>
              </a:rPr>
              <a:t>Informacijos sistemos gyvavimo ciklas</a:t>
            </a:r>
            <a:br>
              <a:rPr sz="2800"/>
            </a:br>
            <a:r>
              <a:rPr b="0" lang="lt-LT" sz="2800" spc="-1" strike="noStrike">
                <a:solidFill>
                  <a:srgbClr val="221304"/>
                </a:solidFill>
                <a:latin typeface="Times New Roman"/>
              </a:rPr>
              <a:t>Organizacijos i</a:t>
            </a:r>
            <a:r>
              <a:rPr b="0" lang="en-US" sz="2800" spc="-1" strike="noStrike">
                <a:solidFill>
                  <a:srgbClr val="221304"/>
                </a:solidFill>
                <a:latin typeface="Times New Roman"/>
              </a:rPr>
              <a:t>nformacin</a:t>
            </a:r>
            <a:r>
              <a:rPr b="0" lang="lt-LT" sz="2800" spc="-1" strike="noStrike">
                <a:solidFill>
                  <a:srgbClr val="221304"/>
                </a:solidFill>
                <a:latin typeface="Times New Roman"/>
              </a:rPr>
              <a:t>ė</a:t>
            </a:r>
            <a:r>
              <a:rPr b="0" lang="en-US" sz="2800" spc="-1" strike="noStrike">
                <a:solidFill>
                  <a:srgbClr val="221304"/>
                </a:solidFill>
                <a:latin typeface="Times New Roman"/>
              </a:rPr>
              <a:t> architekt</a:t>
            </a:r>
            <a:r>
              <a:rPr b="0" lang="lt-LT" sz="2800" spc="-1" strike="noStrike">
                <a:solidFill>
                  <a:srgbClr val="221304"/>
                </a:solidFill>
                <a:latin typeface="Times New Roman"/>
              </a:rPr>
              <a:t>ū</a:t>
            </a:r>
            <a:r>
              <a:rPr b="0" lang="en-US" sz="2800" spc="-1" strike="noStrike">
                <a:solidFill>
                  <a:srgbClr val="221304"/>
                </a:solidFill>
                <a:latin typeface="Times New Roman"/>
              </a:rPr>
              <a:t>ra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760400" y="5040000"/>
            <a:ext cx="6934320" cy="61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Doc. S. Gud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•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udėtingas palaikymas -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nuolat besikeičiantį produktą daug sunkiau aptarnauti;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825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•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udėtingesnis programavimo proceso valdymas 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sunkiau suvaldyti nuolat besikeičiančius testavimo planus, projektų dokumentus ir t.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 S. Gudas  DB ir I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BAF1-AFDC-431E-BE39-A1BFE4204FF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221304"/>
                </a:solidFill>
                <a:latin typeface="Times New Roman"/>
              </a:rPr>
              <a:t>“</a:t>
            </a:r>
            <a:r>
              <a:rPr b="0" lang="lt-LT" sz="3600" spc="-1" strike="noStrike">
                <a:solidFill>
                  <a:srgbClr val="221304"/>
                </a:solidFill>
                <a:latin typeface="Times New Roman"/>
              </a:rPr>
              <a:t>Fontano” tipo IS GC modelis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137040" y="1542960"/>
            <a:ext cx="9905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2438280" y="914400"/>
            <a:ext cx="5118120" cy="5315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 S. Gudas  DB ir IS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B10E-C484-44E4-BD7E-4B3B3F80A03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221304"/>
                </a:solidFill>
                <a:latin typeface="Times New Roman"/>
              </a:rPr>
              <a:t>Organizacijos informacinė architektūra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825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rmacinė architektūra – pagrindinis organizacijos IT planavimo įranki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ekvienoje organizacijoje yra keletas įvairios paskirties IS, kurios kompiuterizuoja atskiras veiklos sriti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ai aišku, kad reikalingas vieningas IS planavimo būdas, kuris išspręstų IS kūrimo ir pl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ė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os problema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rmacinės architektūros paskirti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kad kiekvienas veiklos dalyvis – vadybininkas, gamybininkas ar informatikas, IS skyriaus specialistas - turėtų tokį patį supratimą apie veiklą (veiklos modelį savo galvoje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 S. Gudas  DB ir I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8963-5A3F-443A-90FB-CBB784DE3D2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Informacinės architektūros sudėtis</a:t>
            </a:r>
            <a:r>
              <a:rPr b="0" lang="en-GB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825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ra keletas skirtingų informacinės architektūros sudėties apibūdinimų (modelių).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eikiamas vienas iš labiau paplitusių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formacinė architektūra susideda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š tokių sluoksnių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      Pagrindas yra organizacijos IT infrastruktūra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konkreti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chninė įranga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r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inė įranga,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žtikrinanti paskirstytus duomenų šaltinius, būtinus organizacijos veiklai;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      Centralizuota informacinės architektūros dali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      Decentralizuota IA dalis - funkcinės IS, kitos I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 S. Gudas  DB ir I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08B5-1D9E-4C83-8E59-D7C414C3034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221304"/>
                </a:solidFill>
                <a:latin typeface="Times New Roman"/>
              </a:rPr>
              <a:t>Organizacijos informacinė architektūra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563920" y="1995480"/>
            <a:ext cx="9905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838080" y="838080"/>
          <a:ext cx="8232840" cy="534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838080"/>
                    <a:ext cx="8232840" cy="534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 S. Gudas  DB ir IS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765E-F049-4E78-8FC9-A7FC93496DD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221304"/>
                </a:solidFill>
                <a:latin typeface="Times New Roman"/>
              </a:rPr>
              <a:t>Informacinės architektūros pagrindinės dalys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825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1.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entralizuota IA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</a:rPr>
              <a:t> dalis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.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biznio architekt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ū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ra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, kuri nulemia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organizacijos informacini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u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poreiki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u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b.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Duomen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ų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rchitekt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ū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ra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.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omunikacij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ų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architekt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ū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 S. Gudas  DB ir I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C33F-A947-4579-B066-ED19A56AD34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221304"/>
                </a:solidFill>
                <a:latin typeface="Times New Roman"/>
              </a:rPr>
              <a:t>Informacinės architektūros pagrindinės dalys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825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entralizuota I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apima organizacijos veiklos funkcijų IS (funkcines IS) ir paslaugų IS (kompiuterizuotos darbo vietos individualiems skaičiavimams, E-mail ir kt.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kcinės I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siskirsto organizacinio valdymo (vadybos) hierarchijos lygiais: strateginės IS, vadybos IS, žinių IS, operatyvaus valdymo IS (skirstomos pagal funkcijas į finansų valdymo IS, gamybos valdymo IS, apskaitos IS, personalo vadybos IS ir kitos)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albinės I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aštinės IS ir komunikavimo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 S. Gudas  DB ir I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8139-14E3-44DA-B64E-277DD8572EF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Organizacijos informacinė infrastruktūra</a:t>
            </a:r>
            <a:r>
              <a:rPr b="0" lang="lt-LT" sz="44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825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ima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techninius įrenginiu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laugas 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dymo personalą, kuris aptarnauja organizacijos techninę įrangą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 S. Gudas  DB ir I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FE08-FF4F-4DCB-A774-2028D9849E9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Organizacijos informacinė infrastruktūra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825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rmacinė infrastruktūra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sideda iš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ompiuterinės techninės įrangos ir jų programinė įrang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Bendros paskirties programinės įrang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Duomenų perdavimo ir saugojim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technologinės priemonė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- duomenų bazių valdymo sistemų (DBM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ompiuterinių tinklų ir komunikacinių įrengimų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Informacijos vadybos personalo (IS skyriaus personala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 S. Gudas  DB ir I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9825-27BC-4377-B25D-18E752EED66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221304"/>
                </a:solidFill>
                <a:latin typeface="Times New Roman"/>
              </a:rPr>
              <a:t>Informacinės architektūros dalys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95480" y="21718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img024IA" descr=""/>
          <p:cNvPicPr/>
          <p:nvPr/>
        </p:nvPicPr>
        <p:blipFill>
          <a:blip r:embed="rId1"/>
          <a:stretch/>
        </p:blipFill>
        <p:spPr>
          <a:xfrm>
            <a:off x="1219320" y="1752480"/>
            <a:ext cx="8001000" cy="4343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 S. Gudas  DB ir IS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B621-CB89-4298-B53F-C2678212F6F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SISTEMOS GYVAVIMO CIKLAS</a:t>
            </a:r>
            <a:br>
              <a:rPr sz="3600"/>
            </a:b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825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Įvedame svarbią sąvoką – sistemos gyvavimo ciklas (system life cycle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Gyvavimo ciklas –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inžinerijo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metodologijos realizavimo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proceso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modeli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Kiekviena iš metodologijų reikalauja atitinkamo gyvavimo ciklo, kuris efektyviai realizuoja metodologijos galimyb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Be to, gyvavimo ciklo parinkimas susijęs su turimos programinės įrangos galimybėmi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 S. Gudas  DB ir I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450E-00E7-4D75-BB86-646AAC544ED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221304"/>
                </a:solidFill>
                <a:latin typeface="Times New Roman"/>
              </a:rPr>
              <a:t>Funkcinės IS ir inf. architektūra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081080" y="1828800"/>
            <a:ext cx="8150400" cy="3960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 S. Gudas  DB ir IS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E9E2-FB20-496E-AB12-3323A577969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"/>
          <p:cNvGrpSpPr/>
          <p:nvPr/>
        </p:nvGrpSpPr>
        <p:grpSpPr>
          <a:xfrm>
            <a:off x="1442880" y="304920"/>
            <a:ext cx="7772400" cy="5665680"/>
            <a:chOff x="1442880" y="304920"/>
            <a:chExt cx="7772400" cy="5665680"/>
          </a:xfrm>
        </p:grpSpPr>
        <p:sp>
          <p:nvSpPr>
            <p:cNvPr id="196" name=""/>
            <p:cNvSpPr/>
            <p:nvPr/>
          </p:nvSpPr>
          <p:spPr>
            <a:xfrm>
              <a:off x="1598040" y="307800"/>
              <a:ext cx="1020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000000"/>
                  </a:solidFill>
                  <a:latin typeface="Times New Roman"/>
                </a:rPr>
                <a:t>Organizacijos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963800" y="496800"/>
              <a:ext cx="128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000000"/>
                  </a:solidFill>
                  <a:latin typeface="Times New Roman"/>
                </a:rPr>
                <a:t>ly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108160" y="496800"/>
              <a:ext cx="192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000000"/>
                  </a:solidFill>
                  <a:latin typeface="Times New Roman"/>
                </a:rPr>
                <a:t>gi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363400" y="49680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982240" y="307800"/>
              <a:ext cx="10659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000000"/>
                  </a:solidFill>
                  <a:latin typeface="Times New Roman"/>
                </a:rPr>
                <a:t>Tarnaujančios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287880" y="496800"/>
              <a:ext cx="4762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000000"/>
                  </a:solidFill>
                  <a:latin typeface="Times New Roman"/>
                </a:rPr>
                <a:t>grupė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854160" y="49680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592080" y="68436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742640" y="307800"/>
              <a:ext cx="517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000000"/>
                  </a:solidFill>
                  <a:latin typeface="Times New Roman"/>
                </a:rPr>
                <a:t>IS tipa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360760" y="30780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073120" y="49680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648120" y="307800"/>
              <a:ext cx="796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000000"/>
                  </a:solidFill>
                  <a:latin typeface="Times New Roman"/>
                </a:rPr>
                <a:t>Informacin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568640" y="307800"/>
              <a:ext cx="738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</a:rPr>
                <a:t>ė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607160" y="307800"/>
              <a:ext cx="691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000000"/>
                  </a:solidFill>
                  <a:latin typeface="Times New Roman"/>
                </a:rPr>
                <a:t>s sistemo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410320" y="30780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549920" y="49680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442880" y="304920"/>
              <a:ext cx="97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442880" y="304920"/>
              <a:ext cx="97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452600" y="304920"/>
              <a:ext cx="13795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832120" y="304920"/>
              <a:ext cx="93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841480" y="304920"/>
              <a:ext cx="14115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253040" y="304920"/>
              <a:ext cx="7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260960" y="304920"/>
              <a:ext cx="15429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803920" y="304920"/>
              <a:ext cx="7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811840" y="304920"/>
              <a:ext cx="33955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9207360" y="304920"/>
              <a:ext cx="7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9207360" y="304920"/>
              <a:ext cx="7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442880" y="312840"/>
              <a:ext cx="9720" cy="56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832120" y="312840"/>
              <a:ext cx="9360" cy="56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253040" y="312840"/>
              <a:ext cx="7920" cy="56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803920" y="312840"/>
              <a:ext cx="7920" cy="56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9207360" y="312840"/>
              <a:ext cx="7920" cy="56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548720" y="879480"/>
              <a:ext cx="10659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Strateginis lygi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781720" y="87948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587960" y="106668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937600" y="879480"/>
              <a:ext cx="7732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Vyriausieji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937240" y="1066680"/>
              <a:ext cx="805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menedžeria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881880" y="106668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977200" y="125424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356360" y="882720"/>
              <a:ext cx="605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1500" spc="-1" strike="noStrike">
                  <a:solidFill>
                    <a:srgbClr val="000000"/>
                  </a:solidFill>
                  <a:latin typeface="Times New Roman"/>
                </a:rPr>
                <a:t>Vadovo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357440" y="1106640"/>
              <a:ext cx="218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1500" spc="-1" strike="noStrike">
                  <a:solidFill>
                    <a:srgbClr val="000000"/>
                  </a:solidFill>
                  <a:latin typeface="Times New Roman"/>
                </a:rPr>
                <a:t>IS</a:t>
              </a:r>
              <a:r>
                <a:rPr b="0" lang="en-GB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357080" y="1332000"/>
              <a:ext cx="505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(ESS)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732280" y="133200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397760" y="155088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962680" y="879480"/>
              <a:ext cx="37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5 m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361560" y="879480"/>
              <a:ext cx="8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ų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413400" y="879480"/>
              <a:ext cx="23508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pardavimų krypties prognozavimo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951880" y="1066680"/>
              <a:ext cx="192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IS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158520" y="106668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945760" y="1254240"/>
              <a:ext cx="8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035760" y="1254240"/>
              <a:ext cx="55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059520" y="1254240"/>
              <a:ext cx="2117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metų operacinio planavimo IS ;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469720" y="125424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945760" y="1441440"/>
              <a:ext cx="8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035760" y="1441440"/>
              <a:ext cx="55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059160" y="1441440"/>
              <a:ext cx="22593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metų biudžetas prognozavimo IS;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8617320" y="144144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904000" y="1625760"/>
              <a:ext cx="165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P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085080" y="1625760"/>
              <a:ext cx="1180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lno planavimo IS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447320" y="162576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442880" y="874800"/>
              <a:ext cx="97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52600" y="874800"/>
              <a:ext cx="13795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832120" y="874800"/>
              <a:ext cx="93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841480" y="874800"/>
              <a:ext cx="14115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253040" y="874800"/>
              <a:ext cx="7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260960" y="874800"/>
              <a:ext cx="15429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803920" y="874800"/>
              <a:ext cx="7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811840" y="874800"/>
              <a:ext cx="33955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9207360" y="874800"/>
              <a:ext cx="7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442880" y="882720"/>
              <a:ext cx="9720" cy="934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832120" y="882720"/>
              <a:ext cx="9360" cy="934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253040" y="882720"/>
              <a:ext cx="7920" cy="934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803920" y="882720"/>
              <a:ext cx="7920" cy="934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9207360" y="882720"/>
              <a:ext cx="7920" cy="934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548360" y="1820880"/>
              <a:ext cx="974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Valdymo lygi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659680" y="182088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587960" y="200808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938320" y="1820880"/>
              <a:ext cx="10522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Vidutinio lygio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937240" y="2008080"/>
              <a:ext cx="805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menedžeria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881880" y="200808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977200" y="219564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358160" y="1820880"/>
              <a:ext cx="654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Valdymo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358520" y="2008080"/>
              <a:ext cx="901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informacinės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358880" y="2195640"/>
              <a:ext cx="10980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sistemos (MIS);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617080" y="219564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397760" y="238284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445640" y="238284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358880" y="2571840"/>
              <a:ext cx="723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Sprendimų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09920" y="2571840"/>
              <a:ext cx="55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358160" y="2759040"/>
              <a:ext cx="7369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palaikymo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358880" y="2946240"/>
              <a:ext cx="10659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sistemos (DSS)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577480" y="294624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908320" y="1820880"/>
              <a:ext cx="2707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Pardavimų valdymo IS; Inventorizacijos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907600" y="2008080"/>
              <a:ext cx="24832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controlės IS; kasmetinio biudžeto IS;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906160" y="2195640"/>
              <a:ext cx="21038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kapitalo investicijų analizės IS;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8303040" y="219564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943960" y="238284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951880" y="2382840"/>
              <a:ext cx="302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Par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295320" y="2382840"/>
              <a:ext cx="2428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avimų regiono anaizės IS; Gamybos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906520" y="2571840"/>
              <a:ext cx="21999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planavimo IS; Kaštų analizės IS;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417520" y="257184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424720" y="2571840"/>
              <a:ext cx="444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Kainų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906880" y="2759040"/>
              <a:ext cx="2794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analizės IS; Kontraktinių kaštų analizės I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9098280" y="275904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442880" y="1817640"/>
              <a:ext cx="972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452600" y="1817640"/>
              <a:ext cx="137952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832120" y="1817640"/>
              <a:ext cx="93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841480" y="1817640"/>
              <a:ext cx="14115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253040" y="1817640"/>
              <a:ext cx="792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260960" y="1817640"/>
              <a:ext cx="15429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803920" y="1817640"/>
              <a:ext cx="792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811840" y="1817640"/>
              <a:ext cx="339552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9207360" y="1817640"/>
              <a:ext cx="792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442880" y="1824120"/>
              <a:ext cx="9720" cy="1312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832120" y="1824120"/>
              <a:ext cx="9360" cy="1312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253040" y="1824120"/>
              <a:ext cx="7920" cy="1312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803920" y="1824120"/>
              <a:ext cx="7920" cy="1312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9207360" y="1824120"/>
              <a:ext cx="7920" cy="1312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548720" y="3141720"/>
              <a:ext cx="718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Žinių lygi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88240" y="314172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937960" y="3141720"/>
              <a:ext cx="942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Dirbantieji su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937240" y="3328920"/>
              <a:ext cx="608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žiniomis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664440" y="332892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982240" y="351648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i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096000" y="351648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980080" y="3703680"/>
              <a:ext cx="8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074040" y="370368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937960" y="3890880"/>
              <a:ext cx="942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Dirbantieji su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937600" y="4079880"/>
              <a:ext cx="814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duomenimi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86560" y="407988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977200" y="426240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977200" y="444960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359240" y="3141720"/>
              <a:ext cx="11163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Žinybinės darbo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358520" y="3328920"/>
              <a:ext cx="1130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sistemos (KWS)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647320" y="332892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359960" y="3516480"/>
              <a:ext cx="1262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Dirbtinio intelekto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359240" y="3703680"/>
              <a:ext cx="974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tinklai (ANN)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494680" y="370368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357800" y="3890880"/>
              <a:ext cx="416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Biuro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358880" y="4079880"/>
              <a:ext cx="1102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automatizavimo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358520" y="4262400"/>
              <a:ext cx="1047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sistemos (OAS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555160" y="426240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907240" y="3141720"/>
              <a:ext cx="2620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Darbo stočių inžinerija; Grafinės darbo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905080" y="3328920"/>
              <a:ext cx="20581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stotys;Valnadčios darbo stotys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8215920" y="332892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906880" y="3516480"/>
              <a:ext cx="2227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Žodžio apdorojimas; Dokumentų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907600" y="3703680"/>
              <a:ext cx="2478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paruošimas; Elektroniniai kalendoria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8739720" y="370368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442880" y="3137040"/>
              <a:ext cx="97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452600" y="3137040"/>
              <a:ext cx="13795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832120" y="3137040"/>
              <a:ext cx="93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841480" y="3137040"/>
              <a:ext cx="14115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253040" y="3137040"/>
              <a:ext cx="7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260960" y="3137040"/>
              <a:ext cx="15429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803920" y="3137040"/>
              <a:ext cx="7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811840" y="3137040"/>
              <a:ext cx="33955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9207360" y="3137040"/>
              <a:ext cx="7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442880" y="3144960"/>
              <a:ext cx="9720" cy="149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832120" y="3144960"/>
              <a:ext cx="9360" cy="149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253040" y="3144960"/>
              <a:ext cx="7920" cy="149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803920" y="3144960"/>
              <a:ext cx="7920" cy="149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9207360" y="3144960"/>
              <a:ext cx="7920" cy="149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548000" y="4645080"/>
              <a:ext cx="1075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Operacinis lygi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781720" y="464508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979360" y="464508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068640" y="4645080"/>
              <a:ext cx="595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ykdanty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759840" y="464508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937240" y="4834080"/>
              <a:ext cx="805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menedžeria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881880" y="483408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977200" y="502128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358520" y="4645080"/>
              <a:ext cx="6271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Sandėrių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358880" y="4834080"/>
              <a:ext cx="8010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apdorojimo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359240" y="5021280"/>
              <a:ext cx="1047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sistemos (TPS)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559840" y="502128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404960" y="5208480"/>
              <a:ext cx="2019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Op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579920" y="5208480"/>
              <a:ext cx="581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eracinės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358880" y="5396040"/>
              <a:ext cx="7916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(funkcinės)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358880" y="5583240"/>
              <a:ext cx="910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Informacinės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357440" y="5770440"/>
              <a:ext cx="567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sistemo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021640" y="577044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909040" y="4645080"/>
              <a:ext cx="26298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Eilės sekimo IS; orderių apdorojimo IS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8876160" y="464508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907960" y="4834080"/>
              <a:ext cx="2840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Mašinų kontrolės IS; Sodinimo planavimo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907240" y="5021280"/>
              <a:ext cx="1966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IS; grynųjų pinigų valdymas;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8141040" y="502128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906880" y="5208480"/>
              <a:ext cx="24559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Atlyginimai, paruošimas &amp; kūrimas;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906520" y="5396040"/>
              <a:ext cx="1788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Tarnautojų įrašų sekimo I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949160" y="539604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442880" y="4641840"/>
              <a:ext cx="97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452600" y="4641840"/>
              <a:ext cx="13795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832120" y="4641840"/>
              <a:ext cx="93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841480" y="4641840"/>
              <a:ext cx="14115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253040" y="4641840"/>
              <a:ext cx="7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260960" y="4641840"/>
              <a:ext cx="15429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803920" y="4641840"/>
              <a:ext cx="7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811840" y="4641840"/>
              <a:ext cx="33955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9207360" y="4641840"/>
              <a:ext cx="7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442880" y="4649760"/>
              <a:ext cx="9720" cy="1312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442880" y="5962680"/>
              <a:ext cx="97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442880" y="5962680"/>
              <a:ext cx="97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6" name=""/>
          <p:cNvSpPr/>
          <p:nvPr/>
        </p:nvSpPr>
        <p:spPr>
          <a:xfrm>
            <a:off x="1452600" y="5962680"/>
            <a:ext cx="13795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832120" y="4649760"/>
            <a:ext cx="9360" cy="1312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832120" y="5962680"/>
            <a:ext cx="93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841480" y="5962680"/>
            <a:ext cx="1411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253040" y="4649760"/>
            <a:ext cx="7920" cy="1312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253040" y="5962680"/>
            <a:ext cx="79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260960" y="5962680"/>
            <a:ext cx="1542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3920" y="4649760"/>
            <a:ext cx="7920" cy="1312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803920" y="5962680"/>
            <a:ext cx="79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811840" y="5962680"/>
            <a:ext cx="33955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9207360" y="4649760"/>
            <a:ext cx="7920" cy="1312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9207360" y="5962680"/>
            <a:ext cx="79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9207360" y="5962680"/>
            <a:ext cx="79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587960" y="5965920"/>
            <a:ext cx="41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 S. Gudas  DB ir IS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612E-4F03-419A-AEEC-D2C183B2D61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221304"/>
                </a:solidFill>
                <a:latin typeface="Times New Roman"/>
              </a:rPr>
              <a:t>Transakcijų IS (</a:t>
            </a:r>
            <a:r>
              <a:rPr b="0" lang="en-US" sz="3200" spc="-1" strike="noStrike">
                <a:solidFill>
                  <a:srgbClr val="221304"/>
                </a:solidFill>
                <a:latin typeface="Times New Roman"/>
              </a:rPr>
              <a:t>TPS</a:t>
            </a:r>
            <a:r>
              <a:rPr b="0" lang="lt-LT" sz="3200" spc="-1" strike="noStrike">
                <a:solidFill>
                  <a:srgbClr val="221304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221304"/>
                </a:solidFill>
                <a:latin typeface="Times New Roman"/>
              </a:rPr>
              <a:t> ir </a:t>
            </a:r>
            <a:r>
              <a:rPr b="0" lang="lt-LT" sz="3200" spc="-1" strike="noStrike">
                <a:solidFill>
                  <a:srgbClr val="221304"/>
                </a:solidFill>
                <a:latin typeface="Times New Roman"/>
              </a:rPr>
              <a:t>valdymo IS (</a:t>
            </a:r>
            <a:r>
              <a:rPr b="0" lang="en-US" sz="3200" spc="-1" strike="noStrike">
                <a:solidFill>
                  <a:srgbClr val="221304"/>
                </a:solidFill>
                <a:latin typeface="Times New Roman"/>
              </a:rPr>
              <a:t>MIS</a:t>
            </a:r>
            <a:r>
              <a:rPr b="0" lang="lt-LT" sz="3200" spc="-1" strike="noStrike">
                <a:solidFill>
                  <a:srgbClr val="221304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155240" y="1447920"/>
            <a:ext cx="82551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PS ir MIS yra skirstomos pagal funkcines sriti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1.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pardavimo ir marketingo TPS (ir MI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2.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gamybos valdymo TPS (ir MI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3.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finansų ir apskaitos TPS (ir MI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4.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personalo valdymo TPS (ir MI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5.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priklausomai nuo pramonės tip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 S. Gudas  DB ir I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DAE8-6296-4225-A43B-83433E104B2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221304"/>
                </a:solidFill>
                <a:latin typeface="Times New Roman"/>
              </a:rPr>
              <a:t>Ž</a:t>
            </a:r>
            <a:r>
              <a:rPr b="1" lang="lt-LT" sz="4400" spc="-1" strike="noStrike">
                <a:solidFill>
                  <a:srgbClr val="221304"/>
                </a:solidFill>
                <a:latin typeface="Times New Roman"/>
                <a:ea typeface="Arial Unicode MS"/>
              </a:rPr>
              <a:t>ini</a:t>
            </a:r>
            <a:r>
              <a:rPr b="1" lang="lt-LT" sz="4400" spc="-1" strike="noStrike">
                <a:solidFill>
                  <a:srgbClr val="221304"/>
                </a:solidFill>
                <a:latin typeface="Times New Roman"/>
              </a:rPr>
              <a:t>ų</a:t>
            </a:r>
            <a:r>
              <a:rPr b="1" lang="lt-LT" sz="4400" spc="-1" strike="noStrike">
                <a:solidFill>
                  <a:srgbClr val="221304"/>
                </a:solidFill>
                <a:latin typeface="Times New Roman"/>
                <a:ea typeface="Arial Unicode MS"/>
              </a:rPr>
              <a:t> IS </a:t>
            </a:r>
            <a:r>
              <a:rPr b="1" lang="lt-LT" sz="4400" spc="-1" strike="noStrike">
                <a:solidFill>
                  <a:srgbClr val="221304"/>
                </a:solidFill>
                <a:latin typeface="Times New Roman"/>
              </a:rPr>
              <a:t>(</a:t>
            </a:r>
            <a:r>
              <a:rPr b="1" lang="lt-LT" sz="4400" spc="-1" strike="noStrike">
                <a:solidFill>
                  <a:srgbClr val="221304"/>
                </a:solidFill>
                <a:latin typeface="Times New Roman"/>
                <a:ea typeface="Arial Unicode MS"/>
              </a:rPr>
              <a:t>KWS</a:t>
            </a:r>
            <a:r>
              <a:rPr b="1" lang="lt-LT" sz="4400" spc="-1" strike="noStrike">
                <a:solidFill>
                  <a:srgbClr val="221304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825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kirtos darbuotojams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</a:rPr>
              <a:t>, tvarkantiems veiklos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žini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</a:rPr>
              <a:t>as (pvz., naujų gaminių ar technologijų projektuotojai)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1.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NN – dirbtiniai neuroniniai tinklai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 - ekspertinė sistem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 S. Gudas  DB ir I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46EF-D720-4C15-AA94-71C1B8D3971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221304"/>
                </a:solidFill>
                <a:latin typeface="Times New Roman"/>
              </a:rPr>
              <a:t>IS Integravimas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3549600" y="1676520"/>
            <a:ext cx="3219120" cy="2285640"/>
            <a:chOff x="3549600" y="1676520"/>
            <a:chExt cx="3219120" cy="2285640"/>
          </a:xfrm>
        </p:grpSpPr>
        <p:sp>
          <p:nvSpPr>
            <p:cNvPr id="416" name=""/>
            <p:cNvSpPr/>
            <p:nvPr/>
          </p:nvSpPr>
          <p:spPr>
            <a:xfrm>
              <a:off x="4787640" y="1676520"/>
              <a:ext cx="743040" cy="571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ESS (EIS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549600" y="2019240"/>
              <a:ext cx="742680" cy="457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I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549600" y="2819520"/>
              <a:ext cx="742680" cy="571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KW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787640" y="3390840"/>
              <a:ext cx="743040" cy="571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026040" y="2819520"/>
              <a:ext cx="742680" cy="571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TPS funk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026040" y="2019240"/>
              <a:ext cx="742680" cy="571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DS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 flipV="1">
              <a:off x="5530320" y="2018880"/>
              <a:ext cx="4950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V="1">
              <a:off x="4292280" y="2018880"/>
              <a:ext cx="4950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V="1">
              <a:off x="4044600" y="2476440"/>
              <a:ext cx="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796920" y="2476440"/>
              <a:ext cx="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flipH="1" flipV="1">
              <a:off x="4168440" y="3276720"/>
              <a:ext cx="61884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5530680" y="3276720"/>
              <a:ext cx="61920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flipV="1">
              <a:off x="6397560" y="259092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 flipV="1">
              <a:off x="5283000" y="2247840"/>
              <a:ext cx="74304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 flipV="1">
              <a:off x="4168440" y="2361600"/>
              <a:ext cx="185724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4292280" y="3048120"/>
              <a:ext cx="1733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292280" y="2361960"/>
              <a:ext cx="1733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3" name=""/>
          <p:cNvSpPr/>
          <p:nvPr/>
        </p:nvSpPr>
        <p:spPr>
          <a:xfrm>
            <a:off x="1155600" y="3809880"/>
            <a:ext cx="87505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EIS – administravimo 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MIS – vadybos IS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DSS – sprendimo priėmimo IS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PS – transakcijų (funkcinė) 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OAS – ofiso automatizavimo sistemos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KWS – žinių sistemos (pvz., kompiuterizuoto projektavimo CAD sistemo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 S. Gudas  DB ir IS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1036-EB10-430F-AB50-B29DA6DE094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21304"/>
                </a:solidFill>
                <a:latin typeface="Times New Roman"/>
              </a:rPr>
              <a:t>Informacijos sistem</a:t>
            </a:r>
            <a:r>
              <a:rPr b="1" lang="lt-LT" sz="3600" spc="-1" strike="noStrike">
                <a:solidFill>
                  <a:srgbClr val="221304"/>
                </a:solidFill>
                <a:latin typeface="Times New Roman"/>
              </a:rPr>
              <a:t>ų klasifikavimas pagal integravimo laipsnį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238400" y="1676520"/>
            <a:ext cx="825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1.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aikomosios sistemos gamybos veiklai valdyt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tskiroms funkcijoms kompiuterizuoti; šios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buvo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mažai susijusio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tarpusavyje, pvz., įrenginių kontrolės IS , gamybos planavimo IS, sandėliavimo apskaitos 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2.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MRP - materialių resursų planavimo sistem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o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, integruoja atskiras funkcines gamybos 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3.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MRP II – gamybos resursų planavimo I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4.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IM – integruotos gamybos sistemos (stambesnė už MRP I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5.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ERP – įmonės resursų planavimo 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6.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rporganizacinės IS, kurios plečia ERP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galimybe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 S. Gudas  DB ir I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9DA1-DB07-42BA-9A38-B27C7549902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221304"/>
                </a:solidFill>
                <a:latin typeface="Times New Roman"/>
              </a:rPr>
              <a:t>IS evoliucija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825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X a. 5 de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šimtmetis- sukurta pirmoji verslui skirta programinė įrang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XXa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 de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šimtmetis- sukurta pirmoji verslo IS, kuri galėjo atlikti elementarius skaičiavimus, prognozes, ataskaitas ir k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XXa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 de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šimtmetis- staigi verslo IS plėtra panaudojant elektronines telekomunikacijas (bilietų rezervavimo sistemos ir kt.), taip pat prasidėjo sprendimų priėmimo sistemų vystymas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 de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šimtmetis- dirbtinio intelekto ir ekspertinių sistemų plėtr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 S. Gudas  DB ir I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8CA6-1E28-495C-B1FA-14FDE5F7247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IS kūrimo proceso gyvavimo ciklų modeliai</a:t>
            </a:r>
            <a:br>
              <a:rPr sz="3600"/>
            </a:b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825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1.Tradicinis  (top-down) arba “krioklio tipo” GC,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kirt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truktūrinei-funkcinei IS inžinerija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Objektinis (bottom-up) arba “fontano” tipo GC, skirtas realizuoti OO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IS inžinerijos metodu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3.Iteracinis GC (spiral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ė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 tipo), realizuojantis evoliucinį IS k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ū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rim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4.Lygiagretusis GC, taikomas dideliems projektams, kuriuos vykdo didel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ė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projektavimo koman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5.SCRUM metodas, kurio privalumas - leid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a keisti reikalavimus IS kiekviename projektavimo etape bet kuriuo moment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 S. Gudas  DB ir I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7144-7291-4CAD-ABA1-5B7EDFA3A05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IS kūrimo proceso gyvavimo ciklų modeliai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825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iuo metu yra sukurta daug (virš 50) CASE paketų, kiekvienas realizuoja savo gyvavimo ciklo modelį, kuris kažkuo skiriasi nuo kitų sistemų GC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vyzdžiui, CASE sistema “Rational Rose”  grindžiama gyvavimo ciklu, kuris vadinamas </a:t>
            </a:r>
            <a:r>
              <a:rPr b="0" i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P – Rational Unified Process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 S. Gudas  DB ir I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BAE4-489D-42CD-8289-C64601D3C26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8255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21304"/>
                </a:solidFill>
                <a:latin typeface="Times New Roman"/>
              </a:rPr>
              <a:t>Tradicinis </a:t>
            </a:r>
            <a:r>
              <a:rPr b="1" lang="lt-LT" sz="2400" spc="-1" strike="noStrike">
                <a:solidFill>
                  <a:srgbClr val="221304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221304"/>
                </a:solidFill>
                <a:latin typeface="Times New Roman"/>
              </a:rPr>
              <a:t>krioklio tipo</a:t>
            </a:r>
            <a:r>
              <a:rPr b="1" lang="lt-LT" sz="2400" spc="-1" strike="noStrike">
                <a:solidFill>
                  <a:srgbClr val="221304"/>
                </a:solidFill>
                <a:latin typeface="Times New Roman"/>
              </a:rPr>
              <a:t>”</a:t>
            </a:r>
            <a:r>
              <a:rPr b="1" lang="en-US" sz="2400" spc="-1" strike="noStrike">
                <a:solidFill>
                  <a:srgbClr val="221304"/>
                </a:solidFill>
                <a:latin typeface="Times New Roman"/>
              </a:rPr>
              <a:t> IS k</a:t>
            </a:r>
            <a:r>
              <a:rPr b="1" lang="lt-LT" sz="2400" spc="-1" strike="noStrike">
                <a:solidFill>
                  <a:srgbClr val="221304"/>
                </a:solidFill>
                <a:latin typeface="Times New Roman"/>
              </a:rPr>
              <a:t>ū</a:t>
            </a:r>
            <a:r>
              <a:rPr b="1" lang="en-US" sz="2400" spc="-1" strike="noStrike">
                <a:solidFill>
                  <a:srgbClr val="221304"/>
                </a:solidFill>
                <a:latin typeface="Times New Roman"/>
              </a:rPr>
              <a:t>rimo </a:t>
            </a:r>
            <a:r>
              <a:rPr b="1" lang="lt-LT" sz="2400" spc="-1" strike="noStrike">
                <a:solidFill>
                  <a:srgbClr val="221304"/>
                </a:solidFill>
                <a:latin typeface="Times New Roman"/>
              </a:rPr>
              <a:t>gyvavimo ciklas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492360" y="17146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072040" y="782640"/>
            <a:ext cx="2505240" cy="306360"/>
          </a:xfrm>
          <a:prstGeom prst="rect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414760" y="870120"/>
            <a:ext cx="1613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Vartotojo reikalavimų analizė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072040" y="1243080"/>
            <a:ext cx="2505240" cy="307800"/>
          </a:xfrm>
          <a:prstGeom prst="rect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1330200"/>
            <a:ext cx="2036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Vartotojo reikalavimų specifikavim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029200" y="1676520"/>
            <a:ext cx="2505240" cy="506160"/>
          </a:xfrm>
          <a:prstGeom prst="rect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10000" y="1712880"/>
            <a:ext cx="195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Reikalavimų </a:t>
            </a:r>
            <a:r>
              <a:rPr b="0" lang="lt-LT" sz="10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rograminei įranga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864400" y="1870200"/>
            <a:ext cx="823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pecifikavim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072040" y="2438280"/>
            <a:ext cx="2505240" cy="495360"/>
          </a:xfrm>
          <a:prstGeom prst="rect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557680" y="2514600"/>
            <a:ext cx="136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istemos (architektūro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162400" y="2666880"/>
            <a:ext cx="2076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rojektavimas (loginis projektavima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072040" y="3087720"/>
            <a:ext cx="2505240" cy="493560"/>
          </a:xfrm>
          <a:prstGeom prst="rect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210640" y="3097080"/>
            <a:ext cx="1989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rogramų (detalusis) projektavim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641560" y="3254400"/>
            <a:ext cx="1216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(fizinis projektavima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72040" y="4008600"/>
            <a:ext cx="2505240" cy="309240"/>
          </a:xfrm>
          <a:prstGeom prst="rect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486400" y="4097160"/>
            <a:ext cx="1497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Realizavimas (Kodavima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72040" y="4471920"/>
            <a:ext cx="2505240" cy="306360"/>
          </a:xfrm>
          <a:prstGeom prst="rect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235840" y="4481640"/>
            <a:ext cx="193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rogramų testavimas: atskirų dalių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987520" y="4637160"/>
            <a:ext cx="605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estavim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072040" y="4932360"/>
            <a:ext cx="2505240" cy="306360"/>
          </a:xfrm>
          <a:prstGeom prst="rect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94080" y="5019840"/>
            <a:ext cx="2024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rogramų testavimas: IS testavim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072040" y="5392800"/>
            <a:ext cx="2505240" cy="307800"/>
          </a:xfrm>
          <a:prstGeom prst="rect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49560" y="5479920"/>
            <a:ext cx="1026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IS eksploatavim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072040" y="5853240"/>
            <a:ext cx="2505240" cy="309600"/>
          </a:xfrm>
          <a:prstGeom prst="rect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883480" y="5942160"/>
            <a:ext cx="786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IS palaikym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08720" y="1089000"/>
            <a:ext cx="1440" cy="58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369120" y="1136520"/>
            <a:ext cx="75960" cy="106560"/>
          </a:xfrm>
          <a:custGeom>
            <a:avLst/>
            <a:gdLst/>
            <a:ahLst/>
            <a:rect l="l" t="t" r="r" b="b"/>
            <a:pathLst>
              <a:path w="48" h="67">
                <a:moveTo>
                  <a:pt x="48" y="0"/>
                </a:moveTo>
                <a:lnTo>
                  <a:pt x="25" y="67"/>
                </a:lnTo>
                <a:lnTo>
                  <a:pt x="0" y="0"/>
                </a:lnTo>
                <a:lnTo>
                  <a:pt x="4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408720" y="1550880"/>
            <a:ext cx="1440" cy="57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369120" y="1600200"/>
            <a:ext cx="75960" cy="103320"/>
          </a:xfrm>
          <a:custGeom>
            <a:avLst/>
            <a:gdLst/>
            <a:ahLst/>
            <a:rect l="l" t="t" r="r" b="b"/>
            <a:pathLst>
              <a:path w="48" h="65">
                <a:moveTo>
                  <a:pt x="48" y="0"/>
                </a:moveTo>
                <a:lnTo>
                  <a:pt x="25" y="65"/>
                </a:lnTo>
                <a:lnTo>
                  <a:pt x="0" y="0"/>
                </a:lnTo>
                <a:lnTo>
                  <a:pt x="4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08720" y="2933640"/>
            <a:ext cx="1440" cy="58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369120" y="2981160"/>
            <a:ext cx="75960" cy="106560"/>
          </a:xfrm>
          <a:custGeom>
            <a:avLst/>
            <a:gdLst/>
            <a:ahLst/>
            <a:rect l="l" t="t" r="r" b="b"/>
            <a:pathLst>
              <a:path w="48" h="67">
                <a:moveTo>
                  <a:pt x="48" y="0"/>
                </a:moveTo>
                <a:lnTo>
                  <a:pt x="25" y="67"/>
                </a:lnTo>
                <a:lnTo>
                  <a:pt x="0" y="0"/>
                </a:lnTo>
                <a:lnTo>
                  <a:pt x="4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408720" y="4317840"/>
            <a:ext cx="1440" cy="55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369120" y="4365720"/>
            <a:ext cx="75960" cy="106200"/>
          </a:xfrm>
          <a:custGeom>
            <a:avLst/>
            <a:gdLst/>
            <a:ahLst/>
            <a:rect l="l" t="t" r="r" b="b"/>
            <a:pathLst>
              <a:path w="48" h="67">
                <a:moveTo>
                  <a:pt x="48" y="0"/>
                </a:moveTo>
                <a:lnTo>
                  <a:pt x="25" y="67"/>
                </a:lnTo>
                <a:lnTo>
                  <a:pt x="0" y="0"/>
                </a:lnTo>
                <a:lnTo>
                  <a:pt x="4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408720" y="4778280"/>
            <a:ext cx="1440" cy="57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369120" y="4826160"/>
            <a:ext cx="75960" cy="106200"/>
          </a:xfrm>
          <a:custGeom>
            <a:avLst/>
            <a:gdLst/>
            <a:ahLst/>
            <a:rect l="l" t="t" r="r" b="b"/>
            <a:pathLst>
              <a:path w="48" h="67">
                <a:moveTo>
                  <a:pt x="48" y="0"/>
                </a:moveTo>
                <a:lnTo>
                  <a:pt x="25" y="67"/>
                </a:lnTo>
                <a:lnTo>
                  <a:pt x="0" y="0"/>
                </a:lnTo>
                <a:lnTo>
                  <a:pt x="4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408720" y="5238720"/>
            <a:ext cx="1440" cy="58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369120" y="5289480"/>
            <a:ext cx="75960" cy="103320"/>
          </a:xfrm>
          <a:custGeom>
            <a:avLst/>
            <a:gdLst/>
            <a:ahLst/>
            <a:rect l="l" t="t" r="r" b="b"/>
            <a:pathLst>
              <a:path w="48" h="65">
                <a:moveTo>
                  <a:pt x="48" y="0"/>
                </a:moveTo>
                <a:lnTo>
                  <a:pt x="25" y="65"/>
                </a:lnTo>
                <a:lnTo>
                  <a:pt x="0" y="0"/>
                </a:lnTo>
                <a:lnTo>
                  <a:pt x="4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08720" y="5700600"/>
            <a:ext cx="1440" cy="57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369120" y="5749920"/>
            <a:ext cx="75960" cy="103320"/>
          </a:xfrm>
          <a:custGeom>
            <a:avLst/>
            <a:gdLst/>
            <a:ahLst/>
            <a:rect l="l" t="t" r="r" b="b"/>
            <a:pathLst>
              <a:path w="48" h="65">
                <a:moveTo>
                  <a:pt x="48" y="0"/>
                </a:moveTo>
                <a:lnTo>
                  <a:pt x="25" y="65"/>
                </a:lnTo>
                <a:lnTo>
                  <a:pt x="0" y="0"/>
                </a:lnTo>
                <a:lnTo>
                  <a:pt x="4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408720" y="5950080"/>
            <a:ext cx="1335240" cy="366480"/>
          </a:xfrm>
          <a:custGeom>
            <a:avLst/>
            <a:gdLst/>
            <a:ahLst/>
            <a:rect l="l" t="t" r="r" b="b"/>
            <a:pathLst>
              <a:path w="841" h="231">
                <a:moveTo>
                  <a:pt x="0" y="134"/>
                </a:moveTo>
                <a:lnTo>
                  <a:pt x="0" y="231"/>
                </a:lnTo>
                <a:lnTo>
                  <a:pt x="841" y="231"/>
                </a:lnTo>
                <a:lnTo>
                  <a:pt x="841" y="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707240" y="5853240"/>
            <a:ext cx="76320" cy="106200"/>
          </a:xfrm>
          <a:custGeom>
            <a:avLst/>
            <a:gdLst/>
            <a:ahLst/>
            <a:rect l="l" t="t" r="r" b="b"/>
            <a:pathLst>
              <a:path w="48" h="67">
                <a:moveTo>
                  <a:pt x="0" y="67"/>
                </a:moveTo>
                <a:lnTo>
                  <a:pt x="23" y="0"/>
                </a:lnTo>
                <a:lnTo>
                  <a:pt x="48" y="67"/>
                </a:lnTo>
                <a:lnTo>
                  <a:pt x="0" y="6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067200" y="843120"/>
            <a:ext cx="1001520" cy="860400"/>
          </a:xfrm>
          <a:prstGeom prst="rect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333960" y="1208160"/>
            <a:ext cx="41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nalizė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067200" y="1857240"/>
            <a:ext cx="1001520" cy="1998720"/>
          </a:xfrm>
          <a:prstGeom prst="rect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127320" y="2790720"/>
            <a:ext cx="794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rojektavim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067200" y="4008600"/>
            <a:ext cx="1001520" cy="2154240"/>
          </a:xfrm>
          <a:prstGeom prst="rect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141720" y="4267080"/>
            <a:ext cx="8967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nstravimas</a:t>
            </a:r>
            <a:r>
              <a:rPr b="0" lang="lt-LT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000" spc="-1" strike="noStrike">
                <a:solidFill>
                  <a:srgbClr val="000000"/>
                </a:solidFill>
                <a:latin typeface="Arial"/>
              </a:rPr>
              <a:t>(Taikomosios programinės įrangos)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568680" y="1703520"/>
            <a:ext cx="1440" cy="568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532320" y="1752480"/>
            <a:ext cx="75960" cy="104760"/>
          </a:xfrm>
          <a:custGeom>
            <a:avLst/>
            <a:gdLst/>
            <a:ahLst/>
            <a:rect l="l" t="t" r="r" b="b"/>
            <a:pathLst>
              <a:path w="48" h="66">
                <a:moveTo>
                  <a:pt x="48" y="0"/>
                </a:moveTo>
                <a:lnTo>
                  <a:pt x="23" y="66"/>
                </a:lnTo>
                <a:lnTo>
                  <a:pt x="0" y="0"/>
                </a:lnTo>
                <a:lnTo>
                  <a:pt x="4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568680" y="3855960"/>
            <a:ext cx="1440" cy="57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532320" y="3905280"/>
            <a:ext cx="75960" cy="103320"/>
          </a:xfrm>
          <a:custGeom>
            <a:avLst/>
            <a:gdLst/>
            <a:ahLst/>
            <a:rect l="l" t="t" r="r" b="b"/>
            <a:pathLst>
              <a:path w="48" h="65">
                <a:moveTo>
                  <a:pt x="48" y="0"/>
                </a:moveTo>
                <a:lnTo>
                  <a:pt x="23" y="65"/>
                </a:lnTo>
                <a:lnTo>
                  <a:pt x="0" y="0"/>
                </a:lnTo>
                <a:lnTo>
                  <a:pt x="4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1031760"/>
            <a:ext cx="1440" cy="4222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532400" y="936720"/>
            <a:ext cx="75960" cy="102960"/>
          </a:xfrm>
          <a:custGeom>
            <a:avLst/>
            <a:gdLst/>
            <a:ahLst/>
            <a:rect l="l" t="t" r="r" b="b"/>
            <a:pathLst>
              <a:path w="48" h="65">
                <a:moveTo>
                  <a:pt x="0" y="65"/>
                </a:moveTo>
                <a:lnTo>
                  <a:pt x="25" y="0"/>
                </a:lnTo>
                <a:lnTo>
                  <a:pt x="48" y="65"/>
                </a:lnTo>
                <a:lnTo>
                  <a:pt x="0" y="6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32400" y="1446120"/>
            <a:ext cx="75960" cy="104760"/>
          </a:xfrm>
          <a:custGeom>
            <a:avLst/>
            <a:gdLst/>
            <a:ahLst/>
            <a:rect l="l" t="t" r="r" b="b"/>
            <a:pathLst>
              <a:path w="48" h="66">
                <a:moveTo>
                  <a:pt x="48" y="0"/>
                </a:moveTo>
                <a:lnTo>
                  <a:pt x="25" y="66"/>
                </a:lnTo>
                <a:lnTo>
                  <a:pt x="0" y="0"/>
                </a:lnTo>
                <a:lnTo>
                  <a:pt x="4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4349520" y="1203120"/>
            <a:ext cx="15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ą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1954080"/>
            <a:ext cx="1440" cy="18050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532400" y="1857240"/>
            <a:ext cx="75960" cy="106560"/>
          </a:xfrm>
          <a:custGeom>
            <a:avLst/>
            <a:gdLst/>
            <a:ahLst/>
            <a:rect l="l" t="t" r="r" b="b"/>
            <a:pathLst>
              <a:path w="48" h="67">
                <a:moveTo>
                  <a:pt x="0" y="67"/>
                </a:moveTo>
                <a:lnTo>
                  <a:pt x="25" y="0"/>
                </a:lnTo>
                <a:lnTo>
                  <a:pt x="48" y="67"/>
                </a:lnTo>
                <a:lnTo>
                  <a:pt x="0" y="6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32400" y="3751200"/>
            <a:ext cx="75960" cy="104760"/>
          </a:xfrm>
          <a:custGeom>
            <a:avLst/>
            <a:gdLst/>
            <a:ahLst/>
            <a:rect l="l" t="t" r="r" b="b"/>
            <a:pathLst>
              <a:path w="48" h="66">
                <a:moveTo>
                  <a:pt x="48" y="0"/>
                </a:moveTo>
                <a:lnTo>
                  <a:pt x="25" y="66"/>
                </a:lnTo>
                <a:lnTo>
                  <a:pt x="0" y="0"/>
                </a:lnTo>
                <a:lnTo>
                  <a:pt x="4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rot="5400000">
            <a:off x="4299120" y="2772360"/>
            <a:ext cx="25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Kai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400800" y="2209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400800" y="35812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 S. Gudas  DB ir IS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DB8E-E144-4659-9544-AAFA74A18E3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4400" spc="-1" strike="noStrike">
                <a:solidFill>
                  <a:srgbClr val="221304"/>
                </a:solidFill>
                <a:latin typeface="Times New Roman"/>
              </a:rPr>
              <a:t>IS </a:t>
            </a:r>
            <a:r>
              <a:rPr b="1" i="1" lang="en-US" sz="44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GC etap</a:t>
            </a:r>
            <a:r>
              <a:rPr b="1" i="1" lang="lt-LT" sz="4400" spc="-1" strike="noStrike">
                <a:solidFill>
                  <a:srgbClr val="221304"/>
                </a:solidFill>
                <a:latin typeface="Times New Roman"/>
              </a:rPr>
              <a:t>ų</a:t>
            </a:r>
            <a:r>
              <a:rPr b="1" i="1" lang="en-US" sz="44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 pavadinimai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825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479880" indent="-479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totojo reikalavimų analiz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-479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totojo reikalavimų specifikavi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-479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ikalavimų programinei įrangai specifikavi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-479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stemos (architektūros) projektavimas (loginis projektavim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-479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ų (detalusis) projektavimas (fizinis projektavim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-479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lizavimas (Kodavim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-479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ų testavimas: atskirų dalių testavi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-479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ų testavimas: IS testavi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-479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eksploatavi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-479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palaiky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-479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 S. Gudas  DB ir I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59B8-162E-4D1B-9142-B4139BEAEE1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221304"/>
                </a:solidFill>
                <a:latin typeface="Times New Roman"/>
              </a:rPr>
              <a:t>Tradicinio IS GC trūkumai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825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kūrimo metu neatsižvelgiama į evoliucinius (kompiuterizuojamos sistemos) pakitim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jektuojant šiuo metodu (“iš viršaus žemyn” – top down),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S siejama su veiklo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unkcij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omis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ai labai abejotinas dalyka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, nes jos nuolat kin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jektuojant metodu “iš viršaus žemyn” yra atliek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 funkcinė dekompozicija, duomenų struktūrų aspektas užmirštamas, kartais visiška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Dėl paminėtų priežasčių struktūrinis-funkcinis IS 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jektavim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o būd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iš viršaus žemyn”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etinka siekiant sukurti pakartotino panaudojimo programinę įrangą (reusability)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 S. Gudas  DB ir I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8666-FC5D-4A71-9C01-B22D72D2929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Spiralės </a:t>
            </a:r>
            <a:r>
              <a:rPr b="0" lang="lt-LT" sz="4400" spc="-1" strike="noStrike">
                <a:solidFill>
                  <a:srgbClr val="221304"/>
                </a:solidFill>
                <a:latin typeface="Times New Roman"/>
              </a:rPr>
              <a:t>tipo GC </a:t>
            </a:r>
            <a:r>
              <a:rPr b="0" lang="en-US" sz="44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modelis</a:t>
            </a:r>
            <a:r>
              <a:rPr b="0" lang="en-GB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471840" y="247176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752480" y="1371600"/>
            <a:ext cx="6934320" cy="4483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 S. Gudas  DB ir IS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27DE-DECA-498C-A35D-97D5A9AC538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221304"/>
                </a:solidFill>
                <a:latin typeface="Times New Roman"/>
              </a:rPr>
              <a:t>Spiralės tipo GC trūkumai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825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•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niekada nesibaigiantys projektai 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kadangi "spiralės" modeliui būdingas nuolatinis tų pačių programos funkcijų peržiūrėjimas ir tobulinimas, o tobulinimui ribų nėra, atsiranda rizika, jog projektas niekada nesibaigs, jei jam nenustatytas termina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•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nežinomi kaštai 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daugeliu atvejų neaišku, kiek iteracijų reikės praeiti, kol projektas bus galutinai įgyvendintas, todėl praktiškai neįmanoma apskaičiuoti jo trukmės ir kaštų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 S. Gudas  DB ir I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9C58-B6AD-4A67-9296-44ACDF1AB2E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30T13:47:31Z</dcterms:created>
  <dc:creator>Rasa</dc:creator>
  <dc:description/>
  <dc:language>en-US</dc:language>
  <cp:lastModifiedBy>Saulius</cp:lastModifiedBy>
  <cp:lastPrinted>2002-08-27T15:34:20Z</cp:lastPrinted>
  <dcterms:modified xsi:type="dcterms:W3CDTF">2002-09-18T06:01:05Z</dcterms:modified>
  <cp:revision>81</cp:revision>
  <dc:subject/>
  <dc:title>Informacinės sistemos gamybos valdymui  IT apibrėžimas ir klasifikacija</dc:title>
</cp:coreProperties>
</file>