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8649-701F-43F3-92A4-65FE4E02A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93F2-3F9B-43D2-863B-885DEA98B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256B-48D2-448B-B76E-31B9E2590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9438-219B-4DB5-869B-22144ACEC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ABD39-4F9B-4C30-BB3B-1A2054BBC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A51EB-4C4E-4131-ABDA-67CE69920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268E9-CF47-481D-AD9E-9562D143D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63626-B61B-4108-ABDD-5B347B6E9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1AAE7-39FE-4A5F-B75D-6D95C999C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09BAC-7216-4F3E-92E7-3CDFDF2F6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CC6CD-BE9C-4E91-A807-E7B9E05FC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7E66-0A1B-45D6-A5F9-D6C45FBAD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26BB9-FD71-4CC5-9579-8943A5F8F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902C5-650E-45D6-BD1C-806754082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700E1-351D-4C4D-9094-A5EFE7FFF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9AECD-AA34-4B0F-B062-B589321F9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05FC5-DE40-460A-9825-09DFE2B77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5882-D6CD-4611-B4B9-B29BCFD3D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15D5-6E04-4B3B-BE45-D3C9AD1F0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872D-C36B-4583-8596-2FAC338B1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F2B6-9F34-4E93-B047-E8C60245A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F142-97F6-43F3-8DFC-6D2CBC3A6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B822-2929-4A88-910B-FCB02919E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870C-66E6-4236-8EC6-8066F4458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8411F-85B9-45B9-950D-5D02D5EFA30F}" type="slidenum">
              <a:rPr b="0" lang="en-GB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984E0-860E-4B98-8F9A-F7F51EECF5FD}" type="slidenum">
              <a:rPr b="0" lang="en-GB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Narkoz</a:t>
            </a:r>
            <a:r>
              <a:rPr b="0" lang="lt-LT" sz="2400" spc="-1" strike="noStrike">
                <a:solidFill>
                  <a:srgbClr val="660066"/>
                </a:solidFill>
                <a:latin typeface="Times New Roman"/>
              </a:rPr>
              <a:t>ės teorijos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514600" y="1828800"/>
            <a:ext cx="4343400" cy="43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Inhaliacinių anestetikų veikimo mechanizmas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Inhaliacinių anestetikų veikimo mechanizmas iki šiol neaiškus. Smegenyse nėra specifinės anatominės struktūros, į kurią vieną veiktų anestetikai. Jie slopina tinklinį darinį, pusrutulių žievę, hipokampą. Anestetikai taip pat slopina impulsų plitimą nugaros smegenyse.</a:t>
            </a:r>
            <a:br>
              <a:rPr sz="2400"/>
            </a:b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Inhaliacinių anestetikų veikimą bando aiškinti kelios teorijos,kurios turi savų trūkumų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Unitarinė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yer-Overton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eorija</a:t>
            </a:r>
            <a:r>
              <a:rPr b="0" lang="en-GB" sz="2400" spc="-1" strike="noStrike">
                <a:solidFill>
                  <a:srgbClr val="66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Dar vadinama lipidų teorija, kadangi grindžiama anestetikų tirpumu lipiduos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A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nestezija prasideda anestetikui ištirpus specifinėse lipidų turinčiose struktūrose. Tirpdami membranų fosfolipidiniame sluoksnyje, inhaliaciniai anestetikai padidina jos tūrį, ko pasekoje pasikeičia mebranos funkcija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stezija prasideda, kuomet cheminė medžiaga pasiekia tam tikrą koncentraciją hidrofobinėse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(lipidinėse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ąstelės struktūrose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Įrodymas – tirpumas lipiduose koreliuoja su anestetiniu stiprumu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ltyminė teorija</a:t>
            </a:r>
            <a:r>
              <a:rPr b="0" lang="en-GB" sz="2400" spc="-1" strike="noStrike">
                <a:solidFill>
                  <a:srgbClr val="66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estetikai gali susijungti su baltymų molekulėmis.Matoma paralelė tarp anestetiko stiprumo ir fermentų inhibicij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Įrodytas anestetikų sąveika su membranos baltymai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660066"/>
                </a:solidFill>
                <a:latin typeface="Times New Roman"/>
              </a:rPr>
              <a:t>Sinaptinio perdavimo teorija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Anestetikas keičia neuromediatoriaus išsiskyrimą sinapsėj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Pakinta nervinio impulso plitimas per sinapsę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660066"/>
                </a:solidFill>
                <a:latin typeface="Times New Roman"/>
              </a:rPr>
              <a:t>Kai kurios anestezijoje naudojamos medžiagos veikia specifiškai į tam tikrus receptorius.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76964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40458c"/>
                </a:solidFill>
                <a:latin typeface="Times New Roman"/>
              </a:rPr>
              <a:t>Stimuliuojantys receptoriai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Nikotininiai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NMDA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methyl-D-aspartate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PA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-amino-3-hydroxy-5-methyl-4-isoxazole propionat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40458c"/>
                </a:solidFill>
                <a:latin typeface="Times New Roman"/>
              </a:rPr>
              <a:t>Slopinantys receptoriai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BA</a:t>
            </a: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(</a:t>
            </a:r>
            <a:r>
              <a:rPr b="0" lang="lt-LT" sz="2400" spc="-1" strike="noStrike">
                <a:solidFill>
                  <a:srgbClr val="40458c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minosviesto rūgštis</a:t>
            </a: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Glicino receptoriai</a:t>
            </a: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nestezijos aktyvuojami”K</a:t>
            </a:r>
            <a:r>
              <a:rPr b="0" lang="lt-LT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kanalai.</a:t>
            </a: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drenerginė sistema.</a:t>
            </a: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timuliuojant selektyvia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gonistais, pvz.:klonidinu, sustiprėja halotano anestetinis veikima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8T09:27:00Z</dcterms:created>
  <dc:creator>Antanas</dc:creator>
  <dc:description/>
  <dc:language>en-US</dc:language>
  <cp:lastModifiedBy>Antanas</cp:lastModifiedBy>
  <dcterms:modified xsi:type="dcterms:W3CDTF">2004-01-08T10:30:51Z</dcterms:modified>
  <cp:revision>1</cp:revision>
  <dc:subject/>
  <dc:title>Narkozės teorijos</dc:title>
</cp:coreProperties>
</file>