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7E53-068C-4819-A209-9A680816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D225-26F4-4FB6-9951-D6D53C38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B7F8-F205-4197-A63E-3CA8C8DFE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46C1-427C-4500-A754-FC1F2D33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9741-47A9-4D06-B06D-F28FD25A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2D41-8030-40C6-86D0-9BB7F863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FADF-079D-447E-83A0-DE36F39A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5019-580F-472B-B3EF-90D5509A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0873-E752-4DC1-96FA-D857045A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1813-E8C8-4CE0-9655-C9CEE8E2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84F4-48A6-4DF7-8BEC-11D2EE72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4E9F-E7E6-4C2E-8E93-53A910DD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9ABF-2C85-411A-89D1-BC662B24C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onio paruošimas anestezij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žiūr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ėpavimo sistema – vertinamas kvėpavimo dažnis, krūtinės ląstos deformacijos, emfizema, kvėpavimo raumenų darbas, cianozė veide ir lūpose. Auskultuojant nustatomi kvėpavimo garsai, jų pobūdis ir viet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rdies ir kraujagyslių sistema – vertinamas pulsas, gleivinių spalva, edemos, širdies užesiai, aritmijos, AKS, periferinių venų būklė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– sąmonė, psichoemocinė būklė, centrinės parezės ar paralyžiai, periferinės neuropatijo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ėpavimo taka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sižiojimas – per 3 pirštų plot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tų būklė – paradontozė, protezuoti dantys, plokštelė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kandima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žuvio dydis ir paslankuma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ubaciją gali apsunkinti: trumpas storas kaklas, prognatija (mažas apatinis žandikaulis), protruzija (atsikišę ilgi kandžiai), kaklinių stuburo slankstelių nepaslankumas, didelis žandikaulio nepaslankumas, apatinio žandikaulio lūžis, parafaringiniai pulynai, viršutinio žandikaulio lūžiai, didelis liežuvis, didelė strum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ubacijos eigą galima prognozuot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lampa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lassifikacij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ligonis sodinamas ir paprašomas išsižioti ir kiek gali iškišti liežuvį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statant smakro – skydinės kremzlės atstumą. Atlošus galvą, matuojamas atstumas nuo apatinio žandikaulio k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 vidurinės linijos ir skydinės kremzlės vidurinėje kaklo linijoje. Jei jis mažesnis 7 cm, gali būti sunki intubacija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Mallampatti klasifik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lasė – matyti žiočių lankai, minkštasis gomurys, liežuvėlis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klasė – matyti žiočių lankai ir minkštasis gomurys; liežuvėlį slepia liežuvio šaknis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klasė – matyti tik žiočių lankai. Intubacija gali būti sunki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V klasė – viską dengia liežuvio šaknis. Intubacija laringoskopo kontrolėje praktiškai neįmano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71600" y="609480"/>
            <a:ext cx="6781680" cy="57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iniai tyri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ktiškai sveikų žmonių privalomas ikioperacinis ištyri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143000" y="2133720"/>
            <a:ext cx="7391160" cy="4481280"/>
            <a:chOff x="1143000" y="2133720"/>
            <a:chExt cx="7391160" cy="4481280"/>
          </a:xfrm>
        </p:grpSpPr>
        <p:grpSp>
          <p:nvGrpSpPr>
            <p:cNvPr id="70" name=""/>
            <p:cNvGrpSpPr/>
            <p:nvPr/>
          </p:nvGrpSpPr>
          <p:grpSpPr>
            <a:xfrm>
              <a:off x="1148760" y="2138400"/>
              <a:ext cx="7378200" cy="4471920"/>
              <a:chOff x="1148760" y="2138400"/>
              <a:chExt cx="7378200" cy="4471920"/>
            </a:xfrm>
          </p:grpSpPr>
          <p:grpSp>
            <p:nvGrpSpPr>
              <p:cNvPr id="71" name=""/>
              <p:cNvGrpSpPr/>
              <p:nvPr/>
            </p:nvGrpSpPr>
            <p:grpSpPr>
              <a:xfrm>
                <a:off x="1148760" y="2138400"/>
                <a:ext cx="2459160" cy="655560"/>
                <a:chOff x="1148760" y="2138400"/>
                <a:chExt cx="2459160" cy="65556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1235160" y="2138400"/>
                  <a:ext cx="2285640" cy="6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mžiu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1148760" y="2138400"/>
                  <a:ext cx="2459160" cy="65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3608640" y="2138400"/>
                <a:ext cx="2458800" cy="655560"/>
                <a:chOff x="3608640" y="2138400"/>
                <a:chExt cx="2458800" cy="65556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3694680" y="2138400"/>
                  <a:ext cx="2286360" cy="6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yti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608640" y="2138400"/>
                  <a:ext cx="2458800" cy="65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6067800" y="2138400"/>
                <a:ext cx="2459160" cy="655560"/>
                <a:chOff x="6067800" y="2138400"/>
                <a:chExt cx="2459160" cy="65556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6154200" y="2138400"/>
                  <a:ext cx="2285640" cy="6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yrim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6067800" y="2138400"/>
                  <a:ext cx="2459160" cy="65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1148760" y="2793960"/>
                <a:ext cx="2459160" cy="946080"/>
                <a:chOff x="1148760" y="2793960"/>
                <a:chExt cx="2459160" cy="9460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235160" y="2793960"/>
                  <a:ext cx="228564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&lt;40 metų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148760" y="2793960"/>
                  <a:ext cx="24591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3608640" y="2793960"/>
                <a:ext cx="2458800" cy="946080"/>
                <a:chOff x="3608640" y="2793960"/>
                <a:chExt cx="2458800" cy="9460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694680" y="2793960"/>
                  <a:ext cx="22863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yra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tery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608640" y="2793960"/>
                  <a:ext cx="24588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6067800" y="2793960"/>
                <a:ext cx="2459160" cy="946080"/>
                <a:chOff x="6067800" y="2793960"/>
                <a:chExt cx="2459160" cy="9460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6154200" y="2793960"/>
                  <a:ext cx="228564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okių tyrimų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6067800" y="2793960"/>
                  <a:ext cx="24591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1148760" y="3740040"/>
                <a:ext cx="2459160" cy="1679760"/>
                <a:chOff x="1148760" y="3740040"/>
                <a:chExt cx="2459160" cy="167976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1235160" y="3740040"/>
                  <a:ext cx="2285640" cy="16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1-60 metų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1148760" y="3740040"/>
                  <a:ext cx="2459160" cy="167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608640" y="3740040"/>
                <a:ext cx="2458800" cy="1679760"/>
                <a:chOff x="3608640" y="3740040"/>
                <a:chExt cx="2458800" cy="167976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694680" y="3740040"/>
                  <a:ext cx="2286360" cy="16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yr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tery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608640" y="3740040"/>
                  <a:ext cx="2458800" cy="167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6067800" y="3740040"/>
                <a:ext cx="2459160" cy="1679760"/>
                <a:chOff x="6067800" y="3740040"/>
                <a:chExt cx="2459160" cy="16797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6154200" y="3740040"/>
                  <a:ext cx="2285640" cy="16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KG, glikemija, kreatininas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b, EKG, glikemija, kreatinin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067800" y="3740040"/>
                  <a:ext cx="2459160" cy="167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1148760" y="5419800"/>
                <a:ext cx="2459160" cy="1190520"/>
                <a:chOff x="1148760" y="5419800"/>
                <a:chExt cx="2459160" cy="11905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235160" y="5419800"/>
                  <a:ext cx="228564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&gt;60 metų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148760" y="5419800"/>
                  <a:ext cx="245916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3608640" y="5419800"/>
                <a:ext cx="2458800" cy="1190520"/>
                <a:chOff x="3608640" y="5419800"/>
                <a:chExt cx="2458800" cy="11905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3694680" y="5419800"/>
                  <a:ext cx="228636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bu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608640" y="5419800"/>
                  <a:ext cx="245880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6067800" y="5419800"/>
                <a:ext cx="2459160" cy="1190520"/>
                <a:chOff x="6067800" y="5419800"/>
                <a:chExt cx="2459160" cy="119052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6154200" y="5419800"/>
                  <a:ext cx="228564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b, EKG, Glikemija, kreatinin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067800" y="5419800"/>
                  <a:ext cx="245916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7" name=""/>
            <p:cNvSpPr/>
            <p:nvPr/>
          </p:nvSpPr>
          <p:spPr>
            <a:xfrm>
              <a:off x="1143000" y="2133720"/>
              <a:ext cx="7391160" cy="4481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ildomas ištyrimas, priklausomai nuo kitų veiksni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lapalas ir elektrolit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ojantiems digoksiną, diuretikus, steroid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antiems diabetu, inkstų ligomis, vemiant, viduriuojant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penų funkcijos tyr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antiems kepenų ligom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oholika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astazė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ildomas ištyrimas, priklausomai nuo kitų veiksni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6858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ikemija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tik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oniai, turintys periferinių arterijų nepraeinamumą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gą laiką vartojus steroidus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G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tačius hipertenziją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ant širdies ligomi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ūtinės r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entgenog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rdies ar kvėpavimo sistemos liga anamnezėje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kologinė lig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eš širdies ir plaučių operacij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irgę TBC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rometrij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iranda dusulys nedidelio fizinio krūvio metu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gantiems LOP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ešumo rodikliai (SPA, INR APTT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jant antikoaguliantu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mnezėje yra polinkis kraujuot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gant kepenų ligomis ar esant gelta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SA fizinės būklės vertin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raktiškai sveiki žmonės. Patologinis procesas, dėl kurio ligonis operuojamas, yra vietinis ir nesukelia sisteminių sutrikimų. Pooperacinis mirtinguma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(PM)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0.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las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acientas serga lengva arba vidutine sistemine liga, kuri nesukelia jokių funkcijos ribojimų, pvz. lėtinis bronchitas, vidutinis nutukimas, vyresnis amžius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M -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acientas serga sunkia sistemine liga, sukeliančia funkcijos sutrikimų (nekoreguota hipertenzija, cukrinis disbetas su kraujagyslių komplikacijomis, stenokardija, persirgtas MI, LOPL)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M -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8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acientas, sergantis sunkia sistemine liga, nuolat keliančia grėsmę gyvybei (širdies nepakankamumas, nestabili krūtinės angina, inkstų ar kepenų funkcijos nepakankamumas)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M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las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irštantys ligoniai, kurie negali išgyventi 24 val. be operacijos. (plyšusi aortos aneurizma, PATE, sunki galvos trauma).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PM -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VI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ustatyta smegenų mirtis, jų organai bus imami transplantacija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ubios operacijos pažyminos raide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kioperacinis parengim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mnezė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vusios anestezijos, jų eiga, komplikacijos, ponarkozinio periodo ypatumai: pykinimas, vėmimas, sunkus pabudimas, pooperacinė gelta, popunkcinis galvos skausmas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amos ir buvusios ligo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ki operacijos būtina koreguoti šias patologin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ūkle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ysčių pusiausvyros sutrikimai. Dažnai pasitaiko netekus kraujo ir skysčių dėl nudegimų, vėmimo, viduriavimo, žarnų nepraeinamumo, peritonito, traumos. Požymiai: sausas liežuvis, tachikardija, blogas odos turgoras, oligurija, hipotenzija, mažas CVS. Lab. tyrimuose </a:t>
            </a:r>
            <a:r>
              <a:rPr b="0" lang="lt-LT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t ir Hb, kuomet yra dehidratacija ir </a:t>
            </a:r>
            <a:r>
              <a:rPr b="0" lang="lt-LT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ant kraujavimui. Koreguojama infuzoterapija, iki stabilizuojama hemodinamik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ktrolitų pusiausvyros sutrikimai. Pavojiga hipokalemija (K</a:t>
            </a:r>
            <a:r>
              <a:rPr b="0" lang="lt-LT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3.5mmol/l), nes galimos aritmijos. Korekcija – KCl infuzij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mija. Planinė operacija nerekomenduojama, jei Hb&lt;100g/l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rdies ir kraujagyslių lig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oniams, persirgusiems MI, yra padidėjusi perioperacinio pakartotinio MI rizik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 persirgusiems ligoniams planinę operaciją atlikti galima po 3 mėn (pageidautina – po 6 mėn)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rdies nepakankamumas turi būti koreguotas prieš operaciją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itmijos, netrikdančios hemodinamikos, nėra kontraindikacija, tačiau jos turi būti koreguojamos, pvz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chiaritminis PV turi būti pervestas į normoaritmin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 turi būti koreguota iki 160-170/95 mmHg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ėpavimo sistemos lig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t ūminėms kvėp. sistemos ligoms, bendrinė anestezija kontraindikuotin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PL serggančius ligonius būtin ruošti iki planinės operacijos, naudojan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lt-LT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imetikus, gliukokortikoidus ir kt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nės lig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 – glikemiją koreguoti iki normos. Maksimali leidžiama glikemija prieš operaciją – 12 mmol/l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ydliaukės ligos – funkcija koreguoja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ki eutireozės, kadangi operacinis stresas gali provokuoti tireotoksinę krizę pooperaciniame laikotarpyje bei aritmijas operacijos metu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penų ligos – persirgus hepatitu, operuoti rekomenduojama po 5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mėn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strinės operacij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lnas skrandis – galimas vėmimas, regurgitacija indukcijos, anestezijos metu arba po jos. Prieš operaciją zonduoti skrandį storu zondu pašalinant turinį. Taikyti greitą nuoseklią indukciją, naudojant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ko manevrą. Esant pilnam skrandžiui, saugesnė yra regioninė anestezij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ovolemija – koreguojama adekvačia infuzoterapija. Ruošiantis ekstrinėms operacijoms, būtina užtikrinti gerą veninį priėjimą. Keletas periferinių venų, užkateterizuotų storais intraveniniais kateteriais yra daug geriau už vieną centrinę veną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edikacij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kiant operacijos, ligonį apima stresas, pasireiškianti įvairiai: nerimu, nemiga, euforija, apatij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ichinis stresas sunkina operacinį stresą, provokuoja somatinius sutrikimus. Todėl keletą dienų iki operacijos būtina pradėti ligonį ruošti. Skiriami analgetikai, anksiolitikai, migdomieji, antihistamininiai preparat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rmakologinės premedikacijos tiksla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mės ir nerimo mažinimas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žniausiai vartojami benzodiazepinai. Suaugusiam 10-20mg diazepamo vakare per os arba 10-20mg i/m 45-9min prieš operaciją. Veikti pradeda po15-30 min išgėrus, po 2 min paskyrus i/v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aminimas (sedacija)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nzodiazepinai, barbitūratai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gezija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iatai: morfinas, fentanilas, tramadolis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nezija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dazolamas 0.5mg/kg peroraliai, 3-5 mg i/m, 1-2.5 mg i/v, 0.2-0.3 mg/kg intranazaliai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ilių sekrecijos sumažinimas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ropinas 0.5-1.0mg i/v ar i/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getacinio atsako mažinimas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mpatiniam aktyvumui mažinti - </a:t>
            </a:r>
            <a:r>
              <a:rPr b="0" lang="lt-LT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drenoblokatoriai (atenololis, propranololis, metoprololis – peroraliai premedikacijai, esmololis – i/v operacijos metu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kinimo ir vėmimo profilaktik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Metoklopramidas 5-20 mg, skiriant per os, i/m, i/v; droperidolis 2.5-7.5 mg i/m ar i/v; ondansetronas (Zofran®) 8-14 mg per os, 4 mg i/v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ranžio turinio kiekio sumažinimas ir pH didinima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    Antacida – rekomenduotinas 0.3M Na citratas 30 m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   H</a:t>
            </a:r>
            <a:r>
              <a:rPr b="0" lang="lt-LT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lokatoriai: ranitidinas 50-100 mg per os, i/m, i/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eikio anestetikui sumažinima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Klonidinas 5 μg/kg peroraliai sukelia sedaciją, sumažina anestetikų poreikį, sumažina simpatinės nervų sistemos atsaką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rginių reakcijų profilaktika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rdies ir kraujagyslių lig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nokardija: ar ji buvo, kas ją skatina, trukmė, priepuolį nutraukiantys vaistai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irgti miokardo infarktai, liekamieji reiškiniai po to. Planines operacija saugiausia atlikti p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ėjus 6mėn po persirgto M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zino krūvio tolerancija. Vertinama pagal NYHA klasifikaciją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ydoma arba netinkamai gydoma arterinė hipertenzija (diastolinis AKS nuolat yra &gt;110mmHg) didina anestezijos riziką, nes galimi AKS svyravimai, aritmijos, insultas, miokardo išemija. AKS iki operacijos vaistais būtina sureguliuoti iki 160-170/95mmHg ribų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oniai, nuolat vartojantys antikoaguliantus. Prieš operacij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go veikimo antikoaguliantai nutraukiami, 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kamas tik heparina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Y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lasė – normalus fizinis krūvis nesukelia nuovargio, oro trūkumo ar širdies plakimo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klasė – ramybės metu savijauta gera; tik sunkus fizinis krūvis sukelia nuovargį, oro trūkumą, širdies plakimą ar skausmą krūtinėje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klasė – vidutinis fizinis krūvis sukelia nuovargį, oro trūkumą, širdies plakimą ar skausmą krūtinėje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klasė – bet koks fizinis aktyvumas sukelia nemalonų pojūtį krūtinėje; pasireiškia dusuliu, tachikardija, stenokardija; požymiai išlieka ir ramybėje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ėpavimo sistemos lig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sulys ir skrepliavi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sul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minė kvėpavimo takų infekcija (sloga, prikimęs balsas, skausmas gerklėj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ėtinė obstrukcinė plaučių lig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kcija į fizinį krūvį. Paciento prašoma atsakyti į šiuos klausimus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gali užlipti laiptais nesustodamas ir į kurį aukštą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)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 gali nubėgti 20-30 metrų?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os lig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mplės išvarža – padidėjęs regurgitacijos ir aspiracijos pavoju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matas – vartoja hormonus, yra anemiški, mažai judrū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betas – padidėjus IŠL rizika, inkstų funkcijos nepakankamumas, pooperacinė infekcij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vų ir raumenų ligos – ribotas miorelaksantų naudojima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ėtinis inkstų funkcijos nepakankamumas – būdinga anemija, elektrolitų disbalansas, prailgėjęs vaistų išskyrima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lta – galimi krešumo sutrikimai, prailgėjęs medikamentų išskyrim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lepsija – anestetikai (metoheksitalis, enfluranas) gali skatinti traukuliu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eimyninė anamnezė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veldimos ligos (hemofilija, porfirija, miastenija, miotonija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iškios priežasties mirtis operacijos metu (g.b. piktybinė hipertermija)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rginė anamnezė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entą būtina paklausti ar alergines reakcijas sukelia antibiotikai, vietiniai anestetikai, analgetikai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iniai veiksnia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ūkymas – su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as oksihemoglobino ir padidintas karboksihemoglobino kiekis; galima tachikardija, hipertenzija, miokardo išemij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oholis – kepenų funkcijos sutrikimai, sutrikusi anestetikų tolerancija, delyras pooperaciniame periode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ėštumas – pirmais mėnesiais anestezija ir operacija padidina savaiminio aborto riziką. Paskutiniais mėnesiais didesnė regurgitacijos ir aspiracijos rizik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1T07:19:31Z</dcterms:created>
  <dc:creator>Antanas</dc:creator>
  <dc:description/>
  <dc:language>en-US</dc:language>
  <cp:lastModifiedBy>Antanas</cp:lastModifiedBy>
  <dcterms:modified xsi:type="dcterms:W3CDTF">2004-01-21T07:37:05Z</dcterms:modified>
  <cp:revision>1</cp:revision>
  <dc:subject/>
  <dc:title>Ligonio paruošimas anestezijai</dc:title>
</cp:coreProperties>
</file>