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F56-8EB9-43D7-9266-BFE075B5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181-FA60-48AB-99CF-33D9C23D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CBD-1F5B-4617-8EFB-19F98ACE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594-9F24-41CE-8580-80EB172A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5C0C-D7D4-47EE-B4D7-D1AEDA3B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BC52-DDDA-48DB-9CDD-A86B6A63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52F3-5125-40A2-9399-AAF2DBD6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36CE-94BE-4BC5-81ED-51EE4D97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9593-BDFB-4A33-8014-D6C865BB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A796-5DD5-495F-9EE9-6562E37C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DFED-8B9C-4265-ACDB-77435A4E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C8F-A37A-4E10-BBCA-AB042FA9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FC43-CE7C-440D-A686-DC11D15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D43C-3423-4691-BCE4-18EBACC0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9E83-49DB-486F-B7E9-1816EF59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F98E-8020-4FFA-82A0-1E6F67E2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294A-AF52-48A7-A586-BE4CDBDA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B9C-3B2C-4EB7-8EF6-4C3C4BF5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E76-C7E1-45B1-A9FF-C46BD88E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242-E197-45D9-AB43-48885384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FA2-8E6E-4CCD-A847-B94B8F85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849-54A8-4ADF-BDDE-C44D24F8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403-E17C-47F3-863A-47A174E1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8388-7FCB-469A-95CF-B2880135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AB2C-FD2C-41B0-BCB1-2BACB5FD24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0BE6-DB49-4FA2-854D-BC5D3C9F75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000000"/>
                </a:solidFill>
                <a:latin typeface="Verdana"/>
              </a:rPr>
              <a:t>Vadybos teori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jo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E476-71F8-432D-93FD-F5445BD2004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Teorija „Z“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technikos: sprendimų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Dinamiškų santykių požiūris į vadybos moksl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uotinės kokybės vadybos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9E4-4ACE-4E48-8462-8EA396F8BC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Pokyčių ir inovacijų valdym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Naujos sąlygos valdymui: vadybos mokslo ateiti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29E-8A17-41E1-AC23-CD9FE30583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EGZAMINAS (13-26 temo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Testas sudarytas iš teorinių klausimų ir situacijos analizių (uždavinių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Egzaminas vyksta raš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Konsultacijos teikiamos teorinių paskaitų ir pratybų me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akartotinas atsiskaitymas skiriamas pagal numatytą egzaminų perlaikymo savaitės tvarkaraštį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50 proc. galutinio pažym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FB6-502F-4457-95E4-6EBE6A14A9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varan</a:t>
            </a: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kiškas dar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</a:rPr>
              <a:t>Individualūs užduočių pristatymai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atliekami pasirinktomis temomis, suderintomis su dalyko dėstytoj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as atliekamas PowerPoint formate, pateikiant pristatymo skaidres, atspausdintas po dvi A4 formato lapuos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as atliekamas auditorijoje pratybų me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o trukmė 10-15 mi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įtaka galutiniam pažymiui - 10 proc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26B-9954-414A-AE78-DFEDC57332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varan</a:t>
            </a: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kiškas dar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ų darbas (grupinė užduotis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šomas pasirinktinai pagal dėstytojo pateiktas temas, suderinus jas su dėstytoju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itinio pobūdžio studija, kurioje turi dominuoti analitinis stilius, išreiškiantis autorių nuomonę į tyrinėjamą tematiką bei kitų autorių atliktus pastebėjimus ir tyrimu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ekama grupėse po 3-4 studentu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kiamas raštu iki 14 studijų savaitės (iki gegužės 07d.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16 savaitę vyks namų darbų pristatymai, parengti PowerPoint formate. Pristatymo trukmė 10-15m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atliekamas tokiu būdu: (50 proc. darbas pateiktas raštu ir 50 proc. – pristatymas. Konsultacijos teikiamos pratybų metu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2F5-519E-4CD0-8B2A-DA9950C2E7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Atsiskaity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" y="2057400"/>
            <a:ext cx="8762760" cy="3987720"/>
            <a:chOff x="228600" y="2057400"/>
            <a:chExt cx="8762760" cy="3987720"/>
          </a:xfrm>
        </p:grpSpPr>
        <p:grpSp>
          <p:nvGrpSpPr>
            <p:cNvPr id="114" name=""/>
            <p:cNvGrpSpPr/>
            <p:nvPr/>
          </p:nvGrpSpPr>
          <p:grpSpPr>
            <a:xfrm>
              <a:off x="236520" y="2062080"/>
              <a:ext cx="8745840" cy="3978360"/>
              <a:chOff x="236520" y="2062080"/>
              <a:chExt cx="8745840" cy="397836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36520" y="2062080"/>
                <a:ext cx="4754880" cy="914400"/>
                <a:chOff x="236520" y="2062080"/>
                <a:chExt cx="4754880" cy="9144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52440" y="2062080"/>
                  <a:ext cx="45230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tsiskaitymo (užduoties) tip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36520" y="2062080"/>
                  <a:ext cx="47548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991760" y="2062080"/>
                <a:ext cx="1242720" cy="914400"/>
                <a:chOff x="4991760" y="2062080"/>
                <a:chExt cx="1242720" cy="9144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107680" y="2062080"/>
                  <a:ext cx="10112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m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991760" y="2062080"/>
                  <a:ext cx="12427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234840" y="2062080"/>
                <a:ext cx="1189080" cy="914400"/>
                <a:chOff x="6234840" y="2062080"/>
                <a:chExt cx="1189080" cy="914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350760" y="2062080"/>
                  <a:ext cx="95760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š viso valandų, val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234840" y="2062080"/>
                  <a:ext cx="1189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7424280" y="2062080"/>
                <a:ext cx="1558080" cy="914400"/>
                <a:chOff x="7424280" y="2062080"/>
                <a:chExt cx="1558080" cy="914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539840" y="2062080"/>
                  <a:ext cx="13262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Įtaka pažymiui, proc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24280" y="2062080"/>
                  <a:ext cx="1558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36520" y="2976480"/>
                <a:ext cx="4754880" cy="609480"/>
                <a:chOff x="236520" y="2976480"/>
                <a:chExt cx="4754880" cy="6094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52440" y="297648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dividualūs užduočių pristatyma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6520" y="297648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991760" y="2976480"/>
                <a:ext cx="1242720" cy="609480"/>
                <a:chOff x="4991760" y="2976480"/>
                <a:chExt cx="1242720" cy="609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107680" y="297648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991760" y="297648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234840" y="2976480"/>
                <a:ext cx="1189080" cy="609480"/>
                <a:chOff x="6234840" y="2976480"/>
                <a:chExt cx="1189080" cy="6094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350760" y="297648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234840" y="297648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424280" y="2976480"/>
                <a:ext cx="1558080" cy="609480"/>
                <a:chOff x="7424280" y="2976480"/>
                <a:chExt cx="1558080" cy="609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539840" y="297648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424280" y="297648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36520" y="3585960"/>
                <a:ext cx="4754880" cy="609840"/>
                <a:chOff x="236520" y="3585960"/>
                <a:chExt cx="4754880" cy="609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52440" y="3585960"/>
                  <a:ext cx="45230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mų darbai (grupinės užduoty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6520" y="3585960"/>
                  <a:ext cx="47548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991760" y="3585960"/>
                <a:ext cx="1242720" cy="609840"/>
                <a:chOff x="4991760" y="3585960"/>
                <a:chExt cx="1242720" cy="609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107680" y="3585960"/>
                  <a:ext cx="1011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991760" y="3585960"/>
                  <a:ext cx="12427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234840" y="3585960"/>
                <a:ext cx="1189080" cy="609840"/>
                <a:chOff x="6234840" y="3585960"/>
                <a:chExt cx="1189080" cy="609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350760" y="3585960"/>
                  <a:ext cx="957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234840" y="3585960"/>
                  <a:ext cx="11890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424280" y="3585960"/>
                <a:ext cx="1558080" cy="609840"/>
                <a:chOff x="7424280" y="3585960"/>
                <a:chExt cx="1558080" cy="6098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539840" y="3585960"/>
                  <a:ext cx="1326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24280" y="3585960"/>
                  <a:ext cx="15580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36520" y="4195800"/>
                <a:ext cx="4754880" cy="609480"/>
                <a:chOff x="236520" y="4195800"/>
                <a:chExt cx="4754880" cy="6094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52440" y="419580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arpinis egzam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36520" y="419580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991760" y="4195800"/>
                <a:ext cx="1242720" cy="609480"/>
                <a:chOff x="4991760" y="4195800"/>
                <a:chExt cx="1242720" cy="6094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107680" y="419580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91760" y="419580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234840" y="4195800"/>
                <a:ext cx="1189080" cy="609480"/>
                <a:chOff x="6234840" y="4195800"/>
                <a:chExt cx="1189080" cy="6094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350760" y="419580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234840" y="419580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424280" y="4195800"/>
                <a:ext cx="1558080" cy="609480"/>
                <a:chOff x="7424280" y="4195800"/>
                <a:chExt cx="1558080" cy="609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7539840" y="419580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24280" y="419580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36520" y="4805280"/>
                <a:ext cx="4754880" cy="609480"/>
                <a:chOff x="236520" y="4805280"/>
                <a:chExt cx="4754880" cy="609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52440" y="480528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alutinis egzaminas</a:t>
                  </a:r>
                  <a:r>
                    <a:rPr b="0" lang="lt-LT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36520" y="480528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91760" y="4805280"/>
                <a:ext cx="1242720" cy="609480"/>
                <a:chOff x="4991760" y="4805280"/>
                <a:chExt cx="1242720" cy="609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107680" y="480528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91760" y="480528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6234840" y="4805280"/>
                <a:ext cx="1189080" cy="609480"/>
                <a:chOff x="6234840" y="4805280"/>
                <a:chExt cx="1189080" cy="609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350760" y="480528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34840" y="480528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424280" y="4805280"/>
                <a:ext cx="1558080" cy="609480"/>
                <a:chOff x="7424280" y="4805280"/>
                <a:chExt cx="1558080" cy="609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539840" y="480528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424280" y="480528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236520" y="5414760"/>
                <a:ext cx="4754880" cy="625680"/>
                <a:chOff x="236520" y="5414760"/>
                <a:chExt cx="4754880" cy="6256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52440" y="5414760"/>
                  <a:ext cx="45230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š viso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6520" y="5414760"/>
                  <a:ext cx="47548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991760" y="5414760"/>
                <a:ext cx="1242720" cy="625680"/>
                <a:chOff x="4991760" y="5414760"/>
                <a:chExt cx="1242720" cy="625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107680" y="5414760"/>
                  <a:ext cx="10112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91760" y="5414760"/>
                  <a:ext cx="1242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234840" y="5414760"/>
                <a:ext cx="1189080" cy="625680"/>
                <a:chOff x="6234840" y="5414760"/>
                <a:chExt cx="1189080" cy="6256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350760" y="5414760"/>
                  <a:ext cx="95760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234840" y="5414760"/>
                  <a:ext cx="11890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7424280" y="5414760"/>
                <a:ext cx="1558080" cy="625680"/>
                <a:chOff x="7424280" y="5414760"/>
                <a:chExt cx="1558080" cy="6256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7539840" y="5414760"/>
                  <a:ext cx="13262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24280" y="5414760"/>
                  <a:ext cx="15580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228600" y="2057400"/>
              <a:ext cx="8762760" cy="3987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693-6CA8-420D-A6FE-5BA64567367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Literatūra (pagrindinė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ames A.F. Stoner, R.Edward Freman, Daniel R. Gilbert, Jr. Vadyba. Kaunas, Poligrafija ir informatika, 1999. 660 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vilas Zakarevičius, Vadyba: genezė, dabartis, tendencijos. Kaunas, Vytauto Didžiojo universiteta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. 225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raim Turban, Jack Meredith, Fundamentals of management science. Irwin, 1991. 1010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nius Neverauskas, Jonas Rastenis, Vadybos pagrindai. Kaunas, Technologija, 2001. 143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iel A. Wren, The Evolution of Management Thought, John Wiley &amp; Sons, Inc. 1994. 466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BB5-DD07-4484-879A-C47282B1DF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Literatūra (papildom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Ramon J. Aldag,Timothy M. Stearns, Management. Cincinati, South-Western Publishing, 1991. 800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G.A. Cole, Management: Theory and Practice. London, Letts, 1996. 462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Fabijonas Saulius Butkus. Organizacijos ir vadyba. Vilnius, Alma Litera, 1996. 158 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Jonas Kvedaravičius. Graičiūno vieta ir reikšmė vadybos raidoje. Kn.: Organizacijų vadyba: sisteminiai tyrimai, Nr.8. Kaunas, VDU. 1998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Michael H. Mescon, Michale Albert, Franklin Khedouri. Management. New York, Harper and Row Publishers, 1992. 700 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85B-B359-449F-BE9A-4394A3F262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iksl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2111040"/>
            <a:ext cx="7851600" cy="387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supažindinti su vadybos moks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suteikti teorines žinias apie vadybos mokslo raid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ugdyti įgūdžius, įgalinančius analizuoti vadybos mokslo raidos tendencij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426-5733-4AAF-9979-C16267AB0F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iksl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Verdana"/>
              </a:rPr>
              <a:t>pažinti ir vertinti vadybos įtaką organizacijų ir pasaulio ekonomikos plėtr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Verdana"/>
              </a:rPr>
              <a:t>pritaikant vadybos mokslinės minties istorinę patirtį, formuoti vadybos mokslo principų vieningą suvokim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100-C33D-4E82-93B9-3D4FC7D4D9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ištakos: ankstyvieji strateg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organizacijų  valdy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kslinio valdymo mokykla: F. Taylor vadybos princip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kslinio valdymo teorijos raida ir reikšmė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757-7830-41AF-AA25-4EF2F2477E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organizacijos teorijos mokykla: H. Fayol vadybos princip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as Lietuvoje: V. Graičiūno indėlis į klasikinės organizacijos teorijos raid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. Weber idealaus biurokrat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sociopsichologinė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38A-E15A-45CD-A91D-E3C99269BB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Žmogiškųjų santykių teorija: Hawthorne eksperimenta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Bihevioristinė mokykla: veiklos ir elgsenos motyvavi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Lyderiavi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Grupių elgseno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258-12DE-4C3F-B39B-4F0C88520A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Tarpinis egzaminas (1-12 tem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Testas, sudarytas iš teorinių klausimų ir situacijos analizių (uždavinių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Atsiskaitymas vyksta raš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Konsultacijos teikiamos teorinių paskaitų ir pratybų metu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30 proc. galutinio pažym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BC1-6C0A-4FA0-8122-2AD21BDFA9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isuotinis dalyvavimas valdyme: partisipatyvinė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mokykla: kiekybinės valdy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Integratyvaus valdymo mokykl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Profesionalaus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B88-39B8-4314-AFE6-40EF507F42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derniosios vadybo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istem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ituatyv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trateginio valdymo teorij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D36-025B-42C7-BC4D-19DAA8497A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4:06Z</dcterms:modified>
  <cp:revision>17</cp:revision>
  <dc:subject/>
  <dc:title>Introduction to Management</dc:title>
</cp:coreProperties>
</file>