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3CB-321E-4275-89DE-C886FA68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30B-D02F-4EF4-9561-FDC451A7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4BB-BC7C-48E2-81AB-3C7C6100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549-69B5-4BFD-94B8-836C8C48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A067-4405-466C-A1D8-71938ED8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CD2D-9B0E-48C7-A9A7-18092479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7F7F-2077-49C8-8AF8-C97346CC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96FC-D713-444E-8B97-F27EFE35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6F3A-9C1B-4728-802D-25B7CC6B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E53C-45B9-43E8-ADF3-AE86C4B4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A337-D547-4B2E-B304-D7E3BE1E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1A7-FE13-46DF-B118-8341B30B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7FC3-AA97-49C2-9C7A-50523766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8469-7787-44A3-BE8D-60A062A0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77A9-E5AA-419A-8011-4F38FB61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4196-5EBD-4B6D-9773-1F71C37B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6AD3-1B56-446B-9F21-39B6411F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64E-41BF-422B-98CF-5BB454B3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40A2-E07C-48B4-9C5E-1359D9D2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A09-A4EB-4AE4-B938-A17289CE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963C-469A-46AF-B8B8-C6B81E5A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5DF-BF20-4016-956E-455E7123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05F-A212-4DC1-B1FD-5E77294C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B00-1DCA-408A-9803-8F7F06C1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1189-96F0-4834-BAD6-B4E974F1A3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26F4-03E9-4DC6-AF70-D88D3418ED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samprata ir kategorij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42B6-0253-4879-B299-AD17132391F5}" type="slidenum">
              <a:t>1</a:t>
            </a:fld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rezultat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100" spc="-1" strike="noStrike">
                <a:solidFill>
                  <a:srgbClr val="000000"/>
                </a:solidFill>
                <a:latin typeface="Tahoma"/>
              </a:rPr>
              <a:t>VALDYMO PRINCIPAI IR METODAI 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700" spc="-1" strike="noStrike">
                <a:solidFill>
                  <a:srgbClr val="000000"/>
                </a:solidFill>
                <a:latin typeface="Tahoma"/>
              </a:rPr>
              <a:t>socialinėje organizacijoj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D7C-904F-4971-BBCF-01E1A4D35279}" type="slidenum">
              <a:t>10</a:t>
            </a:fld>
          </a:p>
        </p:txBody>
      </p:sp>
    </p:spTree>
  </p:cSld>
  <p:transition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OS PRINCIP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rindinės taisyklės, elgesio normos, teiginiai, kuriais(iomis) remiantis reiktų atlikti valdymo veiklą organizacijose (efektyviai ir efektingai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8CA-AFE0-4F84-AC36-7EC02E649674}" type="slidenum">
              <a:t>11</a:t>
            </a:fld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OS PRINCIPŲ KLASIFIKAVI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al formuluojamų taisyklių pobūdį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rašomieji (rekomendacin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rodomieji (normatyvin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al apimamų (vadybos) sričių platumą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ndrie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nkretū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0379-B354-4B87-A855-48AB5203CFF6}" type="slidenum">
              <a:t>12</a:t>
            </a:fld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91440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D5AC-A4A0-46D6-8E72-C5483E8E88DB}" type="slidenum">
              <a:t>13</a:t>
            </a:fld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pecifinė darbinės veiklos rūš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Procesas, apimantis konkrečias stadij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Tikslinė veikl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eikla, pagrįsta išteklia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eikla, orientuota į rezultatą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Cikliška veikl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806-C566-4871-B9E8-3EE9972B4BD1}" type="slidenum">
              <a:t>14</a:t>
            </a:fld>
          </a:p>
        </p:txBody>
      </p:sp>
    </p:spTree>
  </p:cSld>
  <p:transition>
    <p:split dir="out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OCIALINĖ ORGANIZACI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truktūrizuota žmonių grupė, siekianti bendrų tikslų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prielaida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Atvira sistema: vidinė ir išorinė aplink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usideda iš valdymo ir valdomosios posistemių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5AB-5DCA-4243-89D3-8211DF3DFF05}" type="slidenum">
              <a:t>15</a:t>
            </a:fld>
          </a:p>
        </p:txBody>
      </p:sp>
    </p:spTree>
  </p:cSld>
  <p:transition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OCIALINĖS ORGANIZACIJOS APLINK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ahoma"/>
              </a:rPr>
              <a:t>TIESIOGINIO POVEIK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idiniai veiksni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Išoriniai veiksni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ahoma"/>
              </a:rPr>
              <a:t>NETIESIOGINIO POVEIK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637-F28E-4CE1-86C6-CC6B7B511F51}" type="slidenum">
              <a:t>16</a:t>
            </a:fld>
          </a:p>
        </p:txBody>
      </p:sp>
    </p:spTree>
  </p:cSld>
  <p:transition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FUNKCIJ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veiklos turiny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Darbo pasidalijimo valdyme rezultat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avarankiškos valdymo veiklos daly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Objektyvios, specializuotos valdymo veiklo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veiklų atlikimas valdymo srityse sudaro valdymo veiklos turinį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8DE-9532-42FC-B0BC-C9C0AC048598}" type="slidenum">
              <a:t>17</a:t>
            </a:fld>
          </a:p>
        </p:txBody>
      </p:sp>
    </p:spTree>
  </p:cSld>
  <p:transition>
    <p:split dir="out" orient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VALDYMO PERSONALA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Valdymo veiklos subjekta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Žmonės, atliekantys valdymo veikl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CD6-0EF0-4900-9749-BA692232D1D5}" type="slidenum">
              <a:t>18</a:t>
            </a:fld>
          </a:p>
        </p:txBody>
      </p:sp>
    </p:spTree>
  </p:cSld>
  <p:transition>
    <p:split dir="out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PERSONAL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DOVAI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PECIALIST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APTARNAUJANTIS PERSONALA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7E1-9595-47F2-A984-88B895AC4F7F}" type="slidenum">
              <a:t>19</a:t>
            </a:fld>
          </a:p>
        </p:txBody>
      </p:sp>
    </p:spTree>
  </p:cSld>
  <p:transition>
    <p:split dir="out" orient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3880" y="2363400"/>
            <a:ext cx="7629480" cy="374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siaiškinti vadybos sampratą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siaiškinti vadybos mokslo tikslus, objektą ir rezul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rėžti vadybos mokslo terminij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2C2-97C4-40C1-A08A-01094FBE0D89}" type="slidenum">
              <a:t>2</a:t>
            </a:fld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METOD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veiklos</a:t>
            </a: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 atlikimo būd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Konkretizuoja valdymo veiklą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Pagrįsti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funkcij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sr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dov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dovavimo stilia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dybos mokslo rezultat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776-E751-4EB9-8F73-F1D495DE536E}" type="slidenum">
              <a:t>20</a:t>
            </a:fld>
          </a:p>
        </p:txBody>
      </p:sp>
    </p:spTree>
  </p:cSld>
  <p:transition>
    <p:split dir="out" orient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ORGANIZACINĖ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DYMO </a:t>
            </a: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STRUKTŪRA (OV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veiklos</a:t>
            </a: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 atlikimo form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Konkretizuoja valdymo veiklą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Charakteristika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Santykinai savarankiški elementa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funkcijų pasidalijim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Formalių ryšių visum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grandžių ir lygių visum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Organizacijos veiklų koordinavim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8CF-C7AF-460D-89FF-8AB082C96847}" type="slidenum">
              <a:t>21</a:t>
            </a:fld>
          </a:p>
        </p:txBody>
      </p:sp>
    </p:spTree>
  </p:cSld>
  <p:transition>
    <p:split dir="out" orient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Klausimai diskusij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44760" y="2017440"/>
            <a:ext cx="38098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uo skiriasi “vadyba” nuo “valdymo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a mokslas ar men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BD04924_" descr=""/>
          <p:cNvPicPr/>
          <p:nvPr/>
        </p:nvPicPr>
        <p:blipFill>
          <a:blip r:embed="rId1"/>
          <a:stretch/>
        </p:blipFill>
        <p:spPr>
          <a:xfrm>
            <a:off x="1562040" y="2017800"/>
            <a:ext cx="3051360" cy="377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6FC-7BFE-469D-9513-8865F351D2FA}" type="slidenum">
              <a:t>22</a:t>
            </a:fld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A mokslas ar mena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sl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omasi iš vadovėlių, mokytojų ir aplinkos (IŠSILAVINIM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ritaikomas mokslas kintant sąlygoms (PATIRT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slo ir meno vertė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inių ir patirties sintezė įgalinanti prognozuoti ateities įvyki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0A3-4F4B-4635-A018-AF164CE5DEAD}" type="slidenum">
              <a:t>23</a:t>
            </a:fld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Arial"/>
              </a:rPr>
              <a:t>Kodėl studijuoti vadybą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prasti kaip organizacijos valdom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irengti valdyti arba būti valdom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BD06663_" descr=""/>
          <p:cNvPicPr/>
          <p:nvPr/>
        </p:nvPicPr>
        <p:blipFill>
          <a:blip r:embed="rId1"/>
          <a:stretch/>
        </p:blipFill>
        <p:spPr>
          <a:xfrm>
            <a:off x="1182600" y="2422440"/>
            <a:ext cx="381024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0FA-1153-4EF1-8746-92B3A35F6AC5}" type="slidenum">
              <a:t>24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A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 –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.A. Graičiūnas, 1935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.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mokslinė vadybos ir visuminė valdymo veiklos sampra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A43-E2B6-4031-9975-5DA50FC1F0F0}" type="slidenum">
              <a:t>3</a:t>
            </a:fld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686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Keturios “</a:t>
            </a:r>
            <a:r>
              <a:rPr b="1" lang="lt-LT" sz="4000" spc="-1" strike="noStrike">
                <a:solidFill>
                  <a:srgbClr val="333399"/>
                </a:solidFill>
                <a:latin typeface="Tahoma"/>
              </a:rPr>
              <a:t>vadybos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”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management)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amprato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53452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os nariai, kurie priima esminius sprendimus susijusius su organizacijos veikla. (Šiuo atveju priimtina tik Amerikos vadybinėje kalboj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inios, sukauptos mokslinių tyrimų ir praktinių stebėjimų met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755-7B40-4840-8F0C-282DE9B6B89D}" type="slidenum">
              <a:t>4</a:t>
            </a:fld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686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Keturios “</a:t>
            </a:r>
            <a:r>
              <a:rPr b="1" lang="lt-LT" sz="4000" spc="-1" strike="noStrike">
                <a:solidFill>
                  <a:srgbClr val="333399"/>
                </a:solidFill>
                <a:latin typeface="Tahoma"/>
              </a:rPr>
              <a:t>vadybos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”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management)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amprato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3)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aktinis mokslinių studijų taikymas specifinių vadybinių problemų sprendimu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4)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os veiklų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planavimo, organizavimo, vadovavimo ir kontrolė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procesas sisteminiu būdu siekiant organizacijos tikslų. (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šaltini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 Ramon J. Aldag, Timothy M. Stearns, Management, 1991 South Western Publishing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ai klasikinė samprata reiškianti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minę organizacijos valdymo veiklą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00F-A10F-4790-9979-9F85F35E3868}" type="slidenum">
              <a:t>5</a:t>
            </a:fld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8029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vi 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“VADYBOS”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ampratos pu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ė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apsmas vadovu priklauso nuo vadybinių žinių ir praktinių įgūdžių. …šiuo atveju galima kalbėti apie “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” kaip apie mokslą (discipliną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adovo veikla gali būti sistemiškai analizuojama ir klasifikuojama. …aišku, kad reikia iškirti profesinius ir mokslinius “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” aspekt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šaltini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Peter F. Druker An Introductory View of Management, 197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2DD-1E9D-4240-BFA7-18134FB15FE8}" type="slidenum">
              <a:t>6</a:t>
            </a:fld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Mokslas apie socialinių organizacijų, sistemų valdym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Praktinių valdymo metodų ir tradicijų, būdingų kokiam nors istoriniam laikotarpiui ar šaliai, visuma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BCB-9E53-41A1-9CA9-542DFF97CC22}" type="slidenum">
              <a:t>7</a:t>
            </a:fld>
          </a:p>
        </p:txBody>
      </p:sp>
    </p:spTree>
  </p:cSld>
  <p:transition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Suformuoti efektyvius valdymo metodu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Nurodyti efektingas organizacijos plėtros krypti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Padėti organizacijoms prisitaikyti prie dinamiškai kintančios aplinkos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789-1DD2-4041-840E-8490257B358B}" type="slidenum">
              <a:t>8</a:t>
            </a:fld>
          </a:p>
        </p:txBody>
      </p:sp>
    </p:spTree>
  </p:cSld>
  <p:transition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objekt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100" spc="-1" strike="noStrike">
                <a:solidFill>
                  <a:srgbClr val="000000"/>
                </a:solidFill>
                <a:latin typeface="Tahoma"/>
              </a:rPr>
              <a:t>VALDYMO VEIKLA 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700" spc="-1" strike="noStrike">
                <a:solidFill>
                  <a:srgbClr val="000000"/>
                </a:solidFill>
                <a:latin typeface="Tahoma"/>
              </a:rPr>
              <a:t>socialinėje organizacijoj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35D-3B47-4DBD-9161-B6C986763A6A}" type="slidenum">
              <a:t>9</a:t>
            </a:fld>
          </a:p>
        </p:txBody>
      </p:sp>
    </p:spTree>
  </p:cSld>
  <p:transition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3:40Z</dcterms:modified>
  <cp:revision>22</cp:revision>
  <dc:subject/>
  <dc:title>Introduction to Management</dc:title>
</cp:coreProperties>
</file>