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480-1AA1-4A12-9FED-C6BC0775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66F-4137-41C4-BB9D-624BE767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767-20AB-4211-9E7D-13447C54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03A-8568-4089-8148-AE89E41B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81CE-EEB7-438A-A84D-C213837A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B8FF-11E3-4F36-ABA0-6F0C723A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EF32-70A8-4843-A38B-447829F7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26B0-49F0-4ACE-8B79-B069CBA4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24A3-5C63-4593-9133-CF604710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A851-F7D8-488E-9391-4B6A6A81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BA9B-D59E-4245-BDE7-29AA00A9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730-6311-411E-9233-1B34033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3FC6-8526-4AFE-9A64-70B48403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6EEE-24F2-404B-9665-3F0AD893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A3A5-18D3-4607-B4EC-4F7DE61C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51F4-E7DC-48BC-BCBF-4304B522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A95E-3B88-44EC-B324-BA2C0F5F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9B7-AC7E-425D-BEBA-AE12D16E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520-459C-4C71-B58F-A1D5425D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237-07D0-4481-90BC-CEF0BEF1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412-CF9C-47C9-B68B-E4B29C3A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096-0630-4CC2-9220-C60577E3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BC3-0747-4F0A-A816-59C34630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84F-B919-4957-A1C3-C0C983CB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E221-4C4E-4FF8-B4F5-582BBA1950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2547-824A-4D1F-A03B-2681183CA1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F723-2D6A-4BA9-B4C6-2DF3621A0B0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nės valdymo struktūros svarba (T. Burns, G. Stalk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6460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irmą kartą vadyboje panaudoti terminai: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ir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valdymo struktūr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yra labiau biurokratizuota, aiškiai nustatytos padalinių funkcijų ribos, reglamentuota veikla taisyklėmis. Tokia struktūra yra “kieta” ir nelankst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abiau grįsta žmogiškaisiais santykiais, funkcijas derinant prie kompetencijų, lanksčiai reaguojant į aplinkos pokyčius ir organizacijos poreikiu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DEF-EE4C-4131-8E91-884D3B2233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kirtingi požiūriai į organizacijos  struktūr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057400"/>
            <a:ext cx="20574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819520"/>
            <a:ext cx="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2767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819520"/>
            <a:ext cx="228600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Ai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hierarc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733920"/>
            <a:ext cx="2286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ustaty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re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57200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638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10080"/>
            <a:ext cx="22860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553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6324480"/>
            <a:ext cx="22860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81080"/>
            <a:ext cx="205740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514600"/>
            <a:ext cx="0" cy="4114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819520"/>
            <a:ext cx="259056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Bendradarbi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33920"/>
            <a:ext cx="25905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taik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b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i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4572000"/>
            <a:ext cx="259056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5410080"/>
            <a:ext cx="25146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e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400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6248520"/>
            <a:ext cx="25905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B16-33EE-486F-A530-64EBDF94F7F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12960" y="16765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981080"/>
            <a:ext cx="5267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rbuotojų charakteristi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438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silav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276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dovavimo stil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6576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-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19112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rjeros lūkesč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1148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49568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495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02920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gūdž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33412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525780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7564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i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609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60199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4AC-0E83-4426-BC9B-F8AF6AD616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70160" y="18702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9000" y="1870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5040" y="2708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Y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5800" y="316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19200" y="316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8862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30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LEK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520" y="4994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917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57913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F1E-5D48-46B5-A423-C46DA4D30E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šor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217476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2680" y="21747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93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KLAUSOM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0520" y="3394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0600" y="3470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4038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OLOG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572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utinin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sikeičianč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334120"/>
            <a:ext cx="46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INKOS DINA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832360"/>
            <a:ext cx="10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2400" y="5756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44D-E0DE-48D6-89B0-50757B61B2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aplinkos įtaka organizacijos valdymui bei vadybos metodų būtinybė prisitaikant prie besikeičiančios aplink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leista struktūros įtaka ir galimybės organizacijai prisitaikant prie aplinkos pokyči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os mechanistinės ir organinės organizacijos koncepcijos bei jų įtaka organizacijos gebėjimams reaguoti į aplinkos pokyč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B5E-360A-455A-A936-33A90D7E73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D59-A824-4E2D-951B-60F880BDEF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etodų nelankstumas bei taikymo ribotumai skatino ieškoti naujų vadybos princip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latinė situacijų kaita sąlygojo poreikį ieškoti metodų, leidžiančių valdyti organizacijos tokių pokyčių konteks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FB2-29D1-477F-96DB-EB05749DA9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CE6-122E-477E-A8CB-2C26FEA041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P. Lawr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Lors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R Mockl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. Bur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G. Stalker ir ki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E1D-3FA7-484D-BC06-2F6D4B4230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cijų analizės princip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id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diferenciacijos (atskirų organizacijos struktūrinių padalinių įtakos situacijai) ir integracijos (organizacijos kaip visumos galimybės įtakoti situaciją) lygio nustaty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Išor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išorės veiksnių įtakos nustatymas bei iš jos kylančių galimybių ir grėsmių įvertin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DC3-A27F-4268-9468-630FE99096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Diferenciacija / integracija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iferenci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sąlygota skirtingų padalinių specializacijos, požiūrių, tikslų, struktūrų  skirtingumų. Tai veiklos skirtingumų sąlygoti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Integr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adalinių bendradarbiavimo kokybės laipsn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 diferenciacijos ir integracijos laipsnio priklauso organizacijos galimybės reaguoti į aplinkos pokyčius ir valdyti situac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5C1-CC44-4B7B-9940-DF7DEFE312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yrimų išvados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namiškesnė aplinka tuo didesnio diferenciacijos ir integracijos laipsnio reikia sėkmei pasiek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tabilesnė aplinka reikalauja mažesnio diferenciacijos bet vis dar aukšto integracijos laipsn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desnis diferenciacijos laipsnis, tuo didesnė vidinių konfliktų grėsmė ir mažesnė jų sprendimo galimybė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Esant dideliam netikrumo laipsniui, integracija užtikrinama vidurinės grandies vadovų; esant stabiliai aplinkai, integracija užtikrinama aukščiausio lygio vadov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7C3-C9E4-4A4A-ACB0-C04D610124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tyvinio nagrinėjimo žingsni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R. Mockl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ituacijos diagno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priežasčių nustatymas ir tikslų formulav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riežasčių anali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įtakojančių veiksnių diferencijavimas ir įvertin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Veiksmų alternatyvų numa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galimų veiksmų būdų nustat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ternatyvų įvertinimas ir pasirink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tinkamo sprendimo surad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prendimo realizavimo plano sudar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D49-1453-488E-9BD9-DDDB558B56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0:19Z</dcterms:modified>
  <cp:revision>47</cp:revision>
  <dc:subject/>
  <dc:title>Introduction to Management</dc:title>
</cp:coreProperties>
</file>