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6640-4AB3-4925-A0CB-9DADDD14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9CA5-FDBE-4D51-8E6D-F2C51FF1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5745-B23B-413B-A857-A0953FB0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DC80-DCCA-4EE7-B923-EB22E37E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D1D2-E2E1-4371-936B-17D62EC3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0F30-AAE3-4023-BD94-767E3229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ECDC-FD4C-422B-BBCA-7F5EB50E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5B17-427E-491F-85CD-7272E611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1AEC-617B-4022-86EF-B25B0815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2688-C39E-41B3-B495-BAB5D234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A551-0276-499C-BD46-9606B50F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19BD-3A75-4B56-9C4A-9A160C64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4032-0060-4E83-A41F-5A69B824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701A-7985-4A1E-A7BB-5F8F5AAF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84B6-3BB8-4355-B3EC-6CAF7479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211A-99CC-4081-9BF3-008C91D8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DE81-6A7C-4C7C-8E18-0E5FE943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01CC-BE1E-4D5C-B3AD-C3E54E40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B8B2-A8EF-42F0-99D0-71E9FA60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45D2-91F5-4F75-AE7E-4585F335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F2E5-1F55-4629-8B6B-D93BBEC8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8F3B-3686-4A47-A988-B2DB1299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121E-390F-48E1-924D-8B049ADE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51D0-20A0-4B24-8DE9-6209DBC4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6DF5-423C-4645-96DA-CF3A3F89FF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22AF-E0F6-4D37-A0EA-BD323183D6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0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Sisteminė teorij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E373-03BF-4C0C-82BD-1200271E81F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ų – kaip atvirų sistemų charakteristiko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Grįžtamasis ryš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Balanso tarp veiklos ir aplinkos palaiky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Diferenciacija – veiklų specializacija ir vaidmenų multi-funkcišku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eiklų įvairovė – įvairūs būdai tikslams pasiekti. (“Equifinality” -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L. Bertalanfi, 194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Katz and Kahn, 1966m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EE26-0521-4A31-8AA9-90516058C3E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os veiklos kintamiej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Žmonė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Technologij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truktū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lin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973A-2091-4368-8017-23C05367CC2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Aplinkos charakteristikos</a:t>
            </a:r>
            <a:br>
              <a:rPr sz="4400"/>
            </a:b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Emery ir Trist (196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stovi, atsitiktinė – nekintanti ir homogeniška, poreikiai atsitiktinai išsibarstę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stovi, koncentruota - nekintanti, poreikiai koncentruo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intanti, reaktyvi – didelė konkurencija ir lanksti konkurentų reakcij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Dinamiška – sparčiai kintanti, reikalaujanti ypač didelio prisitaikomumo, kad išgyven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A200-8421-47F0-B18A-C0B4A148F80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Organizacija yra socialinė – ekonominė sistem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Socialinė sistem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žmonių grupė, kuriuos sieja bendri tikslai, interesai, bendradarbiavimo ryš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Ekonominė sistem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organizacija yra vieta, kur fizinio kapitalo santykio su darbo jėga rezultate gaunamas produktas, atnešantis ekonominę naud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9E7C-B567-4ED3-94D4-64645826507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os posistemės</a:t>
            </a:r>
            <a:br>
              <a:rPr sz="4400"/>
            </a:b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Katz ir Kahn (196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Gamyb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ramos (išteklių ir rezultatų paskirstymas, išoriniai ir vidiniai ryšia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tarnavimo (stabilumą užtikrinanti posistemė, darbuotojų darbo turinio nustatymas, atlygis ir pan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risitaikymo (gebėjimai atpažinti ir reaguoti į pokyčius, marketingas, tyrimai ir pan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ymo (koordinavimas ir kontrolė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2E85-0832-43AC-BF3F-65AE6637362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Organizacijos sisteminė sandar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Gamyb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gamybinei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Komerc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komercinei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Ekonom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finansinei - ekonominei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Techninė – technolog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techninei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Social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personalo valdymo ir darbo organizavimo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F8ED-FDF5-4A9A-B9F7-95A4A171583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Organizacijos sisteminis valdyma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2174400"/>
            <a:ext cx="84186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Valdymo sistem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integruotai vykdanti dvejopo pobūdžio funkcij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tskirų organizacijos procesų (posistemių) valdymo funkcija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Bendrąsias valdymo ciklo funkcijas (planavimas, organizavimas, vadovavimas, kontrolė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Valdomoji sistem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integruotai realizuojanti atskirus organizacijos proces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EEFE-F4F1-47C5-8EB0-8DB963A49AC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Nuopelnai vadybos mokslu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ritaikytas sisteminis požiūris organizacijų valdym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ryškinti esminiai sisteminio valdymo bruožai ir elementai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ibūdinta organizacija, kaip atvira sist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Įvardinti ir apibūdinti atviras sistemas įtakojantys veiksnia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Nustatytos ir apibrėžtos organizacijos posistemės ir jų sąveikos principa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9DC5-8164-4EF7-A1D9-81F6E4CBDCD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stemin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ės teorijos susiformavimo prielai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žvelgti nuopelnus vadybos mokslu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8F6E-F44A-45E8-9EC1-188F51A52EF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0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3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Išaugo organizacijų įvairovė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Globalių korporacijų valdymas iškėlė naujus vadybos iššūki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isteminio požiūrio populiarėjimas, analizuojant kitas, su vadyba nesusijusias srit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Organizacijų integracijos problemos skatino ieškoti naujų būd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B07E-8D9A-4137-9483-CFC8B17FBC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Sisteminė teorij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a yra atvira socialinė sistema sudaryta iš posistemių, kurių veikla tarpusavyje susijusi. Tik kiekvienai iš posistemių veikiant nepriekaištingai ir suderintai su kitomis posistemėmis organizacija, kaip sistema gali veikti efektyv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CE45-FF32-4564-B9EC-825B4305E0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Sistemos sampr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istema – tarpusavyje susijusių elementų visuma, veikiančių kar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Atvi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Užda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istemos dažnai dalomos į posistemes – autonomiškai veikiančias sistemas vienos sistemos viduje, užtikrinant visos sistemos gyvavim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osistemių ribos nėra matomos – jos yra pagrįstos ryšiais tarp posistemi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7FAA-E262-44B3-9316-E493787E45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41240" y="380880"/>
            <a:ext cx="7845480" cy="5607000"/>
          </a:xfrm>
          <a:prstGeom prst="ellipse">
            <a:avLst/>
          </a:prstGeom>
          <a:gradFill rotWithShape="0">
            <a:gsLst>
              <a:gs pos="0">
                <a:srgbClr val="23238d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2438280"/>
            <a:ext cx="1218960" cy="68580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5562720"/>
            <a:ext cx="609480" cy="4572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5562720"/>
            <a:ext cx="685800" cy="4572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57560" y="3851280"/>
            <a:ext cx="895320" cy="890640"/>
          </a:xfrm>
          <a:prstGeom prst="rightArrow">
            <a:avLst>
              <a:gd name="adj1" fmla="val 50000"/>
              <a:gd name="adj2" fmla="val 25150"/>
            </a:avLst>
          </a:prstGeom>
          <a:gradFill rotWithShape="0">
            <a:gsLst>
              <a:gs pos="0">
                <a:srgbClr val="7e7e32"/>
              </a:gs>
              <a:gs pos="50000">
                <a:srgbClr val="ffff66"/>
              </a:gs>
              <a:gs pos="100000">
                <a:srgbClr val="7e7e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5199120"/>
            <a:ext cx="457200" cy="86688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5199120"/>
            <a:ext cx="457200" cy="86688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629400" y="2962440"/>
            <a:ext cx="2133720" cy="2552400"/>
            <a:chOff x="6629400" y="2962440"/>
            <a:chExt cx="2133720" cy="2552400"/>
          </a:xfrm>
        </p:grpSpPr>
        <p:sp>
          <p:nvSpPr>
            <p:cNvPr id="116" name=""/>
            <p:cNvSpPr/>
            <p:nvPr/>
          </p:nvSpPr>
          <p:spPr>
            <a:xfrm>
              <a:off x="6629400" y="3494160"/>
              <a:ext cx="2133720" cy="202068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Produkta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Paslaug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Peln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Nuostol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29400" y="2962440"/>
              <a:ext cx="2133720" cy="55872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Rezultata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3520" y="2962440"/>
            <a:ext cx="2133360" cy="2552400"/>
            <a:chOff x="533520" y="2962440"/>
            <a:chExt cx="2133360" cy="2552400"/>
          </a:xfrm>
        </p:grpSpPr>
        <p:sp>
          <p:nvSpPr>
            <p:cNvPr id="119" name=""/>
            <p:cNvSpPr/>
            <p:nvPr/>
          </p:nvSpPr>
          <p:spPr>
            <a:xfrm>
              <a:off x="533520" y="3494160"/>
              <a:ext cx="2133360" cy="202068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Žmonė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Medžiag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Kapital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Duomeny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3520" y="2962440"/>
              <a:ext cx="2133360" cy="55872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Išteklia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09680" y="5746680"/>
            <a:ext cx="4876920" cy="42552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68360" y="5716440"/>
            <a:ext cx="475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rįžtamasis ryš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3871800"/>
            <a:ext cx="895320" cy="890640"/>
          </a:xfrm>
          <a:prstGeom prst="rightArrow">
            <a:avLst>
              <a:gd name="adj1" fmla="val 50000"/>
              <a:gd name="adj2" fmla="val 25150"/>
            </a:avLst>
          </a:prstGeom>
          <a:gradFill rotWithShape="0">
            <a:gsLst>
              <a:gs pos="0">
                <a:srgbClr val="7e7e32"/>
              </a:gs>
              <a:gs pos="50000">
                <a:srgbClr val="ffff66"/>
              </a:gs>
              <a:gs pos="100000">
                <a:srgbClr val="7e7e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11560" y="2935440"/>
            <a:ext cx="2797200" cy="2624040"/>
            <a:chOff x="3211560" y="2935440"/>
            <a:chExt cx="2797200" cy="2624040"/>
          </a:xfrm>
        </p:grpSpPr>
        <p:sp>
          <p:nvSpPr>
            <p:cNvPr id="125" name=""/>
            <p:cNvSpPr/>
            <p:nvPr/>
          </p:nvSpPr>
          <p:spPr>
            <a:xfrm>
              <a:off x="3211560" y="3483000"/>
              <a:ext cx="2797200" cy="207648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Valdym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Darbuotoja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Technologij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Operacij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11560" y="2935440"/>
              <a:ext cx="2797200" cy="57456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Transformacij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692360" y="992160"/>
            <a:ext cx="65260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Organizacijos aplin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1905120"/>
            <a:ext cx="3810240" cy="83808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tvira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98A6-D5F2-4C9E-A966-AF2BDE8A522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a – atvira siste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Gauna išteklius iš aplinko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Transformuoja juos į rezultatu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tiduoda rezultatus aplink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AF2D-CF40-4AC9-A7A0-7EB17B19E9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Autor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929360" cy="34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atz; Kah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L. Bertalanf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. Rappo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. Bou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H. Sim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J. M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. Bla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W. Scott ir ki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EF5E-758B-4099-8C62-527F66BC0F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ų – kaip atvirų sistemų charakteristiko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nergijos ir skatinimo svarba (žmonės, medžiago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Medžiagų konversijos procesai ir su tuo susiję darbinės veik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tiduodami produkt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ocesų ciklišku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Negatyvi atrof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Katz and Kahn, 1966m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586B-43D6-41E8-9B8D-342DFA1DE46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1:01:54Z</dcterms:modified>
  <cp:revision>48</cp:revision>
  <dc:subject/>
  <dc:title>Introduction to Management</dc:title>
</cp:coreProperties>
</file>