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F667-0032-4853-BB7A-A2127403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ABB2-837C-4686-8391-B4106C79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2956-AD6D-485F-A19F-6AC48681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A5C-A7DF-4712-85EC-122CBEE5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11CE-8726-46D9-B836-7FB086D0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C05C-7E84-41C2-AE33-91E4AA01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F9E4-C41F-4FA9-A790-FC63AC39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8EE9-5C75-4637-ABD7-7C99C31B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641A-30C5-455C-9047-9B31910B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C1D6-3CEB-47E2-9D4B-537853EF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668B-0457-4D79-BB6B-EAF70735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AA24-C889-4184-B221-83AB7082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790E-8C70-4361-B6B0-FC06B829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6659-1C8A-4864-8A66-E24ACEF8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E17A-F7DF-4C1E-812F-60DB7516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D9A4-BAFB-47D3-8A26-CE035BAD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B6F7-8EAB-4576-AEC7-BA1F1382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E28-DF88-418F-B049-82464DE9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F83-890F-4A7A-AD4A-98C0CD5B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9DD6-BB30-45B3-A9FA-4379BAFF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FF8-68B4-430F-B36E-F0BED4FB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C87-3E90-4AD9-BFD6-D57EDA8D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F7CE-44BD-4EF8-BE02-6B9DA63B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2AFE-DF2A-4E92-8B31-2ED537EB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D485-6072-498E-85E5-5D246BE964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4788-FC72-4559-9478-BE167FED07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Moderniosios vadybos teorij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9EC0-CE8B-41AF-97D8-5D440F26F27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ėkmingų organizacijų teorijo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os valdymas kompleksinis, integruotas daugybės vadybos sudėtinių elementų realizavimas, siekiant organizacijos tikslų ir sėkmingos veikl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CD8-0EFD-4112-91BA-E072B76000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ntegruotos klasikinės vadybos teorijos ir požiūriai bei pritaikyti šiuolaikinėms organizacijų veiklos sąlygom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as kompleksinio valdymo metodų taikymas, taigi ir vadybos teorijų studijavimo, poreiki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ybos mokslas tapo svarbia, būtina, objektyviai neišvengiama socialinių mokslų visumos dalim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960-3EA8-4BDE-A338-316327671E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ųjų vadybos teorijų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BB4-B65C-4726-8A6A-1C7EAA96E4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augo organizacijų įvairovė, o tuo pačiu daugėjo ir valdymo problem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linka keičiasi vis sparčiau, todėl reikia naujų vadybos metodų prisitaikant prie besikeičiančios aplink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parčiai keičiasi žmonių poreikiai, taigi ir motyvavimo veiksniai, kas reikalauja naujų motyvavimo metod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Organizacijų veikla tampa ypač priklausoma nuo žinių ir informacij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AC5-4CC8-4068-B53D-D453B8B3E0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Teorijo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6800" y="2239920"/>
            <a:ext cx="7491240" cy="385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ituatyvinė teor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Tikslinio valdymo teorija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isteminė teor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Organizacinio vystymo ir strateginio valdymo teor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ėkmingų organizacijų teorijo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F0F-929D-40B2-AE92-F8455B306C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333399"/>
                </a:solidFill>
                <a:latin typeface="Tahoma"/>
              </a:rPr>
              <a:t>Situatyvinė teorij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ose dažnai pasitaiko analogiškos situacijos, kurių sprendimui gali būti naudojami tipiniai sprendimų metodai. Todėl svarbu aprašyti tuos metodus, sisteminti ir skleisti, padedant efektyviai valdyti organizacij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3A2-3E42-41A7-96B6-0652E6D9CA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Tikslinio valdymo teorija</a:t>
            </a:r>
            <a:br>
              <a:rPr sz="3600"/>
            </a:b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(Management by Objectives MBO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Sudaryti tikslų medį kiekvienam valdymo lygiui, kuriame aiškiai atsispindėtų kiekvieno padalinio ir darbuotojo tikslai, kurių įgyvendinimas leis pasiekti organizacijos tikslų. Tik tuomet organizacija veiks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061-FE8C-4151-B1BB-BD312AF811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isteminė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a yra atvira socialinė sistema sudaryta iš posistemių, kurių veikla tarpusavyje susijusi. Tik kiekvienai iš posistemių veikiant nepriekaištingai ir suderintai su kitomis posistemėmis organizacija, kaip sistema gali veikti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963-1B46-404D-9961-94C250B44D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Organizacinio vystymo ir strateginio valdymo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a veikia nuolat besikeičiančioje aplinkoje. Tokios sąlygos verčia keisti požiūrį į valdymą, kad tai nėra periodinių ar vienkartinių veiksmų seka, tačiau nuolatinis, tęstinis procesas, orientuotas į ilgalaikę perspektyv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716-CE7B-409D-9CF5-64BC779D44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Strategij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8560" y="2060640"/>
            <a:ext cx="6553080" cy="29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Organizacijos veiklos ir gyvavimo tolimesnėje ateityje perspektyvinis mode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70E-4920-4EAE-9956-0BEE40F8D7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1:21Z</dcterms:modified>
  <cp:revision>47</cp:revision>
  <dc:subject/>
  <dc:title>Introduction to Management</dc:title>
</cp:coreProperties>
</file>