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C5BA-C0CE-4EF0-A037-10FA0D190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BA72-4C2D-4EB6-A19C-D93469068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16000" y="65088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5480" y="4341960"/>
            <a:ext cx="5032440" cy="41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7E1-E3E6-4140-977D-197DE56F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0BF-BE31-4756-94EA-B5A7255D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BD5-5559-41FA-95FC-47260936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56A-2DD2-46A8-9EEB-9D71C5E0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3A83-A2B8-4A63-8694-A3502F49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5689-0656-4146-B653-6D95D0BF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C5A8-6758-4999-B699-41D69333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1706-72F0-4A11-98DB-55C41FC2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D31A-0F1F-42F5-90D1-B7BA6423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15B9-58DC-4ED4-97AB-67CD7D2A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2A43-6767-46D4-ADE8-9ED7BA57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F80-931F-4B02-BB95-D590D6F5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05DE-7220-4F55-B5E2-4D860193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47B3-2A7D-4D7A-8E40-DCC66553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594A-C12C-443B-B957-65B0237B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3BB1-9DE3-449D-932D-89B1313B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3D6E-BADE-4489-9317-CE7FCF84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B40-52B4-461E-8D06-DFAD8ECA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BD0-CF2C-4634-846E-66CFAD1C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C77-B645-4413-AB3B-FA3F4D22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00E-E7B3-4E3A-9592-7F4F0EB7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980-58E9-43CA-BA41-B55AFB4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BD1-8708-48B4-B6D1-74825E5F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F58-98C2-4AC7-8330-2CA4FF5C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F50E-F375-4179-ACB9-5EEFF13A2F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4E1A-F078-4A92-8289-E56FE4ED1E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5F87-FE6A-4F0E-B084-696ED13F65E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proble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i top valdymo lygmens pa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profesionaliai suformuluot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us pažangos monitorin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aug popierinio da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aikui imlus dar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FE0-A636-4348-A414-2DCF580816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lanavimo efektyvu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panijoje naudojamus metodus, technikas, priemones ir sistemas. Pokyčiai ir nauji būdai didina klaidos tikimyb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katinti dalyvavimą planavime. Kuo daugiau organizacijos žmonių dalyvauja tuo didesnis lojalumas ir pasitikėjimas užtikrin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unikaciją ir didinti informuotumą. Tikslų ir veiklų sąveikos suvokimas svarbus planavimo sėkm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174-F288-4F4D-9DC4-987AFC8232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i individualių ir organizacijos tikslų derinimo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darbuotojų dalyvavimo planavime ir tikslų nustatyme svarb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plėtota “tikslo nuosavybės” koncepcij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formuota MBO samprata bei nustatyti tikslinio valdymo organizacijose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693-8F09-4F0B-91CF-3F7A7C33A9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kslinio valdymo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EF5-A603-4844-BC9E-19E48497BD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ovavimas žmonėms ir įtraukimas į valdymą tampa vis svarbesniu vadybos ob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1F4-DC51-4224-BE42-108A8DF0A7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C61-30EA-48BF-97E0-ECFA9741C3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H. To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. Carro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Odi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3DE-70DF-4B63-9415-EC4CA3B876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ini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valdym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MBO)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 žing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darbo reikalavi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plėtoti potencialius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statyti kontrolės sr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įvertinti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F97-CDC6-4F2C-99D1-CBDBF83AA1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nkos poveik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oper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ildoma motyv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ankstiniai susitarim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ištekl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cijos vertyb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2FA-6A56-4A2D-9E96-FB925426A5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subjek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ija - strateg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t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funkciniai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yv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em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827-74E4-48DD-B9ED-5534693319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nau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horizont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išteklių panaudoji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vertik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obulinami pažangos vertinimo kriteri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planavimo proc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91D-179E-447C-B2B5-F48BBD4B01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2:11Z</dcterms:modified>
  <cp:revision>48</cp:revision>
  <dc:subject/>
  <dc:title>Introduction to Management</dc:title>
</cp:coreProperties>
</file>