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2CDFF-4375-4A3A-BEFE-1C25019FFF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53061-C93A-4533-BBB3-880AA31A96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7E0C5-D398-4A58-A921-098AF5CF6C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1126D-19AB-4DBB-B29D-5FBF43D962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0F3A2-E663-40EC-B47C-82BD099F0D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D9BF-0988-4E98-A56B-E35710502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D8FE-B907-44E7-A5C9-FD0EA144F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C9E9-F89F-402E-834C-187AB2E18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0C32-99DF-4D54-9C10-45854DDC7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14267-C073-47B7-A9BC-FB74886E3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60D44-B813-4850-904C-3814B11F8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D01B7-4849-4DDD-A86E-03A115360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7AC47-093D-4FDA-ABF3-882DEF4CF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7D1E6-AAD0-45EF-9CA4-25A54CC70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39A2E-92FE-42AE-BA8A-B8EE03CEE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525FC-A21F-4001-A153-C7418556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7BB7-C56E-4CEA-9DF6-014C865B5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37B91-6EF6-4055-A9A0-2D58859A6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CDFBA-9858-451B-8CF0-70B013FBD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898EF-AF43-409A-8F7A-248933ECB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9C776-D6C3-4535-B40B-C427081DF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A88EF-231B-4831-B197-22C9397DF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728B-CBBA-4036-9517-A6379C757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E32B-884A-41B3-85A9-1EC02E942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72EB-1614-46D0-A437-1BDCCA208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270A-A735-4498-824E-8F2C75D9D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4AEB-FCB9-4846-92B6-70309A991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3667-C873-4C0E-B093-1155C28CA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83CD-4D2E-44CE-845C-83F77CFF4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1DCAF-447A-46BE-81E1-93E4570BF55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5D055-EF26-469E-B7FD-AACCCF0CB86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345440" cy="499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Vadybos mokslo mokykla: kiekybinės valdymo teorijos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14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5C35F-BFB9-4A85-A41E-C92C2483EEC4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74280" y="636480"/>
            <a:ext cx="734076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Išteklių modeliai</a:t>
            </a:r>
            <a:r>
              <a:rPr b="0" lang="lt-LT" sz="4400" spc="-1" strike="noStrike">
                <a:solidFill>
                  <a:srgbClr val="00ffff"/>
                </a:solidFill>
                <a:latin typeface="Times New Roman"/>
              </a:rPr>
              <a:t> (EOQ)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324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udojama sprendžiant, kiek ir kokiu metu žaliavų užsakyt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sidaro kaštai, užsakant žaliavas ir jas laikant sandėlyj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ei užsakymai bus reti - užsakymo kaštai bus maži, bet saugojimo - didel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ei užsakymai bus dažni - užsakymo kaštai bus dideli, o saugojimo - maž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išteklių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modeliai siekia nustatyti balanso tašką, kuomet šie kaštai mažiaus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8CAD-8632-492A-9F66-57EBF0398F8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00ffff"/>
                </a:solidFill>
                <a:latin typeface="Times New Roman"/>
              </a:rPr>
              <a:t>Kritinio kelio metodas (CPM)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84200" y="2168280"/>
            <a:ext cx="7491600" cy="38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DuPont kompanijos sukurta planavimo ir kontrolės kompiuterizuota diagrama (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956-1957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uja Gantt diagramos versi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Veiklų apimties ir laiko vaizdavim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Strėlėms vaizduojamas kritinis (optimalus) veiklų atlikimo grafik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F1A0-0DD4-4C44-AF46-7253151947C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ffff"/>
                </a:solidFill>
                <a:latin typeface="Times New Roman"/>
              </a:rPr>
              <a:t>PERT metoda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Programos vertinimo ir peržiūros technika (Program Evalution and Review Techniqu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Sukurtas JAV jūrų laivyn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958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kirta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veiklų tinklo (sistemos) planavimui, ryšių nustatymui, jų tarpusavio ryšio vaizdavimui laik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Statistinės tikimybės naudojimas trijų scenarijų suformavimui (optimistiniam, labiausiai tikėtinam, pesimistinia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294B-7C39-4311-83C8-F67F56C3DCD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576520" y="1415880"/>
            <a:ext cx="373068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805120" y="5372280"/>
            <a:ext cx="380664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229080" y="4822920"/>
            <a:ext cx="146232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8080"/>
                </a:solidFill>
                <a:latin typeface="Arial"/>
              </a:rPr>
              <a:t>Slack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310080" y="5491080"/>
            <a:ext cx="130536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8080"/>
                </a:solidFill>
                <a:latin typeface="Arial"/>
              </a:rPr>
              <a:t>Tim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957920" y="4727520"/>
            <a:ext cx="3738240" cy="14540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937040" y="4707000"/>
            <a:ext cx="3730680" cy="14461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410440" y="4876920"/>
            <a:ext cx="273312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ffffff"/>
                </a:solidFill>
                <a:latin typeface="Arial"/>
              </a:rPr>
              <a:t>Optimalu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150240" y="5465880"/>
            <a:ext cx="15552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ffffff"/>
                </a:solidFill>
                <a:latin typeface="Arial"/>
              </a:rPr>
              <a:t>laika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719320" y="1125360"/>
            <a:ext cx="248652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8080"/>
                </a:solidFill>
                <a:latin typeface="Arial"/>
              </a:rPr>
              <a:t>Activiti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957920" y="695160"/>
            <a:ext cx="3738240" cy="14544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937040" y="674640"/>
            <a:ext cx="3730680" cy="14461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559480" y="1100160"/>
            <a:ext cx="195912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ffffff"/>
                </a:solidFill>
                <a:latin typeface="Arial"/>
              </a:rPr>
              <a:t>Veiklo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522800" y="4822920"/>
            <a:ext cx="18964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8080"/>
                </a:solidFill>
                <a:latin typeface="Arial"/>
              </a:rPr>
              <a:t>Critic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864800" y="5491080"/>
            <a:ext cx="12124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8080"/>
                </a:solidFill>
                <a:latin typeface="Arial"/>
              </a:rPr>
              <a:t>Pat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66560" y="4727520"/>
            <a:ext cx="3738600" cy="14540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46040" y="4707000"/>
            <a:ext cx="3730680" cy="14461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362960" y="4797360"/>
            <a:ext cx="19270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ffffff"/>
                </a:solidFill>
                <a:latin typeface="Arial"/>
              </a:rPr>
              <a:t>Kritini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705320" y="5465880"/>
            <a:ext cx="15552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ffffff"/>
                </a:solidFill>
                <a:latin typeface="Arial"/>
              </a:rPr>
              <a:t>kelia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53040" y="1125360"/>
            <a:ext cx="18342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8080"/>
                </a:solidFill>
                <a:latin typeface="Arial"/>
              </a:rPr>
              <a:t>Eve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6560" y="695160"/>
            <a:ext cx="3738600" cy="14544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6040" y="674640"/>
            <a:ext cx="3730680" cy="14461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393920" y="1100160"/>
            <a:ext cx="171072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ffffff"/>
                </a:solidFill>
                <a:latin typeface="Arial"/>
              </a:rPr>
              <a:t>Įvykia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74680" y="2662200"/>
            <a:ext cx="18295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808080"/>
                </a:solidFill>
                <a:latin typeface="Arial"/>
              </a:rPr>
              <a:t>PERT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48280" y="3483000"/>
            <a:ext cx="30870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808080"/>
                </a:solidFill>
                <a:latin typeface="Arial"/>
              </a:rPr>
              <a:t>Network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610000" y="2444760"/>
            <a:ext cx="4024080" cy="1987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89120" y="2424240"/>
            <a:ext cx="4017960" cy="1979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49120" y="2637000"/>
            <a:ext cx="18295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Arial"/>
              </a:rPr>
              <a:t>PERT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428640" y="3429000"/>
            <a:ext cx="23630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5400" spc="-1" strike="noStrike">
                <a:solidFill>
                  <a:srgbClr val="ffffff"/>
                </a:solidFill>
                <a:latin typeface="Arial"/>
              </a:rPr>
              <a:t>Tinkla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92480" y="2119320"/>
            <a:ext cx="296640" cy="1312920"/>
          </a:xfrm>
          <a:custGeom>
            <a:avLst/>
            <a:gdLst/>
            <a:ahLst/>
            <a:rect l="l" t="t" r="r" b="b"/>
            <a:pathLst>
              <a:path w="376" h="1653">
                <a:moveTo>
                  <a:pt x="48" y="0"/>
                </a:moveTo>
                <a:lnTo>
                  <a:pt x="0" y="0"/>
                </a:lnTo>
                <a:lnTo>
                  <a:pt x="0" y="1629"/>
                </a:lnTo>
                <a:lnTo>
                  <a:pt x="0" y="1653"/>
                </a:lnTo>
                <a:lnTo>
                  <a:pt x="24" y="1653"/>
                </a:lnTo>
                <a:lnTo>
                  <a:pt x="376" y="1653"/>
                </a:lnTo>
                <a:lnTo>
                  <a:pt x="376" y="1605"/>
                </a:lnTo>
                <a:lnTo>
                  <a:pt x="24" y="1605"/>
                </a:lnTo>
                <a:lnTo>
                  <a:pt x="24" y="1629"/>
                </a:lnTo>
                <a:lnTo>
                  <a:pt x="48" y="1629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92480" y="3394080"/>
            <a:ext cx="296640" cy="1312920"/>
          </a:xfrm>
          <a:custGeom>
            <a:avLst/>
            <a:gdLst/>
            <a:ahLst/>
            <a:rect l="l" t="t" r="r" b="b"/>
            <a:pathLst>
              <a:path w="376" h="1653">
                <a:moveTo>
                  <a:pt x="0" y="1653"/>
                </a:moveTo>
                <a:lnTo>
                  <a:pt x="48" y="1653"/>
                </a:lnTo>
                <a:lnTo>
                  <a:pt x="48" y="24"/>
                </a:lnTo>
                <a:lnTo>
                  <a:pt x="24" y="24"/>
                </a:lnTo>
                <a:lnTo>
                  <a:pt x="24" y="48"/>
                </a:lnTo>
                <a:lnTo>
                  <a:pt x="376" y="48"/>
                </a:lnTo>
                <a:lnTo>
                  <a:pt x="376" y="0"/>
                </a:lnTo>
                <a:lnTo>
                  <a:pt x="24" y="0"/>
                </a:lnTo>
                <a:lnTo>
                  <a:pt x="0" y="0"/>
                </a:lnTo>
                <a:lnTo>
                  <a:pt x="0" y="24"/>
                </a:lnTo>
                <a:lnTo>
                  <a:pt x="0" y="165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605640" y="2119320"/>
            <a:ext cx="214200" cy="1312920"/>
          </a:xfrm>
          <a:custGeom>
            <a:avLst/>
            <a:gdLst/>
            <a:ahLst/>
            <a:rect l="l" t="t" r="r" b="b"/>
            <a:pathLst>
              <a:path w="272" h="1653">
                <a:moveTo>
                  <a:pt x="272" y="0"/>
                </a:moveTo>
                <a:lnTo>
                  <a:pt x="224" y="0"/>
                </a:lnTo>
                <a:lnTo>
                  <a:pt x="224" y="1629"/>
                </a:lnTo>
                <a:lnTo>
                  <a:pt x="248" y="1629"/>
                </a:lnTo>
                <a:lnTo>
                  <a:pt x="248" y="1605"/>
                </a:lnTo>
                <a:lnTo>
                  <a:pt x="0" y="1605"/>
                </a:lnTo>
                <a:lnTo>
                  <a:pt x="0" y="1653"/>
                </a:lnTo>
                <a:lnTo>
                  <a:pt x="248" y="1653"/>
                </a:lnTo>
                <a:lnTo>
                  <a:pt x="272" y="1653"/>
                </a:lnTo>
                <a:lnTo>
                  <a:pt x="272" y="1629"/>
                </a:lnTo>
                <a:lnTo>
                  <a:pt x="27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605640" y="3394080"/>
            <a:ext cx="214200" cy="1312920"/>
          </a:xfrm>
          <a:custGeom>
            <a:avLst/>
            <a:gdLst/>
            <a:ahLst/>
            <a:rect l="l" t="t" r="r" b="b"/>
            <a:pathLst>
              <a:path w="272" h="1653">
                <a:moveTo>
                  <a:pt x="224" y="1653"/>
                </a:moveTo>
                <a:lnTo>
                  <a:pt x="272" y="1653"/>
                </a:lnTo>
                <a:lnTo>
                  <a:pt x="272" y="24"/>
                </a:lnTo>
                <a:lnTo>
                  <a:pt x="272" y="0"/>
                </a:lnTo>
                <a:lnTo>
                  <a:pt x="248" y="0"/>
                </a:lnTo>
                <a:lnTo>
                  <a:pt x="0" y="0"/>
                </a:lnTo>
                <a:lnTo>
                  <a:pt x="0" y="48"/>
                </a:lnTo>
                <a:lnTo>
                  <a:pt x="248" y="48"/>
                </a:lnTo>
                <a:lnTo>
                  <a:pt x="248" y="24"/>
                </a:lnTo>
                <a:lnTo>
                  <a:pt x="224" y="24"/>
                </a:lnTo>
                <a:lnTo>
                  <a:pt x="224" y="165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4 paskait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9D68-D015-4B22-84B8-D1A7F0BAEC0B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p:transition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"/>
          <p:cNvGrpSpPr/>
          <p:nvPr/>
        </p:nvGrpSpPr>
        <p:grpSpPr>
          <a:xfrm>
            <a:off x="839880" y="534960"/>
            <a:ext cx="7629480" cy="5591160"/>
            <a:chOff x="839880" y="534960"/>
            <a:chExt cx="7629480" cy="5591160"/>
          </a:xfrm>
        </p:grpSpPr>
        <p:sp>
          <p:nvSpPr>
            <p:cNvPr id="219" name=""/>
            <p:cNvSpPr/>
            <p:nvPr/>
          </p:nvSpPr>
          <p:spPr>
            <a:xfrm>
              <a:off x="3497400" y="1384200"/>
              <a:ext cx="0" cy="11145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651640" y="1079640"/>
              <a:ext cx="0" cy="14191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781680" y="2492280"/>
              <a:ext cx="0" cy="324828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2282760" y="2451240"/>
              <a:ext cx="101520" cy="332424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163520" y="5522760"/>
              <a:ext cx="6823080" cy="603360"/>
            </a:xfrm>
            <a:prstGeom prst="rect">
              <a:avLst/>
            </a:prstGeom>
            <a:solidFill>
              <a:srgbClr val="9933ff"/>
            </a:solidFill>
            <a:ln w="1260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163520" y="4687920"/>
              <a:ext cx="6823080" cy="603360"/>
            </a:xfrm>
            <a:prstGeom prst="rect">
              <a:avLst/>
            </a:prstGeom>
            <a:solidFill>
              <a:srgbClr val="9933ff"/>
            </a:solidFill>
            <a:ln w="1260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163520" y="3849840"/>
              <a:ext cx="6823080" cy="603000"/>
            </a:xfrm>
            <a:prstGeom prst="rect">
              <a:avLst/>
            </a:prstGeom>
            <a:solidFill>
              <a:srgbClr val="9933ff"/>
            </a:solidFill>
            <a:ln w="1260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163520" y="3011400"/>
              <a:ext cx="6823080" cy="603360"/>
            </a:xfrm>
            <a:prstGeom prst="rect">
              <a:avLst/>
            </a:prstGeom>
            <a:solidFill>
              <a:srgbClr val="9933ff"/>
            </a:solidFill>
            <a:ln w="1260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163520" y="2173320"/>
              <a:ext cx="6823080" cy="603360"/>
            </a:xfrm>
            <a:prstGeom prst="rect">
              <a:avLst/>
            </a:prstGeom>
            <a:solidFill>
              <a:srgbClr val="9933ff"/>
            </a:solidFill>
            <a:ln w="1260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39880" y="534960"/>
              <a:ext cx="7629480" cy="1327320"/>
            </a:xfrm>
            <a:prstGeom prst="rect">
              <a:avLst/>
            </a:prstGeom>
            <a:solidFill>
              <a:srgbClr val="9933ff"/>
            </a:solidFill>
            <a:ln w="1260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PERT </a:t>
              </a:r>
              <a:r>
                <a:rPr b="1" lang="lt-LT" sz="4000" spc="-1" strike="noStrike">
                  <a:solidFill>
                    <a:srgbClr val="ffffff"/>
                  </a:solidFill>
                  <a:latin typeface="Arial"/>
                </a:rPr>
                <a:t>tinklo kūrimo žingsniai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914400" y="2057400"/>
            <a:ext cx="7261200" cy="436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Identifikuoti visas veikla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Nustatyti įvykdymo eiliškum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Atvaizduoti veiklų srautą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Įvertinti veiklų atlikimo laik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Suformuoti projekto grafik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4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58FE-D670-4FCA-AA0E-7732947407D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Lūžio taško metoda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ustatomas momentas, kuomet kaštai yra lygūs pajamom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uomeny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stovūs kašta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ntami kašta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ndri kašta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eneto kai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9AE3-FC41-413E-BF34-87BD7BA6061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"/>
          <p:cNvGrpSpPr/>
          <p:nvPr/>
        </p:nvGrpSpPr>
        <p:grpSpPr>
          <a:xfrm>
            <a:off x="0" y="533520"/>
            <a:ext cx="9078840" cy="6084360"/>
            <a:chOff x="0" y="533520"/>
            <a:chExt cx="9078840" cy="6084360"/>
          </a:xfrm>
        </p:grpSpPr>
        <p:sp>
          <p:nvSpPr>
            <p:cNvPr id="233" name=""/>
            <p:cNvSpPr/>
            <p:nvPr/>
          </p:nvSpPr>
          <p:spPr>
            <a:xfrm flipV="1">
              <a:off x="1858320" y="2468160"/>
              <a:ext cx="5625000" cy="34966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781640" y="853920"/>
              <a:ext cx="1800" cy="50940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1744560" y="5986080"/>
              <a:ext cx="58366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44800" y="533520"/>
              <a:ext cx="1101960" cy="527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$90,00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80,00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70,00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60,00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50,00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40,00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30,00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20,00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10,00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085840" y="5941800"/>
              <a:ext cx="5178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200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300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500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60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825200" y="3555720"/>
              <a:ext cx="3916800" cy="0"/>
            </a:xfrm>
            <a:prstGeom prst="line">
              <a:avLst/>
            </a:prstGeom>
            <a:ln w="25560">
              <a:solidFill>
                <a:srgbClr val="fc012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rot="16200000">
              <a:off x="-733320" y="3057840"/>
              <a:ext cx="1830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1800" spc="-1" strike="noStrike">
                  <a:solidFill>
                    <a:srgbClr val="ffffff"/>
                  </a:solidFill>
                  <a:latin typeface="Arial"/>
                </a:rPr>
                <a:t>Pajamos/kašta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526920" y="6254640"/>
              <a:ext cx="2657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1800" spc="-1" strike="noStrike">
                  <a:solidFill>
                    <a:srgbClr val="ffffff"/>
                  </a:solidFill>
                  <a:latin typeface="Arial"/>
                </a:rPr>
                <a:t>Pardavimai (tūkst. Vnt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7860000">
              <a:off x="5306760" y="2991240"/>
              <a:ext cx="228240" cy="658080"/>
            </a:xfrm>
            <a:prstGeom prst="triangle">
              <a:avLst>
                <a:gd name="adj" fmla="val 49977"/>
              </a:avLst>
            </a:prstGeom>
            <a:solidFill>
              <a:srgbClr val="fcd1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1823040" y="3048840"/>
              <a:ext cx="5676840" cy="1641240"/>
            </a:xfrm>
            <a:prstGeom prst="line">
              <a:avLst/>
            </a:prstGeom>
            <a:ln w="2556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781800" y="2771640"/>
              <a:ext cx="2239560" cy="391680"/>
            </a:xfrm>
            <a:prstGeom prst="rect">
              <a:avLst/>
            </a:prstGeom>
            <a:solidFill>
              <a:srgbClr val="fcd1bf"/>
            </a:soli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805040" y="4652640"/>
              <a:ext cx="5796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rot="7860000">
              <a:off x="6127200" y="2388240"/>
              <a:ext cx="228240" cy="823320"/>
            </a:xfrm>
            <a:prstGeom prst="triangle">
              <a:avLst>
                <a:gd name="adj" fmla="val 49977"/>
              </a:avLst>
            </a:prstGeom>
            <a:solidFill>
              <a:srgbClr val="ebd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766680" y="2806560"/>
              <a:ext cx="2303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000" spc="-1" strike="noStrike">
                  <a:solidFill>
                    <a:srgbClr val="000000"/>
                  </a:solidFill>
                  <a:latin typeface="Arial Narrow"/>
                </a:rPr>
                <a:t>Lūžio taška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01760" y="2223720"/>
              <a:ext cx="1839600" cy="392040"/>
            </a:xfrm>
            <a:prstGeom prst="rect">
              <a:avLst/>
            </a:prstGeom>
            <a:solidFill>
              <a:srgbClr val="ebd3ff"/>
            </a:soli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886640" y="2257200"/>
              <a:ext cx="19033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1800" spc="-1" strike="noStrike">
                  <a:solidFill>
                    <a:srgbClr val="000000"/>
                  </a:solidFill>
                  <a:latin typeface="Arial Narrow"/>
                </a:rPr>
                <a:t>Bendros pajamo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rot="19680000">
              <a:off x="6501600" y="3321000"/>
              <a:ext cx="239760" cy="626400"/>
            </a:xfrm>
            <a:prstGeom prst="triangle">
              <a:avLst>
                <a:gd name="adj" fmla="val 49977"/>
              </a:avLst>
            </a:prstGeom>
            <a:solidFill>
              <a:srgbClr val="9fff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861880" y="3790800"/>
              <a:ext cx="1519920" cy="391680"/>
            </a:xfrm>
            <a:prstGeom prst="rect">
              <a:avLst/>
            </a:prstGeom>
            <a:solidFill>
              <a:srgbClr val="9fffe1"/>
            </a:soli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846760" y="3825720"/>
              <a:ext cx="1583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000" spc="-1" strike="noStrike">
                  <a:solidFill>
                    <a:srgbClr val="000000"/>
                  </a:solidFill>
                  <a:latin typeface="Arial Narrow"/>
                </a:rPr>
                <a:t>Bendri kaštai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908360" y="4673520"/>
              <a:ext cx="13550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000" spc="-1" strike="noStrike">
                  <a:solidFill>
                    <a:srgbClr val="fc0128"/>
                  </a:solidFill>
                  <a:latin typeface="Arial"/>
                </a:rPr>
                <a:t>Nuostoli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000" spc="-1" strike="noStrike">
                  <a:solidFill>
                    <a:srgbClr val="fc0128"/>
                  </a:solidFill>
                  <a:latin typeface="Arial"/>
                </a:rPr>
                <a:t>zon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422040" y="1439640"/>
              <a:ext cx="959760" cy="704520"/>
            </a:xfrm>
            <a:prstGeom prst="rect">
              <a:avLst/>
            </a:prstGeom>
            <a:solidFill>
              <a:srgbClr val="fafd00"/>
            </a:soli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9840000">
              <a:off x="7081560" y="2015280"/>
              <a:ext cx="239760" cy="783720"/>
            </a:xfrm>
            <a:prstGeom prst="triangle">
              <a:avLst>
                <a:gd name="adj" fmla="val 49977"/>
              </a:avLst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553440" y="1473120"/>
              <a:ext cx="74988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000" spc="-1" strike="noStrike">
                  <a:solidFill>
                    <a:srgbClr val="000000"/>
                  </a:solidFill>
                  <a:latin typeface="Arial Narrow"/>
                </a:rPr>
                <a:t>Peln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000" spc="-1" strike="noStrike">
                  <a:solidFill>
                    <a:srgbClr val="000000"/>
                  </a:solidFill>
                  <a:latin typeface="Arial Narrow"/>
                </a:rPr>
                <a:t>zon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5400000">
              <a:off x="6975720" y="5180040"/>
              <a:ext cx="1371240" cy="239760"/>
            </a:xfrm>
            <a:prstGeom prst="triangle">
              <a:avLst>
                <a:gd name="adj" fmla="val 49977"/>
              </a:avLst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7541640" y="3125520"/>
              <a:ext cx="1537200" cy="2573280"/>
              <a:chOff x="7541640" y="3125520"/>
              <a:chExt cx="1537200" cy="2573280"/>
            </a:xfrm>
          </p:grpSpPr>
          <p:sp>
            <p:nvSpPr>
              <p:cNvPr id="258" name=""/>
              <p:cNvSpPr/>
              <p:nvPr/>
            </p:nvSpPr>
            <p:spPr>
              <a:xfrm rot="5400000">
                <a:off x="6897960" y="3768840"/>
                <a:ext cx="1526760" cy="239760"/>
              </a:xfrm>
              <a:prstGeom prst="triangle">
                <a:avLst>
                  <a:gd name="adj" fmla="val 49977"/>
                </a:avLst>
              </a:pr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764840" y="3511080"/>
                <a:ext cx="1184400" cy="69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lt-LT" sz="2000" spc="-1" strike="noStrike">
                    <a:solidFill>
                      <a:srgbClr val="ffffff"/>
                    </a:solidFill>
                    <a:latin typeface="Arial"/>
                  </a:rPr>
                  <a:t>Kintami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lt-LT" sz="2000" spc="-1" strike="noStrike">
                    <a:solidFill>
                      <a:srgbClr val="ffffff"/>
                    </a:solidFill>
                    <a:latin typeface="Arial"/>
                  </a:rPr>
                  <a:t>kaštai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765200" y="5000040"/>
                <a:ext cx="1313640" cy="69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lt-LT" sz="2000" spc="-1" strike="noStrike">
                    <a:solidFill>
                      <a:srgbClr val="ffffff"/>
                    </a:solidFill>
                    <a:latin typeface="Arial"/>
                  </a:rPr>
                  <a:t>Pastovū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lt-LT" sz="2000" spc="-1" strike="noStrike">
                    <a:solidFill>
                      <a:srgbClr val="ffffff"/>
                    </a:solidFill>
                    <a:latin typeface="Arial"/>
                  </a:rPr>
                  <a:t>kaštai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5713560" y="3605040"/>
              <a:ext cx="0" cy="2322000"/>
            </a:xfrm>
            <a:prstGeom prst="line">
              <a:avLst/>
            </a:prstGeom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751760" y="5941800"/>
              <a:ext cx="76680" cy="74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3352680" y="0"/>
            <a:ext cx="556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ffff"/>
                </a:solidFill>
                <a:latin typeface="Arial"/>
              </a:rPr>
              <a:t>Lūžio taško analizė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4 paskait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70DE-8370-4FAA-AD88-A15E7D7A777D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7324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Lūžio taško metoda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600200" y="2514600"/>
            <a:ext cx="5288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stov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ū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kašta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T = ---------------------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aina - Kintami kašta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4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A6BF-518C-4A8B-ACC4-00ADE80C744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Būsimoji vertė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7324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V - procedūra, kurios metu analizuojama būsimoji hipotetinė įvairių alternatyvų vertė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Procedū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ustatyti skirtingas alternatyvas ir rezultat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ustatyti galimybes, kurios gali atsirast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Įvertinti būsimąją kiekvienos jų vertę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AF66-4F24-4175-B539-9C019CAF644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Būsimosios vertės skaičiavimo pvz.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047600" y="2022480"/>
            <a:ext cx="685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trategij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ėkmė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Nuostol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066680" y="25560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. ženklas A           $200 pelnas               $500 (nuostoli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048320" y="3013200"/>
            <a:ext cx="731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. ženklas B            $400 pelnas               $300 (nuostoli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045440" y="3774960"/>
            <a:ext cx="38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ėkmės/nuostolio įvertinim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734840" y="4232160"/>
            <a:ext cx="61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. ženklas A      Sėkmė = .8          Nuostolis = 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736640" y="4648320"/>
            <a:ext cx="62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. ženklas B       Sėkmė = .5          Nuostolis = .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973080" y="5375160"/>
            <a:ext cx="779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ėkmė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Nuostoli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B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. ženklas A    $200 x .8 = $160 + ($500) x .2 = ($100) = $6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974880" y="6248520"/>
            <a:ext cx="794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. ženklas B     $400 x .5 = $200 + ($300) x .5 = ($150) = $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4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C3A6-C26E-4DB4-82F6-360B5B7EF7F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ffff"/>
                </a:solidFill>
                <a:latin typeface="Times New Roman"/>
              </a:rPr>
              <a:t>Paskaitos tikslai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38400" y="2292480"/>
            <a:ext cx="7635600" cy="3743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4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Apibūdinti vadybos mokslo mokyklos susiformavimo prielaida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4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Pristatyti pagrindinius kiekybiniu metodus ir technik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4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Apžvelgti kiekybinės teorijos nuopelnus vadybos mokslui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4496-9CC8-4739-AB2B-5871C9DF97C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00ffff"/>
                </a:solidFill>
                <a:latin typeface="Times New Roman"/>
              </a:rPr>
              <a:t>Gamybos ir žaliavų planavimo techniko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384200" y="2168280"/>
            <a:ext cx="7491600" cy="38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371520" indent="-37152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MRP (Material Requirements Planning) – Žaliavų poreikio planavimo siste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7640" indent="-3646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Skirta detalių (subproduktų) tiekimo planavimui gamyboje, tiekiant pagal poreikį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71520" indent="-37152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Kanban” (Just in time) siste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7640" indent="-3646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Skirta itin tiksliam žaliavų ir medžiagų tiekimo planavimu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7640" indent="-3646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Tiekiama pagal iš anksto sudarytą grafik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7640" indent="-3646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Tikslas – nėra atsarg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7640" indent="-3646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Tiekiam kada reikia – svarbiausiai – laikas, o ne kieki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4034-6A13-48E0-9B9C-73DC1162771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00ffff"/>
                </a:solidFill>
                <a:latin typeface="Times New Roman"/>
              </a:rPr>
              <a:t>Nuopelnai vadybos mokslui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384200" y="2168280"/>
            <a:ext cx="7491600" cy="38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34160" indent="-43416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Matematinių metodų taikymo plėt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34160" indent="-43416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Gamybos valdymo racionalizavim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34160" indent="-43416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Planavimo ir kontrolės metodų taikymas valdy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34160" indent="-43416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Naujų metodų sukūrim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34160" indent="-43416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Metodų taikymas prognozav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34160" indent="-43416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Kompiuterinių technologijų diegimas organizacijų valdyme, siekiant įsisavinti naujus planavimo ir kontrolės metodu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9240-32DD-4597-95AB-E2170521CE0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ffff"/>
                </a:solidFill>
                <a:latin typeface="Times New Roman"/>
              </a:rPr>
              <a:t>Prielaidos</a:t>
            </a: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Ankstesnių autorių – Babbage, Taylor, Gantt, Gilbreth, Emerson taikyti kiekybiniai valdymo principa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III ir IV dešimtmetyje sumažėjęs dėmesys produktyvumo valdymui ir išaugęs sociopsichologiniams valdymo aspektam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Didžiosios depresijos pabaiga ir II pasaulinis karas sąlygojo didelių kompanijų skaičiaus augim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Formavosi nauja racionalaus organizacijų valdymo aplinka, palanki moksliniams valdymo metodam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F07B-46B9-41F2-9879-7159AEB5958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p:transition>
    <p:checker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00ffff"/>
                </a:solidFill>
                <a:latin typeface="Times New Roman"/>
              </a:rPr>
              <a:t>Operacijų tyrimų komando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305920" cy="421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Komandos suformuotos iš įvairių sričių specialist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Britai suformavo pirmąsias tokias komandas, radarų sistemų kūrimui, skirtų civilinei apsaugai II Pasaulinio karo metu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Viena geriausiai žinomų prof. Blackett komanda, sudaryta iš trijų psichologų, dviejų matematikų, vieno astro-fizikų, dviejų matematikos fizikų, vieno armijos karininko, vieno tyrėj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JAV  - Arthur D. Little, Inc. privačios konsultacinės kompanijos veikla operacijų tyrimų srityj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52 </a:t>
            </a: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į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urta </a:t>
            </a: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Amerikos operacijų tyrimų asociacija, pradėtas leisti žurnala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Operacijų tyrima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53 </a:t>
            </a: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Vadybos mokslo institutas (TIMS) pradėjo leisti leidinį “Vadybos mokslas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649D-9573-4F72-BA0C-2FC01CDBA98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Objektas – gamybos valdyma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03280" y="1844280"/>
            <a:ext cx="7491600" cy="432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Senojo požiūrio į gamybos valdymą kait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Nuo darbo organizavimo modelių link matematinių – statistinių metod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Naujasis vadybos mokslas – orientuotas į valdymo problemų sprendimą, naudojant specifines technikas, analizuojančias kiekybinius kintamuosius ir ryšius tarp jų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Suformuota eilė kiekybinių technikų, naudojamų gamybos valdy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373D-F85D-4AD7-A707-D5A50C8974B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00ffff"/>
                </a:solidFill>
                <a:latin typeface="Times New Roman"/>
              </a:rPr>
              <a:t>Kiekybinės techniko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84200" y="2168280"/>
            <a:ext cx="7491600" cy="38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esinis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 programavim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Eilių modelia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Išteklių modeliai (EOQ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Kritinio kelio metodas (CP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PERT meto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Lūžio taško meto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Būsimosios vertės meto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Kiti: MRP, Kanba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C5DF-8DB6-4FB6-A7E7-3F434B82CCC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Tiesinis programavima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7324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timalaus išteklių kiekio ir kombinacijos nustatym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ekiama su ribotais ištekliais maksimizuoti naudą ir minimizuoti nuostoli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vyzdžiai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Gamybos grafikų sudaryma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Žmonių pritraukimas projektų vykdymu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Optimalių maršrutų nustatyma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E09B-838D-4B6E-8932-6006F31CB2E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762120" y="304920"/>
            <a:ext cx="7629480" cy="5591160"/>
            <a:chOff x="762120" y="304920"/>
            <a:chExt cx="7629480" cy="5591160"/>
          </a:xfrm>
        </p:grpSpPr>
        <p:sp>
          <p:nvSpPr>
            <p:cNvPr id="167" name=""/>
            <p:cNvSpPr/>
            <p:nvPr/>
          </p:nvSpPr>
          <p:spPr>
            <a:xfrm>
              <a:off x="3419640" y="1154160"/>
              <a:ext cx="0" cy="11145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573880" y="849600"/>
              <a:ext cx="0" cy="1419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703920" y="2262240"/>
              <a:ext cx="0" cy="3248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05000" y="2221200"/>
              <a:ext cx="101520" cy="332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085760" y="5292720"/>
              <a:ext cx="6823080" cy="603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085760" y="4457880"/>
              <a:ext cx="6823080" cy="603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085760" y="3619800"/>
              <a:ext cx="6823080" cy="603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085760" y="2781360"/>
              <a:ext cx="6823080" cy="603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85760" y="1943280"/>
              <a:ext cx="6823080" cy="603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62120" y="304920"/>
              <a:ext cx="7629480" cy="14446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ffff"/>
                  </a:solidFill>
                  <a:latin typeface="Times New Roman"/>
                </a:rPr>
                <a:t>Tiesinio programavimo 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ffff"/>
                  </a:solidFill>
                  <a:latin typeface="Times New Roman"/>
                </a:rPr>
                <a:t>efektyv</a:t>
              </a:r>
              <a:r>
                <a:rPr b="0" lang="lt-LT" sz="4000" spc="-1" strike="noStrike">
                  <a:solidFill>
                    <a:srgbClr val="00ffff"/>
                  </a:solidFill>
                  <a:latin typeface="Times New Roman"/>
                </a:rPr>
                <a:t>inima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743120" y="1953720"/>
            <a:ext cx="6858000" cy="396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iboti i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š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klia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Optimizavimo siek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Alternatyvios išteklių kombinacijo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Multiplikuoti rezultatų derinia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Kintamųjų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esin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ės priklausomybės nustatym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4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6843-7362-487E-A692-A49FDBA0EF9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E</a:t>
            </a:r>
            <a:r>
              <a:rPr b="0" lang="lt-LT" sz="4400" spc="-1" strike="noStrike">
                <a:solidFill>
                  <a:srgbClr val="00ffff"/>
                </a:solidFill>
                <a:latin typeface="Times New Roman"/>
              </a:rPr>
              <a:t>i</a:t>
            </a: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lių modeliai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324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sidaro kaštai, naudojant perdaug ar per mažai eilių konkretaus laiko rėmuo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ilių teorija leidžia įvertinti ir nustatyti optimalų skaičių eilių, minimizuojant kaštus ir maksimizuojant naudą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FA1E-B8F2-4572-871A-59153CB22D5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8T18:37:46Z</dcterms:created>
  <dc:creator>Sally Coltrin</dc:creator>
  <dc:description/>
  <dc:language>en-US</dc:language>
  <cp:lastModifiedBy>No name (ISM)</cp:lastModifiedBy>
  <dcterms:modified xsi:type="dcterms:W3CDTF">2005-05-03T10:56:32Z</dcterms:modified>
  <cp:revision>51</cp:revision>
  <dc:subject/>
  <dc:title>Introduction to Management</dc:title>
</cp:coreProperties>
</file>