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3AFB-791F-425B-87B6-E02B43B8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EC8C-00F7-4C93-82B3-A69F6EAE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49E4-837D-4B8C-BAE6-A478CBA9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7D7C-F84B-4BB9-9D9C-B0A3B764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E19C-B14B-4737-AFB6-BA4EDB70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09EE-C2E6-4DEE-A2BE-04CDD703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E60E-44B3-4060-8B10-AF700F05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8FCE-3B9D-4856-9308-37EB8799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2485-D1D8-48DB-8AD7-8DA35FEB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4D38-1898-4CF7-8569-3A95FA94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EF38-9708-4217-9B3B-96CA1BD5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CF9D6-B4B7-44DF-9236-C8ADE758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3DC7-FA96-4E8C-A8D5-1552A359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9734-4A17-43D2-BEC0-D9C49426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ABDB-96A9-4ADE-ADA0-7421C4DA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B344-3285-4104-844E-C837EF1E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5551-673B-4CFA-9934-841568DE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FE22-2814-4A0C-9C0D-AD458FD3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2FFF-1E76-4566-A5F2-68CBF68E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C82A-092C-44A5-BA03-2B9ACB7A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3003-5928-4378-8C99-9DDE3427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56B6-1A14-4055-9581-23EE27D7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A514-AC11-49F2-915B-D7C04E5E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087D-9B7D-4695-8B19-E0EF5CAB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7EA4-CD9E-4013-BC21-51F0FDDCCC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B6A4-0D50-439E-B4B3-DC17A97C9B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fdef6"/>
                </a:solidFill>
                <a:latin typeface="Arial"/>
              </a:rPr>
              <a:t>Grupių elgsenos teorij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979B-7493-45AA-8CDD-655521CDB3A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ės elgsena ir vaidmu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up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ė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elgsenos 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kategorijos (Rackham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Morgan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977)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mai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(koncepcija, veik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ystymas (kitų pasiūlymų teikim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Rėmimas (narių ir jų idėj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sutik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ynyba / puol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3AB2-780C-492F-A0D2-6855435684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up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ė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 elgsenos 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ategorijos (Rackham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&amp;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 Morgan,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77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Užblok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tviras elge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uvokimo tikr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ibendr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nformacijos siek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nformacijos teik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Elgesio perėm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Elgesio parėmimas (nario įtraukim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3E44-7A2A-4EA7-85F4-5162EF402A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nkurencija tarp grupių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os grupėje priežast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ilpni ryšiai tarp nari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arbo klimato pokyči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utokratinis vadovavimo stil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iežtas grupės struktūr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idelis akcentas lojalum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3CFB-6BCF-4F9B-B83B-2769618C7F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onkurencija tarp grupių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os tarp grupių priežast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itos grupės traktavimas kaip priešinin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ilpna komunikacija, pasitikėjimo sto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igiami stereotip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zoliuotas požiū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4270-AFD5-495C-A99D-F1468B4E2C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nfliktų tarp grupių sprendim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katinti grupes už jų indėlį į visos organizacijos veiklą, o ne vien už individualius grupės rezultat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katinti tarpgrupinę komunikaciją ir bendradarbiavi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Įgalinti grupės narius pažinti problemas už grupės ribų ir skatinti organizacijos visumos suvoki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iekti išvengti konkurencinių tarpgrupinių situacijų (laimi-pralaimi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skatinti 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ituacijas (laimi – laim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AAA0-8ACB-4E1B-B350-80A24B9802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omandos ir jų formavim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lt-LT" sz="3500" spc="-1" strike="noStrike">
                <a:solidFill>
                  <a:srgbClr val="ffffff"/>
                </a:solidFill>
                <a:latin typeface="Arial"/>
              </a:rPr>
              <a:t>Gera (efektyvi) komanda – kada jos nariai gali dirbti kaip komanda, veikdami atskirai ir orientuodamiesi į veiklų papildomumą ir nuoseklumą nei į bendrą užduotį, reikalaujančią tikslumo vietos ir laiko prasme</a:t>
            </a:r>
            <a:r>
              <a:rPr b="0" lang="lt-LT" sz="3500" spc="-1" strike="noStrike">
                <a:solidFill>
                  <a:srgbClr val="ffffff"/>
                </a:solidFill>
                <a:latin typeface="Arial"/>
              </a:rPr>
              <a:t>... (Adair,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1986m.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0B99-7D3D-49B1-A05A-C6BB5FA9608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mandos lyderio vaidmuo formuojant ir valdant komand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Pirminink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ontroliuojantis ir koordinuojantis, tačiau nekurian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Architekt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sprendimų ir situacijos modeliav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Inovatoriu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ūrybiškas mąstymas ir pozityvus požiūris į kitų idė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Vertin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analizuoja ir objektyviai vertina siūlymus ir idė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F72E-05BC-4B52-9797-96A7760C749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mandos lyderio vaidmuo formuojant ir valdant komand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Kompanijos darbinink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idėjų ir kompanijos bendrų planų įgyvendin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Komandos nary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omandos poreikių identifikavimas ir tenk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Išteklių ieško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išteklių ir idėjų paieška komandos išorėje siekiant komandos tiksl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Įgyvendin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orientuojasi į sėkmingą užduoties įgyvendinimą laiku ir kokybišk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733E-F725-4B7C-B1A9-41D3A0947B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0280" y="1980720"/>
            <a:ext cx="8083440" cy="41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ibūdinti grupių elgsenos teorijų susiformavimo priela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ristatyti pagrindines grupių elgsenos formavimo ir valdymo kryptis ir pžiūr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64AA-8B71-4FB5-8536-6C6EC2CD99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gaus poreikio priklausyti grupei išryšk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įtakos individo elgesiui svarbos suvok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veiklos svarbos organizacijos veiklai išryšk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formavimosi ir elgsenos priežasčių paieška ir principų nust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21B0-4B8D-4D73-885E-434DC7E3AD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elgsenos teorijo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78960" y="1908000"/>
            <a:ext cx="7931160" cy="422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nių grupių formavimas ir elgsenos motyvavim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form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efektyv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apribojim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elgsena ir vaidm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a tarp grupi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mandos ir jų form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BEF5-1A38-44DD-BF04-EC5DF517CB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elgsenos veiksniai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yderi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yd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arn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rių motyv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nor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ividualūs vaidmen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lin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Užduoties prigim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E436-B6DE-4221-9A86-9D0A17D12E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formavimas (B. Tuckman, 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1965)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3116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Formav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forming), užduoties, taisyklių, išteklių, struktūros nustaty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Konflikt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storming), emocionalus pasipriešinimas grupės taisyklė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Normalizav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norming), konfliktų sureguliavimas ir naujų taisyklų nustaty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Veikla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performing), užduočių atlikimas, sprendimų įgyvendin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Užbaig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adjourning), grupės iširimas, atlikus užduot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A376-2FF0-455B-91A8-2B76D93F29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ės darnumo veiksni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panaš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izinis artimumas darbo viet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Užduoties struktū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yd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šorės pavoj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lygio perspekty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avimo stil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anašūs socialiniai faktori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BDD0-03AD-4B0F-9B07-537C84CAEC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Grupių efektyvumo veiksni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eformali, laisva aplin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lačios diskusijos aktyviai dalyvauj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rupės užduoties suvokimas ir įsipareigoj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ariai klauso vienas k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onfliktai sprendžiami konstruktyv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prendimai priimami kolegial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dėjos reiškiamos laisvai ir atvir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Lyderiavimas paskirst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rupė analizuoja savo pažangą ir elges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F25C-0996-4564-B239-F1AD233262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ių apriboji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74872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Grupės dydi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mažos grupės darnesnės, užtikrina dalyvavimą, didelės grupės užtikrina didesnę talentų diversifikacij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Užduoties prigimti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techninės užduotys reikalauja homogeniškų, specifinių grupių, problemų sprendimas, kūrybiškumas reikalauja įvairialypės grupės sudė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Narystė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grupės daugialypiškumas, talentų įvairovė užtikrina grupės efektyvu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Aplinkos veiksniai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darbo aplinka, fizinis artumas ir kiti artimos aplinkos veiksniai, sąlygoja grupės efektyvu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5248-7B6E-4A3F-9FEB-498C58C603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8:18Z</dcterms:modified>
  <cp:revision>45</cp:revision>
  <dc:subject/>
  <dc:title>Introduction to Management</dc:title>
</cp:coreProperties>
</file>