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218-CE58-42EA-BFF6-374B39B4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DCF-2858-4618-A89E-C5FA226C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62E-1953-4667-97F9-EC5AEA10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095-445A-4117-973C-6F35782E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90A2-2892-4993-A435-EFE68907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0DDE-5699-468B-BDB0-60F6454D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233F-35CB-4FA0-AD06-F4748A12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568A-1E31-4FBA-BEA6-ADF9C47B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C57E-A9E1-4405-994A-9786C083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F1E0-F262-4C8A-9AC7-CB2B4EB8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1FC2-C340-4A42-9E51-A7DBEA23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C15-757E-4D56-B0AB-1E3DA373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D993-9B8D-4FC5-AF37-B821F2CE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8056-7523-4A50-96ED-056639AF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79F4-53C8-4668-B325-BFDD98C8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49C0-7C4B-42CE-B090-101CFC32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E6F0-A2EC-48F1-97AB-2D031831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7C1-2F3D-4C72-BFBB-5A5129D0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592-38BB-4DCA-AF1B-E4FB6DA6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CC3-183C-440D-AA60-963D2EEC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0E8-D40E-4CBC-8C72-ADAB4C85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74A-A13A-40A1-A373-E92CB6CC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95C-F37B-4B57-A6E3-BE4C1328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925-EA5F-43D0-BE35-9DCEA310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1CBC-7D8F-48E3-AE8D-0F9BD2B42B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A106-84B6-4EC0-BD4E-B074455CDB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FDF2-EAF3-420D-875A-4799D92D2D0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400" spc="-1" strike="noStrike">
                <a:solidFill>
                  <a:srgbClr val="006633"/>
                </a:solidFill>
                <a:latin typeface="Garamond"/>
              </a:rPr>
              <a:t>Poreikių grupė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931160" cy="47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Fiziologiniai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aistas, miegas, seksas i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ugu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stabiliai aplinkai, būstui, ir apsisaugojimui nuo pavoj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Bendravi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risirišimas, meilė) – noras socialiai priklausyti grupei žmoni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Pripažinimo, pagarb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būti gerbiamam ir pripažintam tarp kit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viraišk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noras išbandyti save ir siekti rezultatų vis aukštesniame lygy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8B3-9783-4D9E-A179-B53A4B8307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Douglas McGregor (X ir Y teorij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tyri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ės žmogaus elgesio motyvų kraštutinumus apibrėžiančios frazės – “valdymo stiliaus” folklor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270-207E-4E7E-B46C-0C83AA6828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dirba tik todėl, kad patenkinti savo materialinius poreiki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nemėgsta ir vengia darbo, atsakomybės ir dirba ne tą, kuris malonus, o kuris gali duoti daugiau pajam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us būtina griežtai prižiūrėti ir versti gerai dirb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ūtina reglamentuoti veiklos turinį, nustatyti procedūras ir kontroliuo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CAA-BAFC-4F84-9CE0-EE95F29C46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linkę dirbti ir darbas reikalingas kaip maistas ir poil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renkasi darbą, kuris jiems malonus ir gali suteikti didžiausią pasitenkinim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stengiasi gerai ir atsakingai atlikti darbą, būti ištikimi organizacijai, siekti jos tiksl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ikia suteikti darbuotojui galimybes save realizuoti, veikti kūrybiškai ir naš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802-870E-4DE9-9090-7B789CB6EF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Chris Argyr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ktas – darbuoto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 asmeninių poreikių ir organizacijos tikslų suderinam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nės vengia darbo ne todėl, kad tingi, bet todėl, kad verčiamu dirbti ir kontroliuojami kaip vaik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uformavo Brendimo – Brandos Teorij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gaus asmenybė vystosi tam tikrose srityse, kurios keičiasi lai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DE7-FB00-416E-B37F-D410724BB5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Brendimo – Brandos teorij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yvumas ----------------------- Aktyvu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klausomybė ---------------- Nepriklausomyb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ibota elgsena ------------------ Įvairi elgs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viršutiniški interesai -------- Gilūs interes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rumpalaikė perspektyva --Ilgalaikė perspekty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ekimo pozicija -------------- Lygiavertė pozi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Nepasitikėjimas ----- Pasitikėjimas ir savikontrol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1E6-2F15-4D9D-8E53-3C49483FFB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Išva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sikinė organizacija pasižym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Užduočių speci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mandų grandinės apibrėž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Valdymo centr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trolės išplėstu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brendę” darbuotojai siekia išvengti nepalankios aplinkos darbe kurdami neformalias grupes ir organizuodami veiklas prieš formalią organizacij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8D06-828F-46F6-BE6B-80A878577CB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F. Herzber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asitenkinimas dar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yrimai skirti nustatyti situacijas, kuomet darbuotojai patyrė pasitenkinimą ir nepasitenkinimą darbo vieto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Motyvator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– veiksniai, sąlygojantys 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Higienos veiksn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lemia ne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311-50C2-4E30-A888-25FDA6DA42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motyva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iekim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paž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sakomybė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aukšt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turiniu ir sąlygoja pozityvų pasitenkinimą darbu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083-C49E-4B88-957B-E0C6943C9C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higienos fak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ompanijos politika ir administr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ežiūra – techniniai aspekt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lyg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arpasmeniniai santyk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o sąlyg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aplinka ir gali tik mažinti nepasitenkinimą j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3CF-CF20-412E-9203-24328A7E41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askaitos tiksl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rėžti motyvavimo koncepcij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ūdinti Bihevioristinės – veiklos ir elgsenos motyvavimo teorijų susiformavimo prielaid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ristatyti pagrindinius autori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 teor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žvelgti jų nuopelnus vadybos mokslu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3E9-B6D5-42EF-9355-B145685184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Rensis Like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ldymo įtaka darbuotojų elgsenai derinant jų interesus su organizacijos ir formuojant santykius neformaliose grupė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Mičigano tyrimai</a:t>
            </a: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žemi kaštai ir aukšt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e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aukšti kaštai ir žem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aujas vadybos modelis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pagrįstas tarpasmeninių santykių rėmimu ir vystym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dovo funkcija – remti darbuotojo priklausomybę grupei ir skatinti asmeninę saviraiška grupės vidu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EEC-00C9-4AA3-ACC7-7758F5533A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dovavimo stil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92936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Eksploatacini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hierarchinė valdžia, kontrolė, bausmės, menka komunikacija, nėra komandinio darbo. Produktyvumas že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Palanku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yra šiek tiek valdžios delegavimo, naudojamos bausmės, tačiau ir skatinimas, konsultuojama darbe. Produktyvumas aukštesnis, tačiau kaštai aukš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Konsultacinis –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tikslai ir užduotys formuojamos po konsultacijų su darbuotojais, naudojamas komandinis darbas. Produktyvumas geras, tačiau motyvavimas nepakanka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arbuotojų dalyvavima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ideali sistema, darbuotojai dalyvauja formuojant tikslus ir užduotis, gerai organizuotas komandinis darbas, gera komunikacija, aukšta motyvacija. Produktyvumas aukš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879-A4ED-4FCC-8D6F-B180FC68B4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teorijų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steminti žmogaus poreikiai ir jų patenkinimo svarba jų elgsen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asmeninių ir organizacijos tikslų suderinamumo problema ir svarba veiklos rezultata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vadovų įtaka motyvuojant darbuotoj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grupių svarba motyvuojant joms priklausančius darbuotojus siekti geresnių rezultatų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3FA-4C97-40FF-885D-85A3173E714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vėl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. H. Vroom (Vilč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obbins (Turt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Lock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Lathman (Tiksl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elley (Požym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. F. Skinner (Gebėjimų stiprinim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W. Ouchi 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F8C-0F57-47C1-B817-583A800813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V. H. Vroom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a realio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interpratecij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lči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trijų dalykų – pastanga, atlikimas, atlyg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suvokimą sąlygojančių veiksnių apibrėžim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AB8-E86C-4191-9843-8E676668F7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o veiksnia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ilt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ikėjimas, kad atitinkamas veiksmas duos laukiamą rezultat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emonė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 - tikėjimas, kad atitinkamų priemonių panaudojimas duos laukiamą rezultatą ir atlyg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lentinguma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– įsitikinimo laipsnis, kad patrauklus atlygis potencialiai yra įmano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5AE-792D-4DA4-B5F7-3C4604AA80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romoji jėg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romoji jėga (VJ)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Force (F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rijų motyvavimo veiksnių kombinac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)=Viltis (Expectancy E)* Valentingumas (Valence 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E*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4C6-453E-40F7-93FD-FAE9AA59BF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l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čių teorijos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eikė suprantamą požiūrį į motyvavimo proces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rindė, kad individai veikia, jei yra įsitikinę, kad jų veikla duos pageidaujamus rezul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skleidė individualaus situacijos suvokimo svarbą motyvavimo procesu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, kad efektyvus atlikimas suteikia pasitenkinimą darbu, o ne atvirkščiai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 darbo veiksnių – autonomiškumas, įvairovė, užduoties suvokimas ir grįžtamasis ryšys yra svarbiausi organizuojant darb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DB7-1700-4FBC-8E74-10C637AD2B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Robbi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u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iūriu į veiklos ir naudos santyk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urto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dedamų pastangų darbui atlikti ir gaunamos naudos (teisingum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s suvokdamas situacijos neteisingumą patiria “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turtinę įtamp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6C3-3B36-4295-BDA1-BD092838B1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urtinė įtampa skatina elgtis taip, kad suvokiamos situacijos neteisingumas būtų panaikin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pozityviai, jei suvokia kad gaunama nauda yra per didelė ir reikalauja didesnių pastang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per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negatyviai, jei suvokia kad gaunama nauda yra per maža ir neatitinka įdedamų pastang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neį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92B-0049-4258-A1CB-C524457684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stinktyvūs ir racionalūs procesai, kurių metu žmogus siekia patenkinti savo poreikius ir tikslus, kurie sąlygoja ir formuoja žmogiškąjį elgesį. (Col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95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617-A35C-4063-9DA7-8C780FADC7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os šalinimo būdai (Robbin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alimi darbuotojo elgesio pasirinkimai, šalinant įtamp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indėlis į darbą (nenaudoti per daug pastangų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rezultatai (daryti daugiau, net jei ir prastesnės kokybė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savęs vertinimas (dirbu žymiai sunkiau ir daugiau negu ki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kitų vertinimas (kiti darbai žymiai patrauklesni (arba ne) negu aš galvoja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irenkamas skirtingas vertinimo atskaitos taškas (nesvarbu, kad blogesnis už kažką bet geresnis už kit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liekamas dar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7F7-0112-4781-A4EB-95642EE91D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o teorijos esm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Individai vertina ne tik indėlio į darbą ir gaunamos naudos santykį (kaip vilčių teorijoje), bet ir siekia palyginti jį su kitomis veiklomis ir tai tampa esminiu stimulu veikl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dividai patys susikuria tam tikrus teisingo atlygio už darbą standartus... Šie standartai yra santykiniai; atlygio skirtumai suvokiami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pažįstami) kaip teisingi už skirtingai atliktą darbą (skitingas atlikimo lygis)   Jaque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64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104-26C6-4D64-B2BD-3076418012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Locke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&amp;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Lathm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katinant siekti savų tikslų ir uždavini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asmeniniai siekiai patys savaime yra stiprūs motyvator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uo tikslai specifiškesni tuo labiau motyvuoja. “Atlikti darbą gerai” pats savaime nėra stiprus motyvas, tuo tarpu asmeninis specifinis tikslas yra žymiai stipresnis motyvas atlikti darbą ger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D48-82D3-4C64-9F83-D8E8BE4D3D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ikslo “nuosavybė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o individualizavimas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įsipareigojimą tikslui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ir motyvaciją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sipareigojimas didėja, jei tikslai tampa vieš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pecifinis individualus tikslas stiprina pasitikėjimą savo jėgomis ir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eiksmingum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harmonizuoti juos su organizacijos tiksla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efektyviau valdyti organizaciją (MB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D19-3688-432F-850A-7F3C738509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Kell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vidinius ir išorinius veiksniu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ymių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įgauna tam tikrus požymius, nes jį suformuoja vidiniai veiksniai (kontroliuojami) ir išoriniai aplinkos veiksniai (nekontroliuojam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pasirinkdami tam tikrą elgesį daro tai sąmoningai ir verčiami tam tikrų aplinkos veiksni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572-B1C7-48D5-BC31-D05CEEFA0BD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požym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iniai kriterijai lemiantys elgesio pasirinkimą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skirtin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išskirtinai ir netipiškai pasielg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sensus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atitinka tipišką elgesį tipinėse situacijo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tov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pastovus ir nuoseklus laikui bėga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lgesys pasižymintis vidiniais kriterijais kontroliuojamas ir motyvu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šoriniai kriterijai lemia elgesį, vengiant atsakomybės, įsipareigojimo ir kontrolė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443-80A8-4783-9B72-0BDFC3C713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. F. Skin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išorinius veiksnius, naudotus praeityj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Gebėjimų stiprinimo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yra ankstesnių elgesio pasekmių funk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o elgesį galima motyvuoti veiksniais, kurie davė rezultatų praeityje ir kurių poveikis stiprina įgūdžius veikti ateity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532-0015-4899-BB16-058D3AE91E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motyvavimo būd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ozityviai skatinti norimą elges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gnoruoti nepageidaujamą elges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ngti bausmių, kaip pagrindinės priemonės, siekiant norimų rezultat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stiprinti įgūdžius iš kart, kai pageidaujamas rezultatas pasiek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yti pozityvų įgūdžių stiprinimą reguliar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rtinti pozityvius ir negatyvius individualios aplinkos veiksn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ibrėžti norimo elgesio ir rezultato santykį kiekybiš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E15-0F86-46FB-957E-9131ABAEC11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W. Ouch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, taikant japoniškosios vadybos principu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“Z” tipo organizacija siekia tobulinti savo gebėjimus koordinuoti žmones, ne technologijas, didinant produktyvum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A55-DDDB-4DC8-B397-E58139E01E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Japoniškosios vadybos bruožai lyginant su vakarietiš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ojalumas organizacijai / lojalumas profesi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ėtas kilimas karjeros laiptais / poreikis diktuoja kilimą karjeros laip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tas darbo keitimas / dažnas darbo kei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mda visam gyvenimui / samdos garantijų nė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ertinami ilgalaikiai darbai / vertinami darbo rezult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lgalaikis dėmesys kvalifikacijos kėlimui / kvalifikacijos tobulinimas pagal poreik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41D-5A70-46A9-B6F2-9A1322C29C5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 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del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844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iz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im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869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ocialiniai/ intelektiniai/ emoc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1916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508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tsak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1916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sitenki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501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ivyl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26920" y="3715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573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50072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573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451640" y="2276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3789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A49-870B-4A15-975E-B14A0ACAE7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“Z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naikinti visus dirbtinius barjerus statusui formuoti (harmonizavi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struktūrizuoti darbą, sudarant sąlygas darbuotojui prisiimti prasmingą vaidmenį ir pozityviai įtakoti organizacijos sėkm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lėtoti mokymus, užtikrinant valdymo tęstinum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obulinti komunikaciją visomis kryptimis akcentuojant kompanijos veiklą, politiką ir ateities galimy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dinti individualią atsakomybę darbui, kokybei ir aplin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egti naujoves organizacijos valdyme ir darbo organizav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E6D-D844-400F-A04D-7A576E9D214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 teorijų (vėlyvesnių) nuopelna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žmogaus asmeninių siekių ir subjektyvios motyvacijos svarba, skatinant elgesį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i vadovavimo principai skatinant darbuotojų subjektyvią motyvacij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analizuoti ir pristatyti japoniškosios vadybos principai ir ypatum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Japoniškojo valdymo principai pateikti, kaip efektyvūs darbuotojo subjektyvios motyvacijo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A61-B520-47B0-A9BC-E26039D360A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Motyvavimo požiūriai </a:t>
            </a:r>
            <a:br>
              <a:rPr sz="3800"/>
            </a:b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pagal Schein (</a:t>
            </a:r>
            <a:r>
              <a:rPr b="0" lang="en-US" sz="3800" spc="-1" strike="noStrike">
                <a:solidFill>
                  <a:srgbClr val="006633"/>
                </a:solidFill>
                <a:latin typeface="Brush Script MT"/>
              </a:rPr>
              <a:t>1965)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acionalus – ekonominis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Asmeninių interesų ir naudos maksimiz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ocialini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Socialiniais poreikiais asmeniniais santy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aviraiško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Pripažinimo, pagarbos ir saviraiškos porei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udėtinga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Kompleksiškas ir sudėtingas įvairių poreikių, interesų ir tikslų derinys, sąlygojantis žmogaus elgsen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4D6-4980-45C0-8040-343FA740F7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Brush Script MT"/>
              </a:rPr>
              <a:t>Prielaidos</a:t>
            </a:r>
            <a:r>
              <a:rPr b="0" lang="en-US" sz="4200" spc="-1" strike="noStrike">
                <a:solidFill>
                  <a:srgbClr val="006633"/>
                </a:solidFill>
                <a:latin typeface="Brush Script MT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ių teorijų ribotas požiūris į žmogaus svarbą organizacijo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Motyvacinių priemonių ir metodų trūkumas ir ribot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sapusiškų veiklos aktyvinimo motyvų paieška ir taikymo organizacijų valdyme galimybė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266-D802-4F5F-9118-A79D5A5095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ankst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braham Mas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ouglas McGregor (X ir Y teorij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Chris Argy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F. Herzberg (Motyvavimo – higienos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nsis Lik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A4B-D7FC-4D8C-A059-4E9AACB869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Abraham Mas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merikiečių psicholog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43m.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irmasis paskelbė žmonių poreikių, skatinančių jų elgesį, hierarchinę piramidę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– žmogaus veiklą sąlygojančių poreikių visu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D4A-9265-418D-925E-07EB1ACAD2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oreikių hierarch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484280"/>
            <a:ext cx="7848720" cy="432108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537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ziologin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4724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4005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3429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paži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70828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viraiš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5229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458136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393372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284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8E1-C992-4A7A-AF86-6722FF1034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00Z</dcterms:modified>
  <cp:revision>53</cp:revision>
  <dc:subject/>
  <dc:title>Introduction to Management</dc:title>
</cp:coreProperties>
</file>