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2885-2D47-41EB-BA9B-D74196E54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7EA0-5627-451F-8272-08AF6709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4935-4141-4B7A-9EB7-FCE51E44A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2034-7BA3-4972-8965-3310ABA46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5099-FE2F-4CA2-AFD9-DC724FD3D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407A-D8E0-4FDD-B64D-1BBC6C1B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9DF3-F643-41A7-B07A-50EA7539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5FEF-D075-46F5-8C76-F97A2AD2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C861-E720-43ED-B04B-81AA4BA5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0AC8-2E5B-4AA4-AF9A-18C12B3E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8290-2CB9-41C4-A026-81A75A98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7976-54F6-4B20-869F-1C4269FD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B138-958A-4D94-8DCB-8B43C7F4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90F4-BF7C-4F54-8B38-BB6F1140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59CE-1A9A-4254-9602-3D4E675A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AD0A-70D6-4F9D-961E-573E5E1D7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F311-4154-42ED-84DE-773F50007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F912-BF57-421B-AC38-B62FB23A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CC31-7CF9-43E5-AE82-C61AE50B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3E3A-7C4A-4053-8E1D-FFF4EC13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4BFC-5312-4F86-A83F-3BC84760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1B6E-3783-44A3-9126-879B8096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B2B6-FC12-41C2-8014-3B816C84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3F99-45D0-468D-B26F-D4CEF60F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0C29-4D7E-415D-BA6F-AB392CC203C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7333-1F5F-4B8F-BCB3-96B0D73869E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400" spc="-1" strike="noStrike">
                <a:solidFill>
                  <a:srgbClr val="b9efee"/>
                </a:solidFill>
                <a:latin typeface="Garamond"/>
              </a:rPr>
              <a:t>Žmogiškųjų santykių teorija: Howthorne eksperimentai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9201-2238-44E2-8042-C3237EA12D1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700" spc="-1" strike="noStrike">
                <a:solidFill>
                  <a:srgbClr val="b9efee"/>
                </a:solidFill>
                <a:latin typeface="Garamond"/>
              </a:rPr>
              <a:t>Howthorne eksperimentai: išvados</a:t>
            </a:r>
            <a:endParaRPr b="1" lang="en-US" sz="47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13924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Individas negali būti aktyvinamas izoliuotai- bet tik kaip grupės nary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Poreikis priklausyti grupei ir būti svarbiam joje yra netgi svarbesnis nei atlygis už darbą bei fizinės darbo sąlyg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Neformalios grupės turi didžiulę įtaką darbuotojo elgesiui darbo vietoj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Meistrai ir vadovai turi kreipti dėmesį į socialinius poreikius ir siekti juos pakreipti formalios organizacijos labui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C4EC-0A3E-4A69-A685-334B6E0FE21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b9efee"/>
                </a:solidFill>
                <a:latin typeface="Garamond"/>
              </a:rPr>
              <a:t>Mayo išvada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4000" y="1841040"/>
            <a:ext cx="7931160" cy="421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lt-LT" sz="4000" spc="-1" strike="noStrike">
                <a:solidFill>
                  <a:srgbClr val="ffffff"/>
                </a:solidFill>
                <a:latin typeface="Garamond"/>
              </a:rPr>
              <a:t>ŽMOGUS – socialinis gyvūnas tiek darbe tiek gyvenime, todėl individo priklausomybė grupei yra ypatingai svarbi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79E6-574A-4FC7-A8CE-5BD5805FE69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Garamond"/>
              </a:rPr>
              <a:t>Mary Parker Folle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1868-1933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Tyrimų objektas – žmonių santykiai ir organizacinė struktūr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Valdymas – menas kurti daiktus per kitus žmon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A39F-BAD5-4518-BFAC-4C9075781AE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9efee"/>
                </a:solidFill>
                <a:latin typeface="Garamond"/>
              </a:rPr>
              <a:t>Tyrimų objekta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91520" cy="421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02840" indent="-402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Vadovų ir pavaldinių santykių analizė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9920" indent="-39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Valdžios ir autoriteto sąvokų analizė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02840" indent="-402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Garamond"/>
              </a:rPr>
              <a:t>Valdžia</a:t>
            </a: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 – objektyvi valdymo sudėtinė dal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9920" indent="-39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Garamond"/>
              </a:rPr>
              <a:t>Autoritetas</a:t>
            </a: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 įgyjamas teisingai naudojantis valdž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02840" indent="-402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Vadovo atsakomybės analizė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9920" indent="-39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Garamond"/>
              </a:rPr>
              <a:t>Atsakomybė</a:t>
            </a: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 – “už ką atsakau”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9920" indent="-39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Garamond"/>
              </a:rPr>
              <a:t>Grupinė atsakomybė</a:t>
            </a: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 – atsakomybė už darbų derinimą su kitais, tuo pačiu atsakant už grupės darbo rezultat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B4C9-477D-4F01-84F8-1950FF70D14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b9efee"/>
                </a:solidFill>
                <a:latin typeface="Garamond"/>
              </a:rPr>
              <a:t>Vidiniai konfliktai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000" y="1841040"/>
            <a:ext cx="7931160" cy="421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93840" indent="-3938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Konfliktų sprendimo tipai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93840" indent="-3938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Garamond"/>
              </a:rPr>
              <a:t>Dominavimas</a:t>
            </a: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 – kai viena pusė sugeba įveikti kit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93840" indent="-3938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Garamond"/>
              </a:rPr>
              <a:t>Kompromisas</a:t>
            </a: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 – kai abi pusės daro nuolaidas ir susitar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93840" indent="-3938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Garamond"/>
              </a:rPr>
              <a:t>Integravimas</a:t>
            </a: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 – kai abi pusės ieško konflikto priežasčių ir būdų joms pašalinti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93840" indent="-3938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Viena iš konfliktų priežasčių – vadovavimo būd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93840" indent="-3938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Grubus komandavimo būdas iššaukia psichologinį pasipriešinim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A33A-8CA9-47FE-AEC6-A8EC8483036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b9efee"/>
                </a:solidFill>
                <a:latin typeface="Garamond"/>
              </a:rPr>
              <a:t>Organizacijos reikšmė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Grupės svarba – sujungiant asmeninius gabumus į kažką didesnio (sinergij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Aplinkos veiksnių įtaka organizacijai: politika, ekonomika, biologija ir t.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Valdymo objektas ne tik organizacija bet ir organizacijos aplink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ugelio šiuolaikinių vadybos teorijų ir požiūrių pagrind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CED4-A90B-4440-8F71-8ED2DD69718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b9efee"/>
                </a:solidFill>
                <a:latin typeface="Garamond"/>
              </a:rPr>
              <a:t>M. P. Follet išvada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000" y="1841040"/>
            <a:ext cx="7931160" cy="421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20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20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lt-LT" sz="4000" spc="-1" strike="noStrike">
                <a:solidFill>
                  <a:srgbClr val="ffffff"/>
                </a:solidFill>
                <a:latin typeface="Garamond"/>
              </a:rPr>
              <a:t>Darbininkai, apgalvodami, kaip vykdyti sprendimus, dalyvauja valdyme – sprendimų realizavime. Todėl svarbu juo įtraukti ir į sprendimo priėmimo procesą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34C8-C08C-4FD7-B4E0-36BC973FF24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9efee"/>
                </a:solidFill>
                <a:latin typeface="Garamond"/>
              </a:rPr>
              <a:t>Žmogiškųjų santykių teorijos nuopelnai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1771200"/>
            <a:ext cx="7929360" cy="42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Garamond"/>
              </a:rPr>
              <a:t>Išryškintas žmogaus vaidmuo organizacijoj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Garamond"/>
              </a:rPr>
              <a:t>Išryškinta socialinių veiksnių įtaka darbuotojų elgsenai ir darbo našumui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Garamond"/>
              </a:rPr>
              <a:t>Išryškinta neformalių santykių organizacijoje svarba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Garamond"/>
              </a:rPr>
              <a:t>Išryškinta žmogaus priklausomybės grupei svarba – grupių valdymo teorijų ištako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Garamond"/>
              </a:rPr>
              <a:t>Motyvavimo aktyviai veiklai veiksnių analizė – motyvavimo teorijų ištako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Garamond"/>
              </a:rPr>
              <a:t>Išryškinta vadovų asmeninė įtaka santykiams </a:t>
            </a:r>
            <a:r>
              <a:rPr b="0" i="1" lang="lt-LT" sz="2600" spc="-1" strike="noStrike">
                <a:solidFill>
                  <a:srgbClr val="ffffff"/>
                </a:solidFill>
                <a:latin typeface="Garamond"/>
              </a:rPr>
              <a:t>su</a:t>
            </a:r>
            <a:r>
              <a:rPr b="0" lang="lt-LT" sz="2600" spc="-1" strike="noStrike">
                <a:solidFill>
                  <a:srgbClr val="ffffff"/>
                </a:solidFill>
                <a:latin typeface="Garamond"/>
              </a:rPr>
              <a:t> darbuotojais ir santykiams </a:t>
            </a:r>
            <a:r>
              <a:rPr b="0" i="1" lang="lt-LT" sz="2600" spc="-1" strike="noStrike">
                <a:solidFill>
                  <a:srgbClr val="ffffff"/>
                </a:solidFill>
                <a:latin typeface="Garamond"/>
              </a:rPr>
              <a:t>tarp</a:t>
            </a:r>
            <a:r>
              <a:rPr b="0" lang="lt-LT" sz="2600" spc="-1" strike="noStrike">
                <a:solidFill>
                  <a:srgbClr val="ffffff"/>
                </a:solidFill>
                <a:latin typeface="Garamond"/>
              </a:rPr>
              <a:t> darbuotojų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7C8F-3D72-45D4-BB3F-97912FD0C1A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Garamond"/>
              </a:rPr>
              <a:t>Paskaitos tiksla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0280" y="1977840"/>
            <a:ext cx="8083440" cy="408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Apibūdinti žmogiškųjų santykių teorijos susiformavimo prielaida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Pristatyti pagrindinius autori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Apžvelgti jų nuopelnus vadybos mokslu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EF3D-B682-4706-8DEB-C0A9D60E8BB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Brush Script MT"/>
              </a:rPr>
              <a:t>Prielaidos</a:t>
            </a:r>
            <a:r>
              <a:rPr b="1" lang="en-US" sz="4400" spc="-1" strike="noStrike">
                <a:solidFill>
                  <a:srgbClr val="b9efee"/>
                </a:solidFill>
                <a:latin typeface="Brush Script MT"/>
              </a:rPr>
              <a:t> 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Klasikinių teorijų ribotas požiūris į žmogaus svarbą organizacijoj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Organizacijų vadovų didelis dėmesys darbo organizavimui ir produktyvumo didinimui, tačiau mažas darbuotojų darbo sąlygų gerinimu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Vadovų ir pavaldinių santykių problem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EA36-F41C-4827-9E3D-638E6BA3B1F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9efee"/>
                </a:solidFill>
                <a:latin typeface="Garamond"/>
              </a:rPr>
              <a:t>Elton Mayo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78960" y="1904760"/>
            <a:ext cx="7931160" cy="418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1880 – 1949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Harvardo </a:t>
            </a:r>
            <a:r>
              <a:rPr b="0" lang="lt-LT" sz="3000" spc="-1" strike="noStrike">
                <a:solidFill>
                  <a:srgbClr val="ffffff"/>
                </a:solidFill>
                <a:latin typeface="Garamond"/>
              </a:rPr>
              <a:t>vadybos mokyklos p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sichologijos profesorius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Garamond"/>
              </a:rPr>
              <a:t>Žymiausiais žmogiškųjų santykių problemų tyrinėtojas XX amžiuje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1927 – 1932 </a:t>
            </a:r>
            <a:r>
              <a:rPr b="0" lang="lt-LT" sz="3000" spc="-1" strike="noStrike">
                <a:solidFill>
                  <a:srgbClr val="ffffff"/>
                </a:solidFill>
                <a:latin typeface="Garamond"/>
              </a:rPr>
              <a:t>Vakarų elektrotechniko kompanijos Howthorne gamykloje Čikagos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atliko </a:t>
            </a:r>
            <a:r>
              <a:rPr b="0" lang="lt-LT" sz="3000" spc="-1" strike="noStrike">
                <a:solidFill>
                  <a:srgbClr val="ffffff"/>
                </a:solidFill>
                <a:latin typeface="Garamond"/>
              </a:rPr>
              <a:t>tyrimus, tapusius vadybos mokslo klasik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Garamond"/>
              </a:rPr>
              <a:t>Objektas – žmonių socialiniai santykiai darbe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DEA2-6571-4CB4-8573-6A0137C2B3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300" spc="-1" strike="noStrike">
                <a:solidFill>
                  <a:srgbClr val="b9efee"/>
                </a:solidFill>
                <a:latin typeface="Garamond"/>
              </a:rPr>
              <a:t>Howthorne eksperimentai</a:t>
            </a:r>
            <a:endParaRPr b="1" lang="en-US" sz="43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Garamond"/>
              </a:rPr>
              <a:t>Pirmoji stadij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1924 – 1927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Objektas – apšvietimo darbo vietoje įtaka darbo našumu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Dvi darbuotojų grupės atskirtos viena nuo kitos ir nuo kitų gamyklos darbuotoj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Viena – kontrolinė grupė – turėjo pakankamų, pastovų apšvietim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Kita- -eksperimentinė grupė – kintamą apšvietim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Abiejų grupių darbo našumas padidėjo, net ir stipriai sumažinus apšvietimą eksperimentinei grupe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E465-9C35-45CC-B69E-935B617D06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700" spc="-1" strike="noStrike">
                <a:solidFill>
                  <a:srgbClr val="b9efee"/>
                </a:solidFill>
                <a:latin typeface="Garamond"/>
              </a:rPr>
              <a:t>Howthorne eksperimentai</a:t>
            </a:r>
            <a:endParaRPr b="1" lang="en-US" sz="47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03280" y="1628280"/>
            <a:ext cx="749160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Garamond"/>
              </a:rPr>
              <a:t>Antroji stadija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1927 – 1929)</a:t>
            </a:r>
            <a:r>
              <a:rPr b="0" i="1" lang="lt-LT" sz="2800" spc="-1" strike="noStrike">
                <a:solidFill>
                  <a:srgbClr val="ffffff"/>
                </a:solidFill>
                <a:latin typeface="Garamond"/>
              </a:rPr>
              <a:t> – Rėlių surinkimo bandymų kambary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Garamond"/>
              </a:rPr>
              <a:t>Objektas – fizinių darbo sąlygų įtakos darbo našumui tyrim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Garamond"/>
              </a:rPr>
              <a:t>Šešios darbininkės atskirtos nuo kitų darbuotojų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Garamond"/>
              </a:rPr>
              <a:t>Buvo atliekama fizinių darbo sąlygų kaita: įvestos poilsio pertraukėlės ir keičiama jų trukmė, pietų pertraukos laikas ir trukmės keičiami ir pa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Garamond"/>
              </a:rPr>
              <a:t>Darbo našumas auga, nepaisant darbo sąlygos gerėjo ar blogėjo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Garamond"/>
              </a:rPr>
              <a:t>Išvada – Howthorne efektas – darbininkės reagavo ne tiek į pokyčius, kiek į joms rodomą dėmesį – objektas peraugo į požiūrių ir vertybių tyrimą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4FAE-375A-4E35-B65B-C6A7BC1F117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700" spc="-1" strike="noStrike">
                <a:solidFill>
                  <a:srgbClr val="b9efee"/>
                </a:solidFill>
                <a:latin typeface="Garamond"/>
              </a:rPr>
              <a:t>Howthorne eksperimentai</a:t>
            </a:r>
            <a:endParaRPr b="1" lang="en-US" sz="47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03280" y="1628280"/>
            <a:ext cx="749160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Garamond"/>
              </a:rPr>
              <a:t>Trečioji stadij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1928 – 1930)</a:t>
            </a:r>
            <a:r>
              <a:rPr b="0" i="1" lang="lt-LT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Objektas – darbuotojų požiūrių į darbo sąlygas, jų priežiūrą ir jų darbą tyrim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Apklausta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 000 darbuotoj</a:t>
            </a: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ų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Pasėkoje - pagerintos darbo sąlygos, patobulinti darbo priežiūros metodai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Tapo aišku, kad darbuotojų santykiai bei vadovų santykis su darbuotojai yra labai svarbus veiksnys, formuojant darbuotojų požiūriu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C687-17BA-4CE8-BADE-3D6185D910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700" spc="-1" strike="noStrike">
                <a:solidFill>
                  <a:srgbClr val="b9efee"/>
                </a:solidFill>
                <a:latin typeface="Garamond"/>
              </a:rPr>
              <a:t>Howthorne eksperimentai</a:t>
            </a:r>
            <a:endParaRPr b="1" lang="en-US" sz="47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03280" y="1628280"/>
            <a:ext cx="749160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Garamond"/>
              </a:rPr>
              <a:t>Ketvirtoji stadij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1932)</a:t>
            </a:r>
            <a:r>
              <a:rPr b="0" i="1" lang="lt-LT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– elektros instaliacijos </a:t>
            </a:r>
            <a:r>
              <a:rPr b="0" i="1" lang="lt-LT" sz="3200" spc="-1" strike="noStrike">
                <a:solidFill>
                  <a:srgbClr val="ffffff"/>
                </a:solidFill>
                <a:latin typeface="Garamond"/>
              </a:rPr>
              <a:t>gamybos priežiūros kambar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Objektas – darbininkų darbo našumo tyrimas įprastomis sąlygomis, tačiau izoliuotai nuo kitų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4</a:t>
            </a: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 vyrų buvo perkelti dirbti į atskirą patalp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Darbo sąlygos buvo daugiau mažiau tos pači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Tyrimas truko šešis mėnesiu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Darbuotojai gana greitai nustatė savo bendravimo taisykles, požiūrius bei suformavo neformalią grupę, kuri siekė apsisaugoti nuo išorinės įtakos, tuo pačiu kontroliuodama vidaus tvark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9491-3481-42EC-A580-ACF2BE237FE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700" spc="-1" strike="noStrike">
                <a:solidFill>
                  <a:srgbClr val="b9efee"/>
                </a:solidFill>
                <a:latin typeface="Garamond"/>
              </a:rPr>
              <a:t>Howthorne eksperimentai</a:t>
            </a:r>
            <a:endParaRPr b="1" lang="en-US" sz="47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03280" y="1628280"/>
            <a:ext cx="749160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600" spc="-1" strike="noStrike">
                <a:solidFill>
                  <a:srgbClr val="ffffff"/>
                </a:solidFill>
                <a:latin typeface="Garamond"/>
              </a:rPr>
              <a:t>Baigiamoji stadija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(1936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Objektas –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rim</a:t>
            </a: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ų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rezultat</a:t>
            </a: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ų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yrimas ir i</a:t>
            </a: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dos</a:t>
            </a: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Išryškintas profesinio orientavimo poreiki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Analizuotas darbininko – meistro, ir darbininko – vadovo santyki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Išryškintas meistro vaidmuo, analizuojant darbininkų darbo problemas ir ieškant būdų jas spręst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65DC-9A32-4109-A689-C6EA7472E2E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3-08T13:41:29Z</dcterms:modified>
  <cp:revision>44</cp:revision>
  <dc:subject/>
  <dc:title>Introduction to Management</dc:title>
</cp:coreProperties>
</file>