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63F1-E1BA-4601-B999-78619CA1D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9789-5DE6-4B3B-A3A0-8F4017DB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D7DA-67F5-4751-98B6-4A62D4B31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5F13-C784-4BC6-A7B2-63E15FFBF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176E-A854-4EDB-AB21-0443EBBC3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C4A7-4409-4B7A-917A-A556C1D1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03E8-F05A-4476-A27E-6F5290BC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EEE3-6C0F-447D-A2CB-2AF299E9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3396-3A59-466D-A3AD-CCA8CE65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838E-7970-4693-9DC7-1DB6C275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C479-CF96-450A-8159-869FB106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F254-58EA-438B-BD85-FFECCDC3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5F31-895E-48FA-856B-2FA944D3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B9A1-2566-4F5B-A302-A76B0F88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E1D0-0096-4E30-94DD-2AC6639F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4036-B037-4066-A502-45F809E65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6A9C-5A58-4D20-B9C2-22B8EB662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AEF0-DB9E-48DE-99C7-A27B9FB6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6BA2-E993-4E24-AD26-66B109D0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A8DF-38F4-4B47-8892-0230A7A0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599A-8B32-4BB2-9236-801B131B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0B7A-1F43-416A-B034-439DBE94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DD0E-18AC-4BAA-BA8A-221B7EC6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9D81-CC66-45A2-9568-6336362C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F97F-4D93-4934-AD79-2D1C4F0DB3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925F-A9CD-420E-9591-663DF23F2C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M. Weber idealaus biurokratinio valdymo teor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E47D-4E84-4BB4-AEBB-2EB0048DC04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3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3399"/>
                </a:solidFill>
                <a:latin typeface="Tahoma"/>
              </a:rPr>
              <a:t>Weber biurokratijos koncepcijos esmė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92936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Formalizuoti ir reglamentuoti santykius tarp darbuotojų organizacijoje, suformuoti “nuasmenintą” santykių atmosferą, eliminuoti vienų prielankumą (neprielankumą) kitiems. Bet koks nukrypimas nuo reglamentų neigiamai veikia darbo efektyvumą ir rezultatu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01BE-8A86-4B78-A129-5A744203933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Biurokratijos struktūrinė charakteristik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29840" y="1699920"/>
            <a:ext cx="871380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Hierarchinė struktūr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– aiškiai apibrėžta valdžios hierarchija yra racionalaus darbuotojų elgesio kontrolės pagrin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areigybės yra sujungtos vertikaliais ryšiais, sudarančiais įsakymų linij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ldžia didėja su kiekvienu laipteliu aukšty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Darbų grupė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– struktūriniai padaliniai, kurie leidžia kompleksinius darbus racionaliai suskaidyti į atskiras operacij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Tai leidžia efektyviausiai panaudoti darbuotojus ir lengviau specializuoti naujai priimtu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D8E3-FFD9-4BA5-B3A5-F275C79250E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Biurokratijos struktūrinė charakteristik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29840" y="1699920"/>
            <a:ext cx="871380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Taisyklės ir procedūro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– svarbu paskirstyti taisykles ir procedūras organizacijos darbuotojams formuojant sprendimo priėmimo grandinę ir darbuotojų elgesį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Taisyklės ir procedūros garantuoja organizacijos stabilumą ir apsaugo nuo savanaudiško elges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Techninė kompetencij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– racionaliai apibrėžtos pareigybės leidžia parinkti geriausiai kompetentingus darbuotoju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Garantuoja personalo parinkimo objektyvum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F1D8-2DDA-4442-9710-E1C88BE4984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Biurokratijos struktūrinė charakteristik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29840" y="1699920"/>
            <a:ext cx="871380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Tahoma"/>
              </a:rPr>
              <a:t>Nuosavybės atskyrimas</a:t>
            </a: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 – atskiriant savininkus nuo valdymo galima užtikrinti objektyvesnį valdymą, nepagrįstą savanaudiškais tikslai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Savininkai daugiau orientuojasi į kuo didesnį pelną, bet ne į produktyvumo didinimą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Tahoma"/>
              </a:rPr>
              <a:t>Pareiginė valdžia</a:t>
            </a: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 – būtina valdžia suteikti pareigybei, bet ne asmeniui, vengiant jos panaudojimo savanaudiškais tikslai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Asmuo, praradęs pareigas, praranda ir valdžią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Tahoma"/>
              </a:rPr>
              <a:t>Faktų fiksavimas</a:t>
            </a: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 – būtina raštu fiksuoti visus įvykius bei sprendimus ateities sprendimam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A6DF-EC8C-408D-BB8A-86F7F8087A0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Ideali organizac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lt-LT" sz="3600" spc="-1" strike="noStrike">
                <a:solidFill>
                  <a:srgbClr val="000000"/>
                </a:solidFill>
                <a:latin typeface="Tahoma"/>
              </a:rPr>
              <a:t>Visiems laikantis nustatytų taisyklių ir procedūrų, nelieka vietos asmeniškumams, formuojasi “sveika korporacijos dvasia”, nėra sąlygų intrigoms, paskaloms ir panašiems dalykams. Tokia atmosfera sąlygoja aukštą veiklos efektyvumą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D1CA-E8B4-4FE0-ABD9-3CAB40D246E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Weber nuopelnai vadyb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Pirmas kompleksiškai suformuluotas požiūris į organizacijos formaliąją struktūrą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Biurokratinės – tiksliai veikiančios organizacinės struktūros reikšmės išryškinimas organizacijos veiklos efektyvumui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Organizacinės struktūros svarbos formalių tikslų siekimui išryškinima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Organizacinė struktūra būtina ir galima bet kokioje organizacijoje, nepriklausomai nuo dydžio ir kompleksiškumo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Išryškinta koordinavimo ir kontrolės svarba 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F45B-C944-40EA-B4EF-B1ABEFE50AD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50640" y="2363760"/>
            <a:ext cx="763596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ibūdinti biurokratinio valdymo teorijos prielaida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ibrėžti biurokratijos samprat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ristatyti Max We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žvelgti jo nuopelnus vadybos mokslui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BF0B-930F-45C5-B619-E62FF5D85F7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333399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Monopolinių organizacijų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gimo ir 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valdymo problem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Organizacinės valdymo struktūros sureikšminimas Fayol ir Taylor darbu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Įmonių valdymo ir veiklos organizavimo efektyvumo problem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A2F9-EC1A-4EE9-B5DA-623CB71EBF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Biurokratijos esmė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92120" y="2296800"/>
            <a:ext cx="7491600" cy="38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Tradicinė samprata. Biurokratija – valdymas, panaudojant biurų sistemą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Weber samprata. Biurokratija – valdymas, organizuojant grupinę veiklą, šią veiklą griežtai reglamentuojant taisyklėmis, standartais, instrukcijomis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C1C5-0823-4925-9B20-42385B851D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Biurokratijos esmė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Biurokratija – “raudonoji linija”, pagrįsta daugybe neefektyvaus popierinio darbo ir nelanksčių taisyklių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Biurokratija – “valstybinis aparatas”, susijęs su vietinės ar centrinės valdžios institucijomis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Biurokratija – “organizacinė forma”, pagrįsta dominuojančiais elementais – valdžios hierarchija ir taisyklių sistema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48E6-50B9-4395-95BA-DA9927C8134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Max Webe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1864 – 1920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enas i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š vadybos teorijos pionierių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Vokiečių sociolog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kademik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ktas – 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organizacijos valdymo struktūrizavimas ir valdžios racionalizavim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4556-751E-4E07-8570-2D2D7EE3B0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32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Valdžia / Gali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92936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Gal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smens gebėjimai kitą žmogų </a:t>
            </a: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priversti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 elgtis tam tikru būd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Valdž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Formali galia, įteisinta tam tikrais įstatymais ir suteikianti teisę </a:t>
            </a: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priversti 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kitus žmones elgtis tam tikru būd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A24A-AE91-44B6-9095-CAAD3BA1297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Galios form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TSILYGINI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BAUDI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KSPERTIN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PATRAUKLU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FORMAL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0BE3-D308-4F60-8EB9-04300A47E91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920" y="244440"/>
            <a:ext cx="7648560" cy="130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aldžios form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31640" y="1915920"/>
            <a:ext cx="7491240" cy="38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Tradicin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ldžia sąlygota tradicijų ir įsitikinimų (monarchija ir pan.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Charizmatin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ldžia, sąlygota pagarbos ir pasitikėjimo asmenybe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Racionali – teisin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ldžia, suteikta pareigybės ir apibrėžta taisyklėmis ir procedūromi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C1B8-BE73-406F-891E-5395B18988D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1:44Z</dcterms:modified>
  <cp:revision>38</cp:revision>
  <dc:subject/>
  <dc:title>Introduction to Management</dc:title>
</cp:coreProperties>
</file>