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3C8-9676-471F-B3BD-393605F7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0B5-F7F7-4B7F-817A-343F99C6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87F-B120-452A-9B3E-68FA5089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BA1-9BF8-4CF0-A87F-4BB5F795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0A6E2-A002-46E9-8759-48B985C0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5537A-EA4B-4BBE-AF7B-44D5CDEA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8C4D1-3F83-4549-A149-0DAB1FDA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572DD-1224-412F-BF04-C658F051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35DBD-3494-4ACF-9137-24B4669F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F483C-6B67-4A14-ACB0-3AA5B700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6B519-8BB8-467D-A4BD-39C5267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A96-6564-413C-8DA4-7661BA46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F4AB0-A707-441E-BD01-DBBC73E1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DA43F-E9CA-4EE7-B3FE-F605CCA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C59C0-3F1C-4ECB-8398-FDDCBA89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EDB3C-1997-4768-96B3-801CD5D4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FE053-E4C3-4736-A793-22B876BC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419-5F28-402B-8634-CBA236CD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40B-1180-4274-BF96-91C58D36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E9D-9E42-4BA0-B93E-1CA595C6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AC6-19F1-4220-83D7-074AE8BE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923-B448-49EF-A2FE-A64EFF36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395-1461-4AF6-AF4B-2123ADDD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D79-0DCD-4B5B-AB3C-F2DCC613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8006-8658-413C-9E83-1D6B58B500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871F-4BCE-458F-8F3C-E24CED129B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dybos mokslas Lietuvoje: </a:t>
            </a:r>
            <a:br>
              <a:rPr sz="4400"/>
            </a:b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. Graičiūno indėlis į klasikinės organizacijos teorijos raid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02B4C-F756-47FD-BAE8-7BCAFE13C3F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bjektas – organizacijos vidiniai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valdymo procesą, vadovo darbo turinį ir “valdomumo normą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vidinių ryšių klasifikavi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individualū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a) – tarp vadovo ir pavaldinio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grupin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b) – tarp vadovo ir dviejų ar daugiau pavaldini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Kryžminiai ryš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c) – pavaldinių tarpusavio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5F4-6F87-4DF2-ACD3-072F8C26FA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ldomumo nor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Jei pavaldinių skaičius – n, o visų galimų ryšių skaičius – f, ta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=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=n (n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a + b + 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+ (n – 1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dovas produktyviai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ali valdy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tiesioginių individualių ryšių (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8 tiesiogi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 grupinių ryšių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ptimalus pavaldinių skaiči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D58-F1EF-4D15-849D-4EC4A9BD93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reikšmė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rganizacijos grupini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ų ir kryžminių ryšių reikšmės organizacijos valdymui išryškinim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agrindai organizacijos ryšiams apskaičiuo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rincipai valdomumo normai nustaty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atematinių skaičiavimų taikymas valdymo ryšiams analizuot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Labiausiai cituotas nacionalinis vadybos darb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69m. 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Niujorke išleistas pakartotinai “Pakartotinos ekonomikos klasikų publikacijos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E1E-28B0-41BF-B928-9D63D26813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kslin</a:t>
            </a: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ė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8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steigė Mokslinės vadybos draugij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Tikslas: “tyrinėjimais, diskusijomis, spauda ir kitomis tinkamomis priemonėmis kelti lietuvių ūkinį pajėgumą ir ekonominę gerovę, praktiškai taikant vadybos dėsniu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DC3-3AD1-499F-886B-4B990DC211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Mokslinės vadybos draugijos veik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ybos dėsnių pripažinimas ir propagavi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Nariai: kariškiai, inžinieriai, ekonomist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ai spaudo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ktualių vadybos temų pristatymas. Vien pirmaisiais veiklos metais aptar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 temų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Organizacijos prada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ąlygos mokslinei vadybai įvest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Ganto grafikų pritaikyma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Asmeninio darbo organizacij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Funkcinė sistema organizacijoj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katinimo problema organizacijoje ir k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Uždary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0 met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E64-3F23-4787-B301-330D0BE615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40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34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0 - 1941m. Techninio skyriaus vir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ininkas Vietinės pramonės 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udies komis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m. Pra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ės skyriaus vedėjas Liaudies komisarų Taryboje, Tyrimų skyriaus viršininkas “Lietstatprojek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 – 1948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Ėjo 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ento pareigas VDU statyb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8 – 1951m., atleistas is universiteto, Dirbo “Kotono”, “Silvos” fabriku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1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trem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2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usižudė lageryje Olžease (Kamerovo) srityj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F8E-16F4-45B5-BC21-84AAA678C4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. Graičiūno nuopelnai vadybos moks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29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pavaldinių veiklos koordinavimą, analizuojant organizacijos vidinius ryši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ovatoriškas požiūris į matematinių modelių taikymą valdy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omumo normos” nustatymo metodinių principų apibrėž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aujų vadybos mokslo teorijų ir idėjų propagavimas Lietuvo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o metodų taikymas praktikoje Lietuvos ūky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Graičiūno veikla Lietuvoje žinoma tik nu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8m.,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spausdinus jo straipsnį lietuvišk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100-1E9B-4B2C-A4AB-DEF36E7BAF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2251080"/>
            <a:ext cx="808344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klasikinės organizacijos (administravimo) teorijos plėtrą Lietu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Vytautą Graičiūn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o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04E-AD13-427C-9079-3E228C6B48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irmasis pasaulinis darbo mokslinio organizavimo kongresas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, Prah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is iš Lietuvos – Lietuvos universiteto profesorius J. Šimk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Darbo organizacija”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bjektas - pagrindinės F. Taylor ir jo pasekėjų teorijos tezė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BB2-A080-4BE9-A77F-6F2F725FB6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P. Raulinaiti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Administracijos principai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2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. Fayol 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teorinės tezės iš veikalo “Bendrasis ir pramoninis valdymas”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1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Darbo organizacijos matmenys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30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. Taylor teorijos pagrindai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, jų pristatymas, polemika, kritik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FAF-C4ED-483E-A9D5-20321C1A94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. Nacevič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Teilorizmas ir fajolizmas žemės ūkyje arba žemės ūkio darbams racionalizuoti etiudas”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3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klasikini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ganizacijos vadybos princip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ikymas žemės ūky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. Galvanausk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Darbas administracinėse įstaigose”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4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tarnautojų parinkimo, priėmimo, darbo organizavimo klausim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813-BA5F-4BA3-91B1-E009C60B3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077320" cy="1239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ytautas Andrius Grai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čiū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8 – 1952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imė Čikagoje, lietuvio gydytojo šeimo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4 – 1917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universitete, Administracijos ir komercij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7 – 1919 tarnavo JAV karo aviacijoj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0 – 1923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technologijos institute ir įgijo bakalauro diplom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3 – 1925 dirb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dybos patarėju keliose Čikagos ir Niujorko kompanij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A61-5CF5-4188-9B31-956F17B3D5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veikla Lietuv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6m. Atvyko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 Lietuvą ir dirbo “Metalo” fabriko technikos vedė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andė organizuoti fabriko bazėje įkurti “Ford” koncerno automobilių surinkimo įmon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egavęs paramos savo idėjoms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7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Išvyko iš Lietuvos į Vakarų Europ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20C-7460-4E90-BA17-01B683B2C0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ir mokslinė veikla Europ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irbo analitiku, konsultantu įvairiose kompanijose Vokietijoje, Olandijoje, Prancūzijoje, Šveicar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nalizavo ir sprendė įmonių ekonomines ir organizacines probl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avo ketvirtame tarptautiniame Vadybos kongrese Paryžiu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Organizacijos vidiniai ryšiai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613-1BAA-4DCB-9D07-CF23FB6029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rengtas artimai bendradarbiaujant su L. Urwick, Tarptautinio valdymo instituto Ženevoje direktoriu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3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traipsnis išspausdintas Ženevos TVI biuletenyje, anglų kalba “Relationship in organization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7m. Straipsnis 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usdintas specialiame straips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inkinyje “Administracijos mokslo ap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ga”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Niujorka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inkinyje žymių to meto mokslininkų darbai:  A. Fayol, E. Mayo ir k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C18-0B0F-46E2-959E-1823563400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02Z</dcterms:modified>
  <cp:revision>35</cp:revision>
  <dc:subject/>
  <dc:title>Introduction to Management</dc:title>
</cp:coreProperties>
</file>