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934-06BE-4C9E-B89C-1501E22C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CF3-D7CE-4704-A911-5F3EB63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87F-1D6C-4A3D-BC99-B3694F01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87B-4ED1-4BCE-963A-2A842468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5E20-94B3-4A47-8296-73C2AD65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8598-C7B8-46F8-9194-A05B3F0D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9333-01D6-4A72-86BB-4B11F06A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4891-66F9-4C2A-BD78-A560165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38C5-FA22-43E6-A453-FC8A0B18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6D8-E814-4067-B058-7F473501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F487-5EB0-4D3C-975E-E3461E9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7C1-6A9F-4C4E-86F3-25CDED4C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18C9-3FE9-428E-8D16-EA76049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430D-1FB1-4ADB-9D56-3F397D1A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9982-5CE1-441B-A4C1-2B6BC53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6C15-6152-4A4B-9B8A-398AEFA9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DCBE-F6F3-4D0E-B48A-1FB615A7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590-37D0-45F0-B497-1A168CEE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7A6-CA9D-422B-A8BE-E9BF720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180-2007-4932-8EFA-2A8BF7D3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058-CA52-43B6-B7E2-83AAFDC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108-C951-4644-A7BA-7F7487F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A50-ED85-434F-9E27-D8B60F88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B05-5425-43C7-8370-452A871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A61-66F1-4380-9AD3-26FAA923D0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256E-E86E-47EF-92A1-17913F33CF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Mokslinio valdymo mokykla: F. Taylor vadybos principai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885E-6D4D-470B-9DB5-A89E541386B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Funkcinio valdymo ištak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93116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ybinio darbo pasidali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ienas tiesioginis vadov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Aštuoni funkciniai vadova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administracijos (operacijų maršrutizavimo, planavimo, apskaitos – ekonomikos, normuotojas, gamybinės drausmės prižiūrėtoj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gamybos cecho (brigadininkas, darbų tempo, įrengimų remonto, inspektori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382-1FAF-4BAA-8CCD-5AD9B0EC91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Mokslinio valdymo mokykl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ai darbo užduočių atlikimo metodai -konvejerinės gamybos linijos pirmtak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iferencinė darbo užmokesčio sistema – darbininkų motyvavimo metoda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D79-B9EC-4136-AED5-530C89739E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Darbo užduočių suskaidymas į operacijas – linijos prielai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Darbininkų judesių analizė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Užduočių atlikimo laiko matavim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Greičiausių ir geriausių darbo operacijų atlikimo metodų projektav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Optimalus turimų įrengimų ir medžiagų panaudoj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lanavimo reikšmės išryškin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978-3DD5-43A9-947F-2184309D9A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Diferencinė darbo užmokesčio siste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iau mokėti geriau dirbanti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aikyti “moksliškai pakoreguotą” darbo užmokesčio būd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istemos nauda kompanijai ir darbinink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Bazinis atlyginimas už atliktą darbo norm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apildomas užmokestis – priedai efektyviau dirbantiems už viršytas nor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2A7-8836-4312-8E6B-C1285B41EF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Darbininkų baimė būti dar labiau išnaudojamiems – dirbti sunkiau ir greiči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Per didelis dėmesys darbo atlikimo laiko mažinimui ir pelningumo didini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Tyrimo objektas – gamybinė veikla ir gamybos rezulta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C1B-8104-4C56-8DB0-E45C618BF6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Organizacija analizuojama kaip inžinerinis objektas – autonominių darinių jungin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Žmogus tik vykdytojas, privalantis tiksliai ir laiku atlikti darbo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ovo darbas nukreiptas tik darbininkų darbo organizavimui, kitos vadovo veiklos neanalizuoja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60E-436A-40B6-8568-C23E1D7F5D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mokslinio valdymo teorijos atsiradimo prielai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į jos atstovą – F. Tay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F. Taylor vadybos princip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Įvertinti F. Taylor nuopelnus vadybos moksl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D85-24B2-4FF8-B320-0163D52010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b9efee"/>
                </a:solidFill>
                <a:latin typeface="Garamond"/>
              </a:rPr>
              <a:t>Mokslinio valdymo mokykl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279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E06-35E3-4C83-A822-252AF747A1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8EB-1C78-4F98-8636-A76B50EC5D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FREDERICK W. TAYLOR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Amerikiečių mokslinink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56 - 19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irmas bandymas kompleksiškai nagrinėti organizavimo klausim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erminas “Fabriko vadyba” – “Shop management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Mokslinės vadybos principai” (The Principles of Scientific Management”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D1A-C087-40F4-BB07-A1AD374FE8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Tikro vadybos mokslo sukūr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ptimalių darbo metodų sukūr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suskaidymas į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užduočių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likimo b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ustaty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atematinių skaičiavimų naudo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aš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081-0DD4-4933-B733-0215A29210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arbininkų parinkimas moksliniais pagrinda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uotojų specializ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atitikimo darbo vietai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vietų racional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F25-A802-409E-B7EE-B07F588384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s darbininkų lavinimas ir tobulin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kymas darbo viet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o judesių optim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eisingas apmokėjimas už darb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orm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24A-FFDF-432D-A8FF-89BA489CF2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Glaudūs ir draugiški ryšiai tarp administracijos ir darbinink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isiška minties revoliucija” – bendras darbo našumo siek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otyvacinė darbo apmokėjimo sistema – už viršytas normas mokėti prie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52B-9162-49AE-A3A6-E8EFA5F9E0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56Z</dcterms:modified>
  <cp:revision>24</cp:revision>
  <dc:subject/>
  <dc:title>Introduction to Management</dc:title>
</cp:coreProperties>
</file>