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03C8-946B-46B3-9574-09C66A50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D191-349F-4549-A93B-82106EAC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C7F8-1810-4D96-B360-59B14350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6D19-34C6-42E4-B2CF-438A94D0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9E3D-83A3-4608-ABF1-9B6EBF74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71C9-4454-43B5-ACB1-BDC85097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1F8D-E273-4349-9F4F-73B06DEF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B405-8988-4844-8227-7CA97928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B4E-67F4-4EBF-BC17-C02D53D7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2908-55D3-4402-B44D-4598E29D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9D9D-1289-44C6-8716-B1F7E990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541B-85AE-4C82-90D2-3DA7B5D9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CAE3-8FE3-4303-AF62-EEACDE7B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24D7-2D88-4D55-AA61-010E6C31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1A8D-1264-44C6-BF2E-9B25DC89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4753-8DE5-4230-9FC4-DBCD71F0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7B33-3C22-4855-BD47-C60BB946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90EE-8547-4B59-86E8-5EA57D57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EF73-672B-4E9E-B8DA-97BCA371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B7FB-CA9C-40E2-B185-37ED10D4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397D-D884-4DF3-957E-85957E06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EDAB-666B-4C30-902B-52B44EA6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FDB3-560B-49D7-9B19-2BCD89F9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8B5A-0B22-4136-8A3A-FA1687BD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AE83-F8F1-49C6-A3C9-714390707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EF7B-0BE6-4A53-B627-62388E11E1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Klasikinės organizacijų valdymo teorijo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7FDD-5646-4E3B-ACAF-8F731036CAE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dėjos - pagrįstos patirti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atirtis apribota daugiausiai gamybinių organizacijų veik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patikrintos ir nepagrįstos priela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rielaidos pagrįstos vertybiniu vertinimu ir moralinėmis nuostatomis, bet ne moksliniais tyrim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formalių santykių organizacijose ne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Svarbu tik formalūs org. ryšiai, taigi darbuotojų dalyvavimas neanalizuoj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7F8D-2BC5-4F23-966A-B98108B9FC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enumatytos ir neapibrėžtos pasekmė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s veiklos formalizavimo poveikis darbuotojų veiklos efektyvumui ir racional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Mašinistinė organ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Žmogus tik priedas prie mašinų (įrengim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tatinės sąly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 aplinkos sąlygų ka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7B21-D5C9-4CF9-AD76-82744846AC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Objektyvi klasikinių vadybos teorijų kūrimo aplink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Darbininkai buvo mažai kvalifikuoti, karjeros samprata buvo nesuvoki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Pagrindiniai darbininkų poreikiai koncentravosi fiziologinių lygmeny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Technologijos keitėsi gana sparčiai ir efektyvus jų panaudojimas buvo svarbiau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dybos teorinė mintis tik rutuliojosi, taigi autorių požiūris buvo nenuoseklus ir sia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33CC-A612-468B-9D8E-24BEFB5BC1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prival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valdymą pažvelgta, kaip į mokslinių tyrimų objekt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ldymo veikla atskirta nuo darbinės veik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šryškinta valdymo veiklos įtaka organizacijos veiklos rezultatyv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Suformuluoti organizacijos ir darbinės veiklos valdymo princip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organizaciją pažvelgta, kaip sudėtingą, formalizuotą struktūr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E37D-67E2-4AD5-A92D-AC76CBBC67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ūdinti klasikinių teorijų atsiradimo priela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es vadybos teorij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ių teorijų auto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Įvertinti klasikinių vadybos teorijų privalumus ir trūk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7364-115B-4695-B19D-4E45D87B0B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8617-D2C5-4AE2-9359-3300BFFCCC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Valdymo metodų poreiki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Būtinybė naujų valdymo metodų,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integruojančių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technologijas, medžiagas ir darbo jėg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oreikis spręsti prekių ir paslaugų gamyb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produktyvumo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proble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iekis didinti organizacinės veikl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efektyvum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59E8-5F73-4A3E-8BD3-97B2B56DD4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lasikinių vadybos teorijų vystymo krypt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okslinio valdymo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C7DA-E033-4AB3-B479-A0729F5F8C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701360"/>
            <a:ext cx="7929720" cy="442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7BD1-BF68-47C9-8956-BE36EDF1E1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E516-ABD7-4374-AF97-F5F74B1E75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EB4C-2273-4551-A7A8-5C5C3EE425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o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hester Bern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Gulic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Ur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dealaus biurokratinio valdy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91E1-9490-419B-82DA-845E6DAF61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7:27Z</dcterms:modified>
  <cp:revision>22</cp:revision>
  <dc:subject/>
  <dc:title>Introduction to Management</dc:title>
</cp:coreProperties>
</file>