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ADE7-874B-4496-A1DE-31F9F5690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BD51-3221-4BB5-BBBF-3656DEC78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E7E-5BE1-4DFD-B6D4-E203CCD0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470-F5F8-4598-9380-96EE3990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833-B1DD-4B0D-8AD3-69F624DB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04D-EF96-43B0-A182-6A70C72A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9965-F9C0-4720-B6CC-131D6FE7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C742-7DA2-4D7C-8AB2-AF073364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4B0C-7914-4DE8-B417-6D930DA7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EE2A-34B5-4671-A717-C51046BB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173B-26E2-47C9-9F89-AB24B96D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62C2-FD31-4631-A0B1-B97BBC3D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EB3D-5536-416E-A386-F3BC9EF0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48A-E57F-4678-A29C-E01D426E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B603-8663-4E13-81EB-363DBB31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B177-9D7D-44DB-841E-3663148F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DA52-94E4-4F21-8484-0B6CC5C4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59D8-393C-4433-95AE-3BAB4A93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33FA-ACEE-4754-A2C8-0DA76F1D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32C-F282-4FBB-A00A-8CFAE09E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D10-A33C-40FE-BDEE-278364DE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308-A688-4D81-8B91-3D028D0C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74C-7504-4400-AD12-CB0FBFB0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FE7-10C9-4BE6-8A0C-C7710F47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CD7-35C4-4F24-BA8A-7B4917F7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BBC-04A9-4A70-B6BB-4BD8085D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DD55-38A8-4E7A-A5AA-40D6F5B778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E3DC-AC42-409A-B588-1084F263255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ffffcc"/>
                </a:solidFill>
                <a:latin typeface="Tahoma"/>
              </a:rPr>
              <a:t>Vadybos mokslo ištakos: ankstyvieji strategai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97A1-C915-45F7-82D6-58F364E54CA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Ma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</a:t>
            </a: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iavelis,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531m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okalbiai” (Discours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alstybės (respublikos) valdymo principa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stybė stabili, jei jos nariai turi teisę reikšti skirtingas nuomones bei spręsti jos vidaus konflik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Respublika gyvuos ilgai, jei ja rūpinsis daugelis ir daugelis trokš ją išlaiky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ilpnas vadovas gali sekti stipriu, bet ne kitu silpnu, ir išlaikyti autoritet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dovas, siekiantis keisti valstybę, turėtų išlaikyti bent senųjų papročių šešėl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F9C-CCFA-4A25-A7AA-7B0A3FC3E0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Industrinė revoliuci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ro variklio su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Naujų gamybos priemonių ir būdų atsirad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mybos produktyvumo aug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mybos kaštų krit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sto ekonomijos reikšm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Organizacijų augimas – monopoliz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Infrastruktūros plėtra – geležinkelių, sausumos ir vandens kelių plėt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Rinkų aug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Organizacijų valdymo proble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B1A-CDFC-492E-8B58-9D32F45D4F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ieji industrinės eros vadybos teoretik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Robert Owen (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771-1858)</a:t>
            </a: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, škot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Žmogiškųjų išteklių reikšmės išryškin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otyvavimo premijuojant, bet ne baudžia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otyvavimo technikų 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Siekė “radikalaus” darbo sąlygų pagerinim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minimalaus amžiaus vaikui – darbininkui nustatymo – nuo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 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maksimalios darbo dienos vaikui nustatymo –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,5 </a:t>
            </a: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val. dirbant tik dien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privalomų maitinimosi pertraukų įvedi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Žmogiškųjų išteklių valdymo idėjos tapo pagrindu Bihevioristinės mokyklos teorijų plėtr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F10-C5EE-4E13-A6BA-CCC112D5C2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ieji industrinės eros vadybos teoretik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Charles Babbage (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792-1871)</a:t>
            </a: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, angl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nių valdymo principų 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šinų ir gamintojų ekonomikoje” (On the Economy of Machinery and Manufactur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kos taikym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ahoma"/>
              </a:rPr>
              <a:t>medžiagų ir gamybos priemonių neefektyvaus naudojimo problemoms spręsti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ahoma"/>
              </a:rPr>
              <a:t>pelno paskirstymui ir darbuotojų skatinimui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Analitinio variklio” idėjos iškėlimas (šiuolaikinio PC veikimo idėj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nio valdymo idėjos tapo pagrindu Kiekybinės valdymo teorijos plėtr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83B-0CC6-4246-88C4-3D7A3D15F2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ųjų vadybos teorinių minčių ribotum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Owen ir Babbage idėjos buvo per daug “radikalios” savo laikmečiui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ki pat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a. pab. Įmonių savininkams ir vadovams medžiagų ir žmogiškųjų išteklių valdymo problemos nebuvo aktualios ir suvoktos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Rinkos sparčiai augo, o konkurencija – silpna, kad būtų išryškėjęs efektyvaus ir efektingo valdymo poreikis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Tik išryškėjęs kaštų mažinimo ir veiklos efektyvumo poreikis, paskatino vadybos teoretikų aktyvumą ir klasikinės vadybos teorijų kūrim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3F7-AF78-41A6-831D-1AB6974B10F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79440" y="1977840"/>
            <a:ext cx="8385120" cy="40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rėžti teorijos samprat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tarti ankstyvąsias vadybos mokslo mintis ir teorij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ankstyvuosius strategus ir teoretik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6AD2-8928-4DF1-BABF-E5E12F4CAB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auhaus 93"/>
              </a:rPr>
              <a:t>Kodėl reikia studijuoti vadybos teorijos istoriją</a:t>
            </a:r>
            <a:r>
              <a:rPr b="0" lang="en-US" sz="4400" spc="-1" strike="noStrike">
                <a:solidFill>
                  <a:srgbClr val="ffffcc"/>
                </a:solidFill>
                <a:latin typeface="Bauhaus 93"/>
              </a:rPr>
              <a:t>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025800" cy="325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EF6-3FAE-48C6-AE9A-CB13DFA485A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Teorija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-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Nuosekliai išdėstytų teiginių visu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aaiškina ryšius tarp tiriamų fakt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ateikia pagrindą ateitiems įvykiams prognozuo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uteikia žinias – “nematomas galias” teorijų panaudojim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rėžia būdus, leidžiančius pažinti ir suprasti pasaul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F19-B527-4971-8F44-722702FEBE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Teorija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-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Suteikia stabilum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atirties suvokim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varbos kriterijų nustatym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Įgalina veiksmingai bendraut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ienodai suvokiant sampra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analizuojant reiškinius ir situaci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Motyvuoja nuolat mokytis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iekiant pažinti pasaul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istemiškai analizuoti skirtingas sfe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9AD-137A-44C3-A5C3-9FFD1F9A62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Ankstyvosios valdymo prielaid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osios formaliosios organizacijos – graikų ir romėnų armijos bei Romos katalikų bažnyč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ieji stambūs “projektai” – karai, statybos objektai ir p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ieji autoriai, analizavę galimybes, kaip organizacijas padaryti geriau veikiančia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32F-5296-4B19-96E7-2E36A063A3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856560" y="1766880"/>
            <a:ext cx="866520" cy="1155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189320" y="1843200"/>
            <a:ext cx="866880" cy="1155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1446120" y="1766880"/>
            <a:ext cx="866880" cy="115560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684360" y="2452680"/>
            <a:ext cx="7800840" cy="3670200"/>
            <a:chOff x="684360" y="2452680"/>
            <a:chExt cx="7800840" cy="3670200"/>
          </a:xfrm>
        </p:grpSpPr>
        <p:grpSp>
          <p:nvGrpSpPr>
            <p:cNvPr id="407" name=""/>
            <p:cNvGrpSpPr/>
            <p:nvPr/>
          </p:nvGrpSpPr>
          <p:grpSpPr>
            <a:xfrm>
              <a:off x="6018120" y="3672000"/>
              <a:ext cx="2467080" cy="2450880"/>
              <a:chOff x="6018120" y="3672000"/>
              <a:chExt cx="2467080" cy="2450880"/>
            </a:xfrm>
          </p:grpSpPr>
          <p:pic>
            <p:nvPicPr>
              <p:cNvPr id="4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18120" y="3672000"/>
                <a:ext cx="246708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11172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Mašinų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naudojim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Masinė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gamyb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3351240" y="3672000"/>
              <a:ext cx="2467080" cy="2450880"/>
              <a:chOff x="3351240" y="3672000"/>
              <a:chExt cx="2467080" cy="2450880"/>
            </a:xfrm>
          </p:grpSpPr>
          <p:pic>
            <p:nvPicPr>
              <p:cNvPr id="41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51240" y="3672000"/>
                <a:ext cx="246708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344484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Tautų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turt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Verslų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plėtr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684360" y="3672000"/>
              <a:ext cx="2466720" cy="2450880"/>
              <a:chOff x="684360" y="3672000"/>
              <a:chExt cx="2466720" cy="2450880"/>
            </a:xfrm>
          </p:grpSpPr>
          <p:pic>
            <p:nvPicPr>
              <p:cNvPr id="41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360" y="3672000"/>
                <a:ext cx="246672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77796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Egipt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piramidė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Didžioji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Kinų sien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84360" y="2452680"/>
              <a:ext cx="2466720" cy="1308240"/>
              <a:chOff x="684360" y="2452680"/>
              <a:chExt cx="2466720" cy="1308240"/>
            </a:xfrm>
          </p:grpSpPr>
          <p:pic>
            <p:nvPicPr>
              <p:cNvPr id="4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4360" y="2452680"/>
                <a:ext cx="246672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77796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>
                    <a:solidFill>
                      <a:srgbClr val="ffffff"/>
                    </a:solidFill>
                    <a:latin typeface="Arial"/>
                  </a:rPr>
                  <a:t>Ankstyvieji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avyzdžiai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351240" y="2452680"/>
              <a:ext cx="2467080" cy="1308240"/>
              <a:chOff x="3351240" y="2452680"/>
              <a:chExt cx="2467080" cy="1308240"/>
            </a:xfrm>
          </p:grpSpPr>
          <p:pic>
            <p:nvPicPr>
              <p:cNvPr id="42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1240" y="2452680"/>
                <a:ext cx="246708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344484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Adam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Smith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018120" y="2452680"/>
              <a:ext cx="2467080" cy="1308240"/>
              <a:chOff x="6018120" y="2452680"/>
              <a:chExt cx="2467080" cy="1308240"/>
            </a:xfrm>
          </p:grpSpPr>
          <p:pic>
            <p:nvPicPr>
              <p:cNvPr id="42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18120" y="2452680"/>
                <a:ext cx="246708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611172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>
                    <a:solidFill>
                      <a:srgbClr val="ffffff"/>
                    </a:solidFill>
                    <a:latin typeface="Arial"/>
                  </a:rPr>
                  <a:t>Industrinė 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revoliucij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684360" y="547560"/>
            <a:ext cx="7800840" cy="1765440"/>
            <a:chOff x="684360" y="547560"/>
            <a:chExt cx="7800840" cy="1765440"/>
          </a:xfrm>
        </p:grpSpPr>
        <p:pic>
          <p:nvPicPr>
            <p:cNvPr id="426" name="" descr=""/>
            <p:cNvPicPr/>
            <p:nvPr/>
          </p:nvPicPr>
          <p:blipFill>
            <a:blip r:embed="rId10"/>
            <a:stretch/>
          </p:blipFill>
          <p:spPr>
            <a:xfrm>
              <a:off x="684360" y="547560"/>
              <a:ext cx="78008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777960" y="655560"/>
              <a:ext cx="75880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4400" spc="-1" strike="noStrike">
                  <a:solidFill>
                    <a:srgbClr val="ffffff"/>
                  </a:solidFill>
                  <a:latin typeface="Arial"/>
                </a:rPr>
                <a:t>Istorinis pagrindas vadybos teorijoms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609480" y="6248520"/>
            <a:ext cx="135000" cy="13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C60-B2AF-4B17-9917-D94A22A3CB0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Sun Tzu, m.e.pr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inų filosof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aro menas” (The Art of the War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ymas – karo strategij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puola, mes traukiamė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sustoja, mes neduodam ramybė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mūšio stengiasi išvengti, mes puol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traukiasi, mes persekiojame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1C9-44FC-4F2C-A634-9462BE0F2F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Karinės armijos valdymo principa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Įsakymų grandis – vertikali valdžios ir atsakomybės lin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džios delegavimas –sprendimų priėmimo ir įgyvendinimo grandin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dymo personalas – karininkai, užtikrinantys valdymo veiklos pasidalijim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prendimų vieningumas – kiekvienas individas neturi daugiau negu vieną vadov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921-815A-4465-BE39-34FD96960C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5:45Z</dcterms:modified>
  <cp:revision>21</cp:revision>
  <dc:subject/>
  <dc:title>Introduction to Management</dc:title>
</cp:coreProperties>
</file>