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456-67FC-4896-8B37-3CE61546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A16-BEC8-4FCD-B4D6-424DB5E1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A217-3C05-49B3-8B4B-AF1EC6B9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1480-CD0E-464A-9527-F5A94556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F027-1622-479F-B3FB-07FB7927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D09C-97D9-46B5-ACF3-9357B3E4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094-B841-4E61-AB88-3AD4AF6F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1918-67E3-4397-94E6-70887274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2C6-E749-4561-91E9-7F85FFE9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9DB-78E3-4FA6-A4E3-7EB021E0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E58-7435-469A-B9E6-06FAFD45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F865-0061-4985-9FF3-74706E5C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321E-7632-49AE-917C-AC69D02C3C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nsstuff.com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inpoc.delfi.lv/1618.html" TargetMode="External"/><Relationship Id="rId2" Type="http://schemas.openxmlformats.org/officeDocument/2006/relationships/hyperlink" Target="http://inpoc.delfi.lv/1618.html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00440" y="449532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6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2004-10-12_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3809880" cy="37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FF6-3522-41A5-A5CF-1404C43479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Trac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echo requ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echo reply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ą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aršrutizatorių tras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vykdy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t  target.my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ing route to target.my.com [1.2.3.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ver a maximum of 30 hops (šuoli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129 ms   126 ms   130 ms   router.my.com [1.2.3.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229 ms   124 ms   118 ms   target.my.com [1.2.3.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0A1-DC1D-4EBF-8CC6-C2678D02FA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228600"/>
            <a:ext cx="6629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cert to pagonis.pit.ktu.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d by </a:t>
            </a:r>
            <a:r>
              <a:rPr b="0" lang="lt-LT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www.DNSstuff.com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05:17:28 GMT on 12 Oct 2004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1143000"/>
            <a:ext cx="9042480" cy="4602240"/>
            <a:chOff x="0" y="1143000"/>
            <a:chExt cx="9042480" cy="4602240"/>
          </a:xfrm>
        </p:grpSpPr>
        <p:grpSp>
          <p:nvGrpSpPr>
            <p:cNvPr id="63" name=""/>
            <p:cNvGrpSpPr/>
            <p:nvPr/>
          </p:nvGrpSpPr>
          <p:grpSpPr>
            <a:xfrm>
              <a:off x="4320" y="1147680"/>
              <a:ext cx="9033120" cy="4592520"/>
              <a:chOff x="4320" y="1147680"/>
              <a:chExt cx="9033120" cy="459252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4320" y="1147680"/>
                <a:ext cx="449640" cy="639720"/>
                <a:chOff x="4320" y="1147680"/>
                <a:chExt cx="449640" cy="6397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12960" y="1157040"/>
                  <a:ext cx="4316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320" y="11476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53960" y="1147680"/>
                <a:ext cx="612000" cy="639720"/>
                <a:chOff x="453960" y="1147680"/>
                <a:chExt cx="612000" cy="639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62600" y="11570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53960" y="1147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1066320" y="1147680"/>
                <a:ext cx="612360" cy="639720"/>
                <a:chOff x="1066320" y="1147680"/>
                <a:chExt cx="61236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075320" y="1157040"/>
                  <a:ext cx="5940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066320" y="11476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1679040" y="1147680"/>
                <a:ext cx="612000" cy="639720"/>
                <a:chOff x="1679040" y="1147680"/>
                <a:chExt cx="612000" cy="639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687680" y="11570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79040" y="1147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291040" y="1147680"/>
                <a:ext cx="1077120" cy="639720"/>
                <a:chOff x="2291040" y="1147680"/>
                <a:chExt cx="1077120" cy="6397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300040" y="1157040"/>
                  <a:ext cx="10587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291040" y="11476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368520" y="1147680"/>
                <a:ext cx="2220480" cy="639720"/>
                <a:chOff x="3368520" y="1147680"/>
                <a:chExt cx="2220480" cy="639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377160" y="1157040"/>
                  <a:ext cx="22024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stna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368520" y="11476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589000" y="1147680"/>
                <a:ext cx="942120" cy="639720"/>
                <a:chOff x="5589000" y="1147680"/>
                <a:chExt cx="94212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597640" y="1157040"/>
                  <a:ext cx="9241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turn TT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589000" y="11476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531480" y="1147680"/>
                <a:ext cx="1273320" cy="639720"/>
                <a:chOff x="6531480" y="1147680"/>
                <a:chExt cx="127332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6540120" y="1157040"/>
                  <a:ext cx="12556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un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531480" y="11476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7805160" y="1147680"/>
                <a:ext cx="1232280" cy="639720"/>
                <a:chOff x="7805160" y="1147680"/>
                <a:chExt cx="1232280" cy="6397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7814160" y="1157040"/>
                  <a:ext cx="1213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805160" y="11476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4320" y="1806480"/>
                <a:ext cx="449640" cy="639720"/>
                <a:chOff x="4320" y="1806480"/>
                <a:chExt cx="449640" cy="6397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2960" y="1815840"/>
                  <a:ext cx="4316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320" y="18064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453960" y="1806480"/>
                <a:ext cx="612000" cy="639720"/>
                <a:chOff x="453960" y="1806480"/>
                <a:chExt cx="612000" cy="6397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62600" y="18158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53960" y="1806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1066320" y="1806480"/>
                <a:ext cx="612360" cy="639720"/>
                <a:chOff x="1066320" y="1806480"/>
                <a:chExt cx="612360" cy="6397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075320" y="1815840"/>
                  <a:ext cx="5940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066320" y="18064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1679040" y="1806480"/>
                <a:ext cx="612000" cy="639720"/>
                <a:chOff x="1679040" y="1806480"/>
                <a:chExt cx="612000" cy="6397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687680" y="18158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679040" y="1806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291040" y="1806480"/>
                <a:ext cx="1077120" cy="639720"/>
                <a:chOff x="2291040" y="1806480"/>
                <a:chExt cx="1077120" cy="6397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300040" y="1815840"/>
                  <a:ext cx="10587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34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291040" y="18064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368520" y="1806480"/>
                <a:ext cx="2220480" cy="639720"/>
                <a:chOff x="3368520" y="1806480"/>
                <a:chExt cx="2220480" cy="639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377160" y="1815840"/>
                  <a:ext cx="22024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[www.DNSstuff.com 1st hop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368520" y="18064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589000" y="1806480"/>
                <a:ext cx="942120" cy="639720"/>
                <a:chOff x="5589000" y="1806480"/>
                <a:chExt cx="942120" cy="6397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597640" y="1815840"/>
                  <a:ext cx="9241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589000" y="18064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531480" y="1806480"/>
                <a:ext cx="1273320" cy="639720"/>
                <a:chOff x="6531480" y="1806480"/>
                <a:chExt cx="1273320" cy="6397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540120" y="1815840"/>
                  <a:ext cx="12556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531480" y="18064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805160" y="1806480"/>
                <a:ext cx="1232280" cy="639720"/>
                <a:chOff x="7805160" y="1806480"/>
                <a:chExt cx="1232280" cy="6397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814160" y="1815840"/>
                  <a:ext cx="1213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805160" y="18064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320" y="2465280"/>
                <a:ext cx="449640" cy="639720"/>
                <a:chOff x="4320" y="2465280"/>
                <a:chExt cx="449640" cy="6397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2960" y="24750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320" y="24652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53960" y="2465280"/>
                <a:ext cx="612000" cy="639720"/>
                <a:chOff x="453960" y="2465280"/>
                <a:chExt cx="612000" cy="6397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62600" y="24750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53960" y="24652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1066320" y="2465280"/>
                <a:ext cx="612360" cy="639720"/>
                <a:chOff x="1066320" y="2465280"/>
                <a:chExt cx="612360" cy="639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075320" y="24750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066320" y="24652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679040" y="2465280"/>
                <a:ext cx="612000" cy="639720"/>
                <a:chOff x="1679040" y="2465280"/>
                <a:chExt cx="612000" cy="6397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687680" y="24750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679040" y="24652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291040" y="2465280"/>
                <a:ext cx="1077120" cy="639720"/>
                <a:chOff x="2291040" y="2465280"/>
                <a:chExt cx="1077120" cy="6397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300040" y="24750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29.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291040" y="24652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368520" y="2465280"/>
                <a:ext cx="2220480" cy="639720"/>
                <a:chOff x="3368520" y="2465280"/>
                <a:chExt cx="2220480" cy="6397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377160" y="24750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ore-rtr01.ge-1-3-0.sdf.xodiax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368520" y="24652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589000" y="2465280"/>
                <a:ext cx="942120" cy="639720"/>
                <a:chOff x="5589000" y="2465280"/>
                <a:chExt cx="942120" cy="6397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597640" y="24750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89000" y="24652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531480" y="2465280"/>
                <a:ext cx="1273320" cy="639720"/>
                <a:chOff x="6531480" y="2465280"/>
                <a:chExt cx="1273320" cy="6397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540120" y="24750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31480" y="24652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7805160" y="2465280"/>
                <a:ext cx="1232280" cy="639720"/>
                <a:chOff x="7805160" y="2465280"/>
                <a:chExt cx="1232280" cy="6397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7814160" y="24750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45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805160" y="24652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320" y="3124080"/>
                <a:ext cx="449640" cy="639720"/>
                <a:chOff x="4320" y="3124080"/>
                <a:chExt cx="449640" cy="6397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2960" y="31338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20" y="31240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53960" y="3124080"/>
                <a:ext cx="612000" cy="639720"/>
                <a:chOff x="453960" y="3124080"/>
                <a:chExt cx="612000" cy="6397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62600" y="31338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3960" y="31240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066320" y="3124080"/>
                <a:ext cx="612360" cy="639720"/>
                <a:chOff x="1066320" y="3124080"/>
                <a:chExt cx="612360" cy="6397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075320" y="31338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066320" y="31240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679040" y="3124080"/>
                <a:ext cx="612000" cy="639720"/>
                <a:chOff x="1679040" y="3124080"/>
                <a:chExt cx="612000" cy="6397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687680" y="31338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679040" y="31240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291040" y="3124080"/>
                <a:ext cx="1077120" cy="639720"/>
                <a:chOff x="2291040" y="3124080"/>
                <a:chExt cx="1077120" cy="6397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300040" y="31338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28.2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291040" y="31240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368520" y="3124080"/>
                <a:ext cx="2220480" cy="639720"/>
                <a:chOff x="3368520" y="3124080"/>
                <a:chExt cx="2220480" cy="639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377160" y="31338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edge-rtr02.ge-0-2-0.sdf.xodiax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68520" y="31240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5589000" y="3124080"/>
                <a:ext cx="942120" cy="639720"/>
                <a:chOff x="5589000" y="3124080"/>
                <a:chExt cx="942120" cy="6397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597640" y="31338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589000" y="31240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6531480" y="3124080"/>
                <a:ext cx="1273320" cy="639720"/>
                <a:chOff x="6531480" y="3124080"/>
                <a:chExt cx="1273320" cy="639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6540120" y="31338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531480" y="31240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7805160" y="3124080"/>
                <a:ext cx="1232280" cy="639720"/>
                <a:chOff x="7805160" y="3124080"/>
                <a:chExt cx="1232280" cy="639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7814160" y="31338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47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805160" y="31240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320" y="3782880"/>
                <a:ext cx="449640" cy="639720"/>
                <a:chOff x="4320" y="3782880"/>
                <a:chExt cx="449640" cy="639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2960" y="37926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320" y="37828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53960" y="3782880"/>
                <a:ext cx="612000" cy="639720"/>
                <a:chOff x="453960" y="3782880"/>
                <a:chExt cx="612000" cy="639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62600" y="37926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53960" y="37828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066320" y="3782880"/>
                <a:ext cx="612360" cy="639720"/>
                <a:chOff x="1066320" y="3782880"/>
                <a:chExt cx="612360" cy="639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075320" y="37926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066320" y="37828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679040" y="3782880"/>
                <a:ext cx="612000" cy="639720"/>
                <a:chOff x="1679040" y="3782880"/>
                <a:chExt cx="612000" cy="639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687680" y="37926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679040" y="37828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2291040" y="3782880"/>
                <a:ext cx="1077120" cy="639720"/>
                <a:chOff x="2291040" y="3782880"/>
                <a:chExt cx="1077120" cy="6397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300040" y="37926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5.117.168.13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291040" y="37828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368520" y="3782880"/>
                <a:ext cx="2220480" cy="639720"/>
                <a:chOff x="3368520" y="3782880"/>
                <a:chExt cx="2220480" cy="6397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377160" y="37926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edge-09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368520" y="37828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89000" y="3782880"/>
                <a:ext cx="942120" cy="639720"/>
                <a:chOff x="5589000" y="3782880"/>
                <a:chExt cx="942120" cy="6397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97640" y="37926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89000" y="37828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531480" y="3782880"/>
                <a:ext cx="1273320" cy="639720"/>
                <a:chOff x="6531480" y="3782880"/>
                <a:chExt cx="1273320" cy="63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540120" y="37926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531480" y="37828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7805160" y="3782880"/>
                <a:ext cx="1232280" cy="639720"/>
                <a:chOff x="7805160" y="3782880"/>
                <a:chExt cx="1232280" cy="63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7814160" y="37926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805160" y="37828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4320" y="4441680"/>
                <a:ext cx="449640" cy="639720"/>
                <a:chOff x="4320" y="4441680"/>
                <a:chExt cx="449640" cy="6397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2960" y="44514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320" y="44416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53960" y="4441680"/>
                <a:ext cx="612000" cy="639720"/>
                <a:chOff x="453960" y="4441680"/>
                <a:chExt cx="61200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62600" y="44514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53960" y="4441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066320" y="4441680"/>
                <a:ext cx="612360" cy="639720"/>
                <a:chOff x="1066320" y="4441680"/>
                <a:chExt cx="61236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075320" y="44514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066320" y="44416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679040" y="4441680"/>
                <a:ext cx="612000" cy="639720"/>
                <a:chOff x="1679040" y="4441680"/>
                <a:chExt cx="61200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687680" y="44514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679040" y="4441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291040" y="4441680"/>
                <a:ext cx="1077120" cy="639720"/>
                <a:chOff x="2291040" y="4441680"/>
                <a:chExt cx="1077120" cy="6397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2300040" y="44514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.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291040" y="44416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368520" y="4441680"/>
                <a:ext cx="2220480" cy="639720"/>
                <a:chOff x="3368520" y="4441680"/>
                <a:chExt cx="2220480" cy="6397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377160" y="44514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core-03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368520" y="44416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589000" y="4441680"/>
                <a:ext cx="942120" cy="639720"/>
                <a:chOff x="5589000" y="4441680"/>
                <a:chExt cx="942120" cy="6397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97640" y="44514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89000" y="44416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6531480" y="4441680"/>
                <a:ext cx="1273320" cy="639720"/>
                <a:chOff x="6531480" y="4441680"/>
                <a:chExt cx="1273320" cy="6397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540120" y="44514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531480" y="44416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7805160" y="4441680"/>
                <a:ext cx="1232280" cy="639720"/>
                <a:chOff x="7805160" y="4441680"/>
                <a:chExt cx="1232280" cy="6397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7814160" y="44514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805160" y="44416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320" y="5100480"/>
                <a:ext cx="449640" cy="639720"/>
                <a:chOff x="4320" y="5100480"/>
                <a:chExt cx="449640" cy="6397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2960" y="51102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320" y="51004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453960" y="5100480"/>
                <a:ext cx="612000" cy="639720"/>
                <a:chOff x="453960" y="5100480"/>
                <a:chExt cx="612000" cy="6397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62600" y="51102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53960" y="5100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1066320" y="5100480"/>
                <a:ext cx="612360" cy="639720"/>
                <a:chOff x="1066320" y="5100480"/>
                <a:chExt cx="612360" cy="6397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075320" y="51102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066320" y="51004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1679040" y="5100480"/>
                <a:ext cx="612000" cy="639720"/>
                <a:chOff x="1679040" y="5100480"/>
                <a:chExt cx="612000" cy="6397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687680" y="51102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679040" y="5100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2291040" y="5100480"/>
                <a:ext cx="1077120" cy="639720"/>
                <a:chOff x="2291040" y="5100480"/>
                <a:chExt cx="1077120" cy="6397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300040" y="51102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.1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291040" y="51004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3368520" y="5100480"/>
                <a:ext cx="2220480" cy="639720"/>
                <a:chOff x="3368520" y="5100480"/>
                <a:chExt cx="2220480" cy="639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377160" y="51102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core-02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368520" y="51004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5589000" y="5100480"/>
                <a:ext cx="942120" cy="639720"/>
                <a:chOff x="5589000" y="5100480"/>
                <a:chExt cx="942120" cy="6397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597640" y="51102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589000" y="51004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531480" y="5100480"/>
                <a:ext cx="1273320" cy="639720"/>
                <a:chOff x="6531480" y="5100480"/>
                <a:chExt cx="1273320" cy="6397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540120" y="51102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531480" y="51004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805160" y="5100480"/>
                <a:ext cx="1232280" cy="639720"/>
                <a:chOff x="7805160" y="5100480"/>
                <a:chExt cx="1232280" cy="6397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14160" y="51102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5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805160" y="51004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" name=""/>
            <p:cNvSpPr/>
            <p:nvPr/>
          </p:nvSpPr>
          <p:spPr>
            <a:xfrm>
              <a:off x="0" y="1143000"/>
              <a:ext cx="9042480" cy="4602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731-3F00-4884-A3F4-67E84E6525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355680" y="0"/>
            <a:ext cx="8788320" cy="4602240"/>
            <a:chOff x="355680" y="0"/>
            <a:chExt cx="8788320" cy="4602240"/>
          </a:xfrm>
        </p:grpSpPr>
        <p:grpSp>
          <p:nvGrpSpPr>
            <p:cNvPr id="255" name=""/>
            <p:cNvGrpSpPr/>
            <p:nvPr/>
          </p:nvGrpSpPr>
          <p:grpSpPr>
            <a:xfrm>
              <a:off x="360360" y="4680"/>
              <a:ext cx="8778960" cy="4592520"/>
              <a:chOff x="360360" y="4680"/>
              <a:chExt cx="8778960" cy="459252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360360" y="4680"/>
                <a:ext cx="355680" cy="639720"/>
                <a:chOff x="360360" y="4680"/>
                <a:chExt cx="355680" cy="6397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69720" y="14040"/>
                  <a:ext cx="3366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60360" y="46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716040" y="4680"/>
                <a:ext cx="647640" cy="639720"/>
                <a:chOff x="716040" y="4680"/>
                <a:chExt cx="647640" cy="6397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25400" y="140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1604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1363680" y="4680"/>
                <a:ext cx="647640" cy="639720"/>
                <a:chOff x="1363680" y="4680"/>
                <a:chExt cx="647640" cy="639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373040" y="14040"/>
                  <a:ext cx="628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36368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2011320" y="4680"/>
                <a:ext cx="647640" cy="639720"/>
                <a:chOff x="2011320" y="4680"/>
                <a:chExt cx="647640" cy="6397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2021040" y="140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01132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2658960" y="4680"/>
                <a:ext cx="1231920" cy="639720"/>
                <a:chOff x="2658960" y="4680"/>
                <a:chExt cx="1231920" cy="6397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2668680" y="14040"/>
                  <a:ext cx="1212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5.3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658960" y="46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3890880" y="4680"/>
                <a:ext cx="2127240" cy="639720"/>
                <a:chOff x="3890880" y="4680"/>
                <a:chExt cx="2127240" cy="6397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900600" y="14040"/>
                  <a:ext cx="21081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er-core-01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890880" y="46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6018120" y="4680"/>
                <a:ext cx="432000" cy="639720"/>
                <a:chOff x="6018120" y="4680"/>
                <a:chExt cx="432000" cy="6397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027840" y="14040"/>
                  <a:ext cx="412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018120" y="46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6450120" y="4680"/>
                <a:ext cx="1366560" cy="639720"/>
                <a:chOff x="6450120" y="4680"/>
                <a:chExt cx="1366560" cy="6397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6459480" y="14040"/>
                  <a:ext cx="1347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450120" y="46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7816680" y="4680"/>
                <a:ext cx="1322640" cy="639720"/>
                <a:chOff x="7816680" y="4680"/>
                <a:chExt cx="1322640" cy="6397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7826400" y="14040"/>
                  <a:ext cx="13032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16680" y="46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360360" y="663480"/>
                <a:ext cx="355680" cy="639720"/>
                <a:chOff x="360360" y="663480"/>
                <a:chExt cx="355680" cy="6397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69720" y="672840"/>
                  <a:ext cx="3366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60360" y="6634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716040" y="663480"/>
                <a:ext cx="647640" cy="639720"/>
                <a:chOff x="716040" y="663480"/>
                <a:chExt cx="647640" cy="6397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25400" y="6728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1604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1363680" y="663480"/>
                <a:ext cx="647640" cy="639720"/>
                <a:chOff x="1363680" y="663480"/>
                <a:chExt cx="647640" cy="6397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1373040" y="672840"/>
                  <a:ext cx="628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36368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2011320" y="663480"/>
                <a:ext cx="647640" cy="639720"/>
                <a:chOff x="2011320" y="663480"/>
                <a:chExt cx="647640" cy="6397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2021040" y="6728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8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1132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2658960" y="663480"/>
                <a:ext cx="1231920" cy="639720"/>
                <a:chOff x="2658960" y="663480"/>
                <a:chExt cx="1231920" cy="6397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668680" y="672840"/>
                  <a:ext cx="1212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139.14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658960" y="6634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890880" y="663480"/>
                <a:ext cx="2127240" cy="639720"/>
                <a:chOff x="3890880" y="663480"/>
                <a:chExt cx="2127240" cy="6397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900600" y="672840"/>
                  <a:ext cx="21081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p-brdr-01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890880" y="6634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6018120" y="663480"/>
                <a:ext cx="432000" cy="639720"/>
                <a:chOff x="6018120" y="663480"/>
                <a:chExt cx="432000" cy="6397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6027840" y="672840"/>
                  <a:ext cx="412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18120" y="6634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6450120" y="663480"/>
                <a:ext cx="1366560" cy="639720"/>
                <a:chOff x="6450120" y="663480"/>
                <a:chExt cx="1366560" cy="6397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459480" y="672840"/>
                  <a:ext cx="1347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50120" y="6634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7816680" y="663480"/>
                <a:ext cx="1322640" cy="639720"/>
                <a:chOff x="7816680" y="663480"/>
                <a:chExt cx="1322640" cy="6397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7826400" y="672840"/>
                  <a:ext cx="13032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816680" y="6634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60360" y="1322280"/>
                <a:ext cx="355680" cy="639720"/>
                <a:chOff x="360360" y="1322280"/>
                <a:chExt cx="355680" cy="6397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369720" y="13320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60360" y="13222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716040" y="1322280"/>
                <a:ext cx="647640" cy="639720"/>
                <a:chOff x="716040" y="1322280"/>
                <a:chExt cx="647640" cy="6397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25400" y="13320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1604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63680" y="1322280"/>
                <a:ext cx="647640" cy="639720"/>
                <a:chOff x="1363680" y="1322280"/>
                <a:chExt cx="647640" cy="6397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373040" y="13320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6368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011320" y="1322280"/>
                <a:ext cx="647640" cy="639720"/>
                <a:chOff x="2011320" y="1322280"/>
                <a:chExt cx="647640" cy="6397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021040" y="13320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01132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658960" y="1322280"/>
                <a:ext cx="1231920" cy="639720"/>
                <a:chOff x="2658960" y="1322280"/>
                <a:chExt cx="1231920" cy="6397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2668680" y="13320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84.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658960" y="13222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890880" y="1322280"/>
                <a:ext cx="2127240" cy="639720"/>
                <a:chOff x="3890880" y="1322280"/>
                <a:chExt cx="2127240" cy="6397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900600" y="13320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bb1-geth0-2-1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890880" y="13222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018120" y="1322280"/>
                <a:ext cx="432000" cy="639720"/>
                <a:chOff x="6018120" y="1322280"/>
                <a:chExt cx="432000" cy="6397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027840" y="13320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18120" y="13222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450120" y="1322280"/>
                <a:ext cx="1366560" cy="639720"/>
                <a:chOff x="6450120" y="1322280"/>
                <a:chExt cx="1366560" cy="6397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459480" y="13320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450120" y="13222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816680" y="1322280"/>
                <a:ext cx="1322640" cy="639720"/>
                <a:chOff x="7816680" y="1322280"/>
                <a:chExt cx="1322640" cy="6397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7826400" y="13320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78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816680" y="13222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360360" y="1981080"/>
                <a:ext cx="355680" cy="639720"/>
                <a:chOff x="360360" y="1981080"/>
                <a:chExt cx="355680" cy="6397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69720" y="19908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60360" y="19810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716040" y="1981080"/>
                <a:ext cx="647640" cy="639720"/>
                <a:chOff x="716040" y="1981080"/>
                <a:chExt cx="647640" cy="6397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725400" y="19908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1604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363680" y="1981080"/>
                <a:ext cx="647640" cy="639720"/>
                <a:chOff x="1363680" y="1981080"/>
                <a:chExt cx="647640" cy="6397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373040" y="19908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36368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2011320" y="1981080"/>
                <a:ext cx="647640" cy="639720"/>
                <a:chOff x="2011320" y="1981080"/>
                <a:chExt cx="647640" cy="6397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2021040" y="19908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01132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658960" y="1981080"/>
                <a:ext cx="1231920" cy="639720"/>
                <a:chOff x="2658960" y="1981080"/>
                <a:chExt cx="1231920" cy="6397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668680" y="19908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80.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658960" y="19810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3890880" y="1981080"/>
                <a:ext cx="2127240" cy="639720"/>
                <a:chOff x="3890880" y="1981080"/>
                <a:chExt cx="2127240" cy="6397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3900600" y="19908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nyk-bb2-pos7-1-0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890880" y="19810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018120" y="1981080"/>
                <a:ext cx="432000" cy="639720"/>
                <a:chOff x="6018120" y="1981080"/>
                <a:chExt cx="432000" cy="6397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027840" y="19908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018120" y="19810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450120" y="1981080"/>
                <a:ext cx="1366560" cy="639720"/>
                <a:chOff x="6450120" y="1981080"/>
                <a:chExt cx="1366560" cy="6397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459480" y="19908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450120" y="19810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816680" y="1981080"/>
                <a:ext cx="1322640" cy="639720"/>
                <a:chOff x="7816680" y="1981080"/>
                <a:chExt cx="1322640" cy="6397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826400" y="19908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83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816680" y="19810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60360" y="2639880"/>
                <a:ext cx="355680" cy="639720"/>
                <a:chOff x="360360" y="2639880"/>
                <a:chExt cx="355680" cy="639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69720" y="26496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60360" y="26398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16040" y="2639880"/>
                <a:ext cx="647640" cy="639720"/>
                <a:chOff x="716040" y="2639880"/>
                <a:chExt cx="647640" cy="6397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25400" y="26496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1604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1363680" y="2639880"/>
                <a:ext cx="647640" cy="639720"/>
                <a:chOff x="1363680" y="2639880"/>
                <a:chExt cx="647640" cy="6397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373040" y="26496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36368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2011320" y="2639880"/>
                <a:ext cx="647640" cy="639720"/>
                <a:chOff x="2011320" y="2639880"/>
                <a:chExt cx="647640" cy="6397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2021040" y="26496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01132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2658960" y="2639880"/>
                <a:ext cx="1231920" cy="639720"/>
                <a:chOff x="2658960" y="2639880"/>
                <a:chExt cx="1231920" cy="6397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668680" y="26496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65.9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658960" y="26398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3890880" y="2639880"/>
                <a:ext cx="2127240" cy="639720"/>
                <a:chOff x="3890880" y="2639880"/>
                <a:chExt cx="2127240" cy="639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3900600" y="26496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ldn-bb2-pos6-0-0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890880" y="26398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6018120" y="2639880"/>
                <a:ext cx="432000" cy="639720"/>
                <a:chOff x="6018120" y="2639880"/>
                <a:chExt cx="432000" cy="6397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027840" y="26496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018120" y="26398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450120" y="2639880"/>
                <a:ext cx="1366560" cy="639720"/>
                <a:chOff x="6450120" y="2639880"/>
                <a:chExt cx="1366560" cy="639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6459480" y="26496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50120" y="26398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7816680" y="2639880"/>
                <a:ext cx="1322640" cy="639720"/>
                <a:chOff x="7816680" y="2639880"/>
                <a:chExt cx="1322640" cy="6397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7826400" y="26496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 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816680" y="26398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360360" y="3298680"/>
                <a:ext cx="355680" cy="639720"/>
                <a:chOff x="360360" y="3298680"/>
                <a:chExt cx="355680" cy="639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69720" y="33084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60360" y="32986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16040" y="3298680"/>
                <a:ext cx="647640" cy="639720"/>
                <a:chOff x="716040" y="3298680"/>
                <a:chExt cx="647640" cy="6397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25400" y="33084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1604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1363680" y="3298680"/>
                <a:ext cx="647640" cy="639720"/>
                <a:chOff x="1363680" y="3298680"/>
                <a:chExt cx="647640" cy="6397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373040" y="33084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36368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011320" y="3298680"/>
                <a:ext cx="647640" cy="639720"/>
                <a:chOff x="2011320" y="3298680"/>
                <a:chExt cx="647640" cy="6397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21040" y="33084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1132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2658960" y="3298680"/>
                <a:ext cx="1231920" cy="639720"/>
                <a:chOff x="2658960" y="3298680"/>
                <a:chExt cx="1231920" cy="639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668680" y="33084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64.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58960" y="32986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890880" y="3298680"/>
                <a:ext cx="2127240" cy="639720"/>
                <a:chOff x="3890880" y="3298680"/>
                <a:chExt cx="2127240" cy="639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900600" y="33084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ldn-b2-pos12-3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890880" y="32986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6018120" y="3298680"/>
                <a:ext cx="432000" cy="639720"/>
                <a:chOff x="6018120" y="3298680"/>
                <a:chExt cx="432000" cy="639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6027840" y="33084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018120" y="32986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6450120" y="3298680"/>
                <a:ext cx="1366560" cy="639720"/>
                <a:chOff x="6450120" y="3298680"/>
                <a:chExt cx="1366560" cy="6397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459480" y="33084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450120" y="32986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7816680" y="3298680"/>
                <a:ext cx="1322640" cy="639720"/>
                <a:chOff x="7816680" y="3298680"/>
                <a:chExt cx="1322640" cy="6397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7826400" y="33084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 8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816680" y="32986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60360" y="3957480"/>
                <a:ext cx="355680" cy="639720"/>
                <a:chOff x="360360" y="3957480"/>
                <a:chExt cx="355680" cy="6397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369720" y="39672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0360" y="39574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716040" y="3957480"/>
                <a:ext cx="647640" cy="639720"/>
                <a:chOff x="716040" y="3957480"/>
                <a:chExt cx="647640" cy="6397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725400" y="39672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1604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1363680" y="3957480"/>
                <a:ext cx="647640" cy="639720"/>
                <a:chOff x="1363680" y="3957480"/>
                <a:chExt cx="647640" cy="6397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373040" y="39672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36368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2011320" y="3957480"/>
                <a:ext cx="647640" cy="639720"/>
                <a:chOff x="2011320" y="3957480"/>
                <a:chExt cx="647640" cy="6397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2021040" y="39672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1132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2658960" y="3957480"/>
                <a:ext cx="1231920" cy="639720"/>
                <a:chOff x="2658960" y="3957480"/>
                <a:chExt cx="1231920" cy="6397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2668680" y="39672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75.1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658960" y="39574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890880" y="3957480"/>
                <a:ext cx="2127240" cy="639720"/>
                <a:chOff x="3890880" y="3957480"/>
                <a:chExt cx="2127240" cy="6397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3900600" y="39672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dante-01233-ldn-b2.c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890880" y="39574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018120" y="3957480"/>
                <a:ext cx="432000" cy="639720"/>
                <a:chOff x="6018120" y="3957480"/>
                <a:chExt cx="432000" cy="6397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027840" y="39672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018120" y="39574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450120" y="3957480"/>
                <a:ext cx="1366560" cy="639720"/>
                <a:chOff x="6450120" y="3957480"/>
                <a:chExt cx="1366560" cy="6397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6459480" y="39672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450120" y="39574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7816680" y="3957480"/>
                <a:ext cx="1322640" cy="639720"/>
                <a:chOff x="7816680" y="3957480"/>
                <a:chExt cx="1322640" cy="6397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7826400" y="39672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29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816680" y="39574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5" name=""/>
            <p:cNvSpPr/>
            <p:nvPr/>
          </p:nvSpPr>
          <p:spPr>
            <a:xfrm>
              <a:off x="355680" y="0"/>
              <a:ext cx="8788320" cy="4602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886200" y="4572000"/>
            <a:ext cx="2133720" cy="1066320"/>
            <a:chOff x="3886200" y="4572000"/>
            <a:chExt cx="2133720" cy="1066320"/>
          </a:xfrm>
        </p:grpSpPr>
        <p:grpSp>
          <p:nvGrpSpPr>
            <p:cNvPr id="447" name=""/>
            <p:cNvGrpSpPr/>
            <p:nvPr/>
          </p:nvGrpSpPr>
          <p:grpSpPr>
            <a:xfrm>
              <a:off x="3888360" y="4577760"/>
              <a:ext cx="2129400" cy="1054080"/>
              <a:chOff x="3888360" y="4577760"/>
              <a:chExt cx="2129400" cy="1054080"/>
            </a:xfrm>
          </p:grpSpPr>
          <p:sp>
            <p:nvSpPr>
              <p:cNvPr id="448" name=""/>
              <p:cNvSpPr/>
              <p:nvPr/>
            </p:nvSpPr>
            <p:spPr>
              <a:xfrm>
                <a:off x="3892680" y="4589640"/>
                <a:ext cx="2120760" cy="10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t-LT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br>
                  <a:rPr sz="1200"/>
                </a:br>
                <a:r>
                  <a:rPr b="0" lang="lt-LT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[4 hops with no response; assuming we hit a firewall that blocks pings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888360" y="4577760"/>
                <a:ext cx="2129400" cy="1054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3886200" y="4572000"/>
              <a:ext cx="2133720" cy="1066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105-E26A-4471-8008-8D8848310D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rt TCPdumpa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B9F-2B84-42FC-9A82-419FB8B737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Bender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DĖTINGES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ik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35955 &gt;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884312222:1884312222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 &gt; 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.com.35955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113925437:3113925437 (0)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-18843122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35955 &gt;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: .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21 &gt; ftp.client.com.35955: P 1:24(23) ack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5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ftp.server.com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. ack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74B-22E2-4682-863B-BB19B8033F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990720"/>
            <a:ext cx="86104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s surenka komandą di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 ftp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558632705:3558632705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 &gt;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: 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01007864: 1901007864(0) ack –35586327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 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. a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 &gt;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: a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3520" y="44197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 skiriasi nuo kitų TCP servisų tuo, kad jis komunikuoja naudodamas du port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, kuris yra standartiniu FTP komandos portu. Antrasis yra 20 ir jis naudojams duomenims perduo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5937-AD5A-4556-950D-E876014440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normal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užklaus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isukinėjantys (apeinantys) stimulai, atsakymo stok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3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26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45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17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7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1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2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30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jungta vėliavėlė FIN, portai arba neatsako arba siunčia RST/ACK, priklausomai nuo to , ar juose yra klausomasi. Tai “nedrąsus” skenavi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C4A-4811-4004-886B-18FD1FFB76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alingi stimulai. Fatališki-pražūtingi atsakym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Naudojam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ource quench”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 arba “redirect” pranešim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242.241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69.129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150.44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84.212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253.173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8.65.28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74.88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184.84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8.3.109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Vykdoma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tipo atak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intencija sužlugdyti hosto sugebėjimus teikti atsakymu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“source quench” pranešimas yra būdas kaip hostas ar routeris gali informuoti šaltinį, kad šis siunčia per daug informacijos ir turi sumažinti perdavimo intensyvum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irect” kontrolinis pranešimas  leidžiantis routeriui pasakyti hostui perduoti paketus skirtingam routeriui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D7B-FCB7-4482-8EF7-36BDCF8914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timulus, all responc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0.72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8.13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1.67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6.13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9.1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.252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3.56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43.6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3.15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2.16 host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naudoti kaip šaltinio adresai, vykdant “spoof” tipo ataką, jei nesimato išeinančių sraut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287-0014-4C6F-820D-155FEB3868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ktyvios TCP vėliavėlė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ų vėliavėlių nustatymu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a matyti vykdant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Pdump su –x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cija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usdinim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ešioliktainėje sistemoj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ormalus TCPdump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odo šių dviejų bitų reikšmi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er.com.44388 &gt; target.com.domain : S 403915838:403915838(0) win 4096 &lt;wscale  10,nop,mss 256,timestamp 1061109567  0,eol &gt;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7542 4000 3b06 15bd 0102 0304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102 0305] ad64 0035 1813 443e 0000 0000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2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1000 fa4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303 0a01 0204 010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80a       3f3f      3f3f     0000       0000     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42 – rodo įjungtą rezervuotą vėliavėl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905120" y="1523880"/>
            <a:ext cx="5736960" cy="990720"/>
            <a:chOff x="1905120" y="1523880"/>
            <a:chExt cx="5736960" cy="990720"/>
          </a:xfrm>
        </p:grpSpPr>
        <p:grpSp>
          <p:nvGrpSpPr>
            <p:cNvPr id="466" name=""/>
            <p:cNvGrpSpPr/>
            <p:nvPr/>
          </p:nvGrpSpPr>
          <p:grpSpPr>
            <a:xfrm>
              <a:off x="1908720" y="1527120"/>
              <a:ext cx="5728680" cy="983520"/>
              <a:chOff x="1908720" y="1527120"/>
              <a:chExt cx="5728680" cy="98352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1908720" y="1527120"/>
                <a:ext cx="798480" cy="491760"/>
                <a:chOff x="1908720" y="1527120"/>
                <a:chExt cx="798480" cy="4917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1964880" y="1527120"/>
                  <a:ext cx="6854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908720" y="1527120"/>
                  <a:ext cx="79848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707200" y="1527120"/>
                <a:ext cx="704160" cy="491760"/>
                <a:chOff x="2707200" y="1527120"/>
                <a:chExt cx="704160" cy="4917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276336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70720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3411360" y="1527120"/>
                <a:ext cx="704520" cy="491760"/>
                <a:chOff x="3411360" y="1527120"/>
                <a:chExt cx="704520" cy="4917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46752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1136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4115880" y="1527120"/>
                <a:ext cx="704160" cy="491760"/>
                <a:chOff x="4115880" y="1527120"/>
                <a:chExt cx="704160" cy="4917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4171680" y="1527120"/>
                  <a:ext cx="5918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11588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4820040" y="1527120"/>
                <a:ext cx="704520" cy="491760"/>
                <a:chOff x="4820040" y="1527120"/>
                <a:chExt cx="704520" cy="4917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487620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82004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524560" y="1527120"/>
                <a:ext cx="704160" cy="491760"/>
                <a:chOff x="5524560" y="1527120"/>
                <a:chExt cx="704160" cy="4917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58036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52456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6228720" y="1527120"/>
                <a:ext cx="704520" cy="491760"/>
                <a:chOff x="6228720" y="1527120"/>
                <a:chExt cx="704520" cy="4917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628488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22872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933240" y="1527120"/>
                <a:ext cx="704160" cy="491760"/>
                <a:chOff x="6933240" y="1527120"/>
                <a:chExt cx="704160" cy="4917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98904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93324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1908720" y="2018880"/>
                <a:ext cx="1502640" cy="491760"/>
                <a:chOff x="1908720" y="2018880"/>
                <a:chExt cx="1502640" cy="4917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1964880" y="2018880"/>
                  <a:ext cx="138996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zervuo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908720" y="2018880"/>
                  <a:ext cx="150264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411360" y="2018880"/>
                <a:ext cx="704520" cy="491760"/>
                <a:chOff x="3411360" y="2018880"/>
                <a:chExt cx="704520" cy="4917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46752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R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41136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4115880" y="2018880"/>
                <a:ext cx="704160" cy="491760"/>
                <a:chOff x="4115880" y="2018880"/>
                <a:chExt cx="704160" cy="4917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4171680" y="2018880"/>
                  <a:ext cx="5918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11588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4820040" y="2018880"/>
                <a:ext cx="704520" cy="491760"/>
                <a:chOff x="4820040" y="2018880"/>
                <a:chExt cx="704520" cy="4917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487620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S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82004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524560" y="2018880"/>
                <a:ext cx="704160" cy="491760"/>
                <a:chOff x="5524560" y="2018880"/>
                <a:chExt cx="704160" cy="4917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58036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S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52456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228720" y="2018880"/>
                <a:ext cx="704520" cy="491760"/>
                <a:chOff x="6228720" y="2018880"/>
                <a:chExt cx="704520" cy="4917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28488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Y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22872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6933240" y="2018880"/>
                <a:ext cx="704160" cy="491760"/>
                <a:chOff x="6933240" y="2018880"/>
                <a:chExt cx="704160" cy="4917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698904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3324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2" name=""/>
            <p:cNvSpPr/>
            <p:nvPr/>
          </p:nvSpPr>
          <p:spPr>
            <a:xfrm>
              <a:off x="1905120" y="1523880"/>
              <a:ext cx="5736960" cy="990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2CF2-2305-4610-B5D3-0B1275A79E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800" y="17524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klausos – atsakym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C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akos, susijusios su TCP bei U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rag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3A3-9391-4108-A0CE-95EFD9C2C6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target.com  į  scaner.co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arget.com.domain&gt;scaner.com.44388:S 4154976859: 4154976859(0) ack 403915839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in 8855 &lt;nop,nop,timestamp 16912287 1061109567 , nop,wscale 0,mss 265&gt; (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e04e 4000 ff06 e6af 83da d684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83da d683] 0035 ad64 f7a7 ea5b 1813 443f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2297 fd3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101 080a 0102 0f9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f3f       3f3f      0103     0300       0204      01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numestas fiktyv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ta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Leidžia daryti spėjimą apie operacinę siste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 operacinė sistema gal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ug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į fiktyvų bi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CDA-B7BE-486B-A2FF-2C0E1A2460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e TCP vėliavėli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caner.com.44388 &gt; target.com.domain: . win 4096 &lt;wscale 10,nop,mss 265, timestamp 1061109567 0,eol &gt;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7542 4000 3b06 15bc 0102 0304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102 0305] ad65 0035 1813 443e 0000 0000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1000 fa8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303 0a01 0204 010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80a       3f3f      3f3f     0000       0000      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a vėliavėlių baite matome 00. Tai reikštų kad vėliavėlės nėra įjung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iai TCP vėliavėlių baite būna įjungtas bent vienas bit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as target.com visai neatsak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 tokį nulinį TCP segmentą. Atsakymo nebuvimas irgi yra tam tikra informacija apie operacinę sistemą. Kita operacinė sistema gali identifikuoti save atsakydama su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B22A-6858-4289-86D4-81E0C477B7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opci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caner.com.44388 &gt; target.com.domain : S 403915838:403915838(0) ,win 4096  &lt;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scale   10,nop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ss 256,timestamp 1061109567  0,eol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arget.com.domain&gt;scaner.com.44388:S 4154976859: 4154976859(0) ack 403915839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in 8855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p,nop,timestamp 16912287 1061109567 , nop,wscale 0,mss 265&gt;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s iš būdų, band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statyt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cinę sistemą yra siunčiant jam daug skirtingų TCP opcijų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 operacinės sistemos nepalaiko visų šių opcijų ir atsakyme kai kurias iš jų nume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kurios operacinės sistemos nustato skirtingas reikšmes kai kurioms opcijom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tingos operacinės sistemos gražins opcijas jas išdėstant skirtinga tvarka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a tai padeda identifikaci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162-FFFE-445C-8DF6-16F28AD19B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os teor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datagra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liaujant tinklu j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enk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eiti į tinklą su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žes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a (mažesniu maximum transmision unit MTU), ir tas MTU dydis yra mažesnis už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yd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imali MTU reikšmė Ethernet tinkle yra 1500 bait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gmentuoti turi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šrutizator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9EB2-4808-437D-BCF3-9D861D899A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kia informacija yra reikalinga fragment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riš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 kitais fragmentai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ndr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fragmentų identifikacinį numerį. Jis yra “cloned” iš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vutės  lauko , žinomo kaip IP identifikacinis numeris arba Fragmento 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informuoti koks yra to fragment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oslink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riginaliame nefragmentuotame pak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pranešti, koki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lg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is neša frag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kvienas fragmentas turi žinoti, ar už jo dar bus daugiau fragmentų – tai atžymima vėliavėle – daugiau fragmentų –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F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more fragments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19B-A56D-415A-913B-A62BB7D6AE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"/>
          <p:cNvGrpSpPr/>
          <p:nvPr/>
        </p:nvGrpSpPr>
        <p:grpSpPr>
          <a:xfrm>
            <a:off x="1371600" y="1219320"/>
            <a:ext cx="6171840" cy="4571640"/>
            <a:chOff x="1371600" y="1219320"/>
            <a:chExt cx="6171840" cy="4571640"/>
          </a:xfrm>
        </p:grpSpPr>
        <p:sp>
          <p:nvSpPr>
            <p:cNvPr id="524" name=""/>
            <p:cNvSpPr/>
            <p:nvPr/>
          </p:nvSpPr>
          <p:spPr>
            <a:xfrm>
              <a:off x="3175560" y="1956960"/>
              <a:ext cx="1505160" cy="72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71600" y="1956960"/>
              <a:ext cx="1655640" cy="72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25320" y="1956960"/>
              <a:ext cx="0" cy="72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27240" y="1956960"/>
              <a:ext cx="45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27240" y="2679120"/>
              <a:ext cx="45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33720" y="1956960"/>
              <a:ext cx="0" cy="72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39600" y="1956960"/>
              <a:ext cx="0" cy="72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72560" y="1219320"/>
              <a:ext cx="451440" cy="48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75800" y="1219320"/>
              <a:ext cx="451440" cy="48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79040" y="1219320"/>
              <a:ext cx="3161160" cy="66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00baitų ICMP duomen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71600" y="2903760"/>
              <a:ext cx="90324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74840" y="3384720"/>
              <a:ext cx="90288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MP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8000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3600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9236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79040" y="4828680"/>
              <a:ext cx="1053720" cy="72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35040" y="4828680"/>
              <a:ext cx="90288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41520" y="4828680"/>
              <a:ext cx="60192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68 bait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726280" y="26629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609480" y="56386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ICMP echo užklausos datagra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83808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u MTU reikšmė 1500 bai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ABF-9A41-4B73-A23B-A8D4E3AC3E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o ID numeris/ IP Identifikacinis numeris</a:t>
            </a:r>
            <a:r>
              <a:rPr b="1" i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identifikac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šmė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ų lau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antis IP galvut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Kai datagrama tampa fragmentuota visi iš šios datagramos sukurti fragmentai turi tą patį šį IP identifikacinį numerį arba fragmento ID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676520" y="3429000"/>
            <a:ext cx="5790960" cy="1980720"/>
            <a:chOff x="1676520" y="3429000"/>
            <a:chExt cx="5790960" cy="1980720"/>
          </a:xfrm>
        </p:grpSpPr>
        <p:sp>
          <p:nvSpPr>
            <p:cNvPr id="548" name=""/>
            <p:cNvSpPr/>
            <p:nvPr/>
          </p:nvSpPr>
          <p:spPr>
            <a:xfrm>
              <a:off x="3368880" y="3849840"/>
              <a:ext cx="1412280" cy="41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676520" y="3852720"/>
              <a:ext cx="1553760" cy="41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65080" y="3852720"/>
              <a:ext cx="0" cy="41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30280" y="3852720"/>
              <a:ext cx="42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30280" y="4264560"/>
              <a:ext cx="42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25160" y="3852720"/>
              <a:ext cx="0" cy="41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37440" y="3852720"/>
              <a:ext cx="0" cy="41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58760" y="3429000"/>
              <a:ext cx="423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806200" y="3429000"/>
              <a:ext cx="423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4000" y="3429000"/>
              <a:ext cx="1271160" cy="38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72 baitų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76520" y="4393800"/>
              <a:ext cx="847440" cy="55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523960" y="4718520"/>
              <a:ext cx="1271160" cy="69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CMP galvut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CMP echo užklau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36240" y="4393800"/>
              <a:ext cx="282240" cy="414720"/>
            </a:xfrm>
            <a:prstGeom prst="downArrow">
              <a:avLst>
                <a:gd name="adj1" fmla="val 50000"/>
                <a:gd name="adj2" fmla="val 367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25160" y="4580280"/>
              <a:ext cx="2118600" cy="82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slinkis =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lgis = 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re Fragments =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47680" y="4255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4B9-9DFA-4D9F-8B4B-1182CE816F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Fragmentacij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S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trusion detection systems) be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etų filtravimo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enginiai nepastebi bei neblokuoja to aktyvumo, kurio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veikla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išdalinta į daugybę datagramų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Svarbu yra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statyti ar tai yra normali fragmentacija ar fragmentacija naudojama kitais tikslais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A39-52DB-447A-9752-39770E5205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irmas fragm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įprastų laukų, kurie būna IP galvutėje, tokių kaip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altin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nkto IP numeriai bei protokolas (šiuo atveju ICMP), čia yra laukai specialiai skir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ragment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vėliavėlės lauk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omen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link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sos datagramos duomen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žvilgiu; 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majam fragmentui šis poslinkis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nešamų duomenų dydis yra saugomas lauke fragmento ilgis ir jis yra 148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4F4B-BA86-4BCD-B476-AA34DE060A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ntis fragm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295280" y="1905120"/>
            <a:ext cx="6134040" cy="3565080"/>
            <a:chOff x="1295280" y="1905120"/>
            <a:chExt cx="6134040" cy="3565080"/>
          </a:xfrm>
        </p:grpSpPr>
        <p:sp>
          <p:nvSpPr>
            <p:cNvPr id="569" name=""/>
            <p:cNvSpPr/>
            <p:nvPr/>
          </p:nvSpPr>
          <p:spPr>
            <a:xfrm>
              <a:off x="1295280" y="2261520"/>
              <a:ext cx="70092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996200" y="2261520"/>
              <a:ext cx="52596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22160" y="2261520"/>
              <a:ext cx="175248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74640" y="2261520"/>
              <a:ext cx="210312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77760" y="2261520"/>
              <a:ext cx="105156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75920" y="1905120"/>
              <a:ext cx="105156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51240" y="2796120"/>
              <a:ext cx="350280" cy="534960"/>
            </a:xfrm>
            <a:prstGeom prst="downArrow">
              <a:avLst>
                <a:gd name="adj1" fmla="val 50000"/>
                <a:gd name="adj2" fmla="val 381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24360" y="3509280"/>
              <a:ext cx="875880" cy="71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00600" y="3509280"/>
              <a:ext cx="2278440" cy="71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99320" y="3152880"/>
              <a:ext cx="52596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76840" y="3152880"/>
              <a:ext cx="122652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25280" y="4400640"/>
              <a:ext cx="2103120" cy="106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linkis = 14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lgis = 14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re fragments =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C30-4CB6-4B93-A934-A80CB4F8CA2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rauto tyrimo reikalingu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įsilaužimą aptinkančių sistemų turi aukštą klaidingų pranešimų laipsnį (false positive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litikas turi atskirti klaidin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praneš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p atrodo normalus ir nenormalus srau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50F0-5CCF-4013-8B5C-D81395CC48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os peržiūra naudojant TCPdu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žiūrėkime į sekančias TCPdump išvestas eil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icmp : echo request (frag 21223: 148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(frag 21223: 1480@1480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(frag 21223: 1048@2960+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F31-2516-4B81-944A-B3496F2136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ir Paketus filtruojantys įrenginiai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 kyla kai šie įrenginiai bando filtruoti – blokuoti fragmentuotą sraut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pirmas fragmentas fragmentų sekoje turės protokolo TCP, UDP ar ICMP galvut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ėtų būti blokuoti ir kiti fragmentai, kurių fragmentų ID yra tokie patys kaip ir blokuoto frag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as fragmentas, turintis informaciją su protokolo galvute gali būti prarast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2F9-41FF-4E8C-A1BB-3DE90D1F0C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ragment vėliavėlė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gmentacija su šia datagrama nebus atliekam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šrutizatoriui nustačius šį faktą, jis numet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oki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gramą ir siunčia ICMP klaidos pranešim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e hostai tyčia, sąmoningai siunčia pirminę datagramą per tinklą su įjungta DF vėliavėle, tikslu sužinoti kokia bus MTU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tagramą siunči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 paskirties punk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gal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šauk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fektyv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(T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A405-46F6-4EC8-9B70-38485889213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ktavališka fragmentac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sukuria plačias prielaidas hakerių atakom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Pavyzdžiu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antis TCPdump išvedimas buvo gautas naudojant komand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map  -f  -sS  –p  53   targe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 siunčia fragmentuotą SYN sujungimą (connection-ryšys) į target.com  53 port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25096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25096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4265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4265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34927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34927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ikėtina, kad ID sistemos gali nepagauti tokio pobūdžio paslėpto skanav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6D1-8B24-4DA0-968A-CD47BA79ACF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as už paketų-filtravimo įrengini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2.1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7.56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7.57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0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1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2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3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7.2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3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42.30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</a:rPr>
              <a:t>Trūksta pirmų ir paskutinių fragment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31D-8603-4305-9806-07FD9A6970D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-SYN 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YN Flooding ataka yra organizuojama iš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eš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usiteikusio vartotojo, kuris naudodamas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lienti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iekia įvykdy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oS tipo ataką prieš server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s didelis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klausų kiekis aukos sistem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 visus port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susijungimas susijęs su tam tikr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surs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šskyr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os sistemai atsaki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/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klausantys portai arb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– uždari portai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ukos sistema laukia ACK iš siuntėjo ir nesulaukia – resursai lieka užimtame būvyj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Atakuotojas pakartotinai siunčia susijungimo užklau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a yra panaši į TCP-SYN ataką, tik siuntėjo adresu irgi nurodomas aukos adresas. Gaunasi fatalus cikl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DFF-FC43-45B3-9872-ADAE619B0BF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toj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unč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u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ofed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ource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( padirbtais adresai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 negali nusiųsti RST paketų , nes adresai yra padib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iskir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sur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iekvienai užklaus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aigtinis kiekis pusia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tvir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žklausų yra palaik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 užklaus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egzistuoj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MEOUT period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, jam pasibaigus ateina naujos užklau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ai resursai išsemiami, kitos užklausos atmetamos- nors jos ir yra teisin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4800600" cy="27302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30492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rmal connection e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00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n Flooding at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883-30EE-4356-8CF8-77AB2136273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uojan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nčia kelet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rtais užtenk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Y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k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por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elnet daem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uojan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turi būti tikras, kad IP-adresas, kuris nurodomas 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žymėtų tuo met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prieina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hos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ųs savo atsakym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uo adres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IP (ICM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riemonėm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fo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y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pasieki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tys kad šios klaidos yra laikin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paliks jas IP išsprend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rou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-adr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 būti nepasiekiamas, n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toj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nori, ka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ks nor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u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/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einančių iš au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s iššauk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to hosto. Tai sutrukdytų ata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75B-0C18-412A-8871-6B52F52384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m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fig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ūra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er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Mažinam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ime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io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Padidinam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klo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lg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desnio jungčių kiekio palaikymui  - tačiau atakuotojas gali pasiųsti papildomus pake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ršrutizator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fi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racijos ger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o išoriniame interfeis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blokuojam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paketai su šaltinio adresu iš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idini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inklo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o vidiniame interfeise blokuojami paketai į išorę, kurių šaltinio adresu nurodytas šaltinis iš išorė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daug SYN ateina į tą patį portą – juos patyrinėti firewall’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28C-B936-4A02-B938-82998AF64F0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perjung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sako Paskirties punkto var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ui įvyk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irewal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usa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q #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ku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ą su Paskirties pun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paketas patiria vėlin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5013360" y="1981080"/>
            <a:ext cx="3079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0AD-5CE6-4960-8C56-D9FB541D804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ikėtinas srau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ku pademonstruoti visus normalaus srauto aspekt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malumą lengviau yra nusakyti kaip tai kas nėra nenormal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for comment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dokument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93  skirt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Transmition Control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68 skirtas UDP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User Datagram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91 skirt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IP Internet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C 792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ir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Internet Control Message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A5F-758B-411F-A834-196EEE4150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pusiau-skaidr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Falsifikuoj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lt-LT" sz="2000" spc="-1" strike="noStrike" baseline="30000">
                <a:solidFill>
                  <a:srgbClr val="000000"/>
                </a:solidFill>
                <a:latin typeface="Times New Roman"/>
              </a:rPr>
              <a:t>i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o rankų paspaudim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ck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– paskirties punkt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i ištraukia sujungimą iš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cklog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laisvin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sur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tai y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ak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“real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ac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ebus atsiųst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tai bus tikras susijungimas pakartotin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gno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otas kai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ubliuojan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rūkum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delis skaičius atvirų jungčių jei sistema yra atakuoj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ikia labai rūpestingai parinkt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ou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io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779-2276-44EF-9A5D-0C1F8A58284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419720" cy="38163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3962520" cy="386064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838080" y="52578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a su pusiau-skaidri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86400" y="51814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lus susijungimas s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usia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dri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1C8-E2D9-4784-B82C-3826C9B17D5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762120"/>
            <a:ext cx="8458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 tam tikr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rveris patiria SYN-Flood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stebimi keisti reiškini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irmiausiai yra sugadinam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dary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aikrod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The 1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e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aik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ke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_RCV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y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augiau n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minu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či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3 minutes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 Daug daugiau n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5-s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ndes kie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urė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b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ū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 atsitiktinio laiko interval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meta šiuos soketus 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 ji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pasiliek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ko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 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ki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tvindy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s yr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y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is neatsaky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rsi jis vis dar būtų užtvindy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i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OSEd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oket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 išardom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tvindytas por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šlaisvin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kančioms užklausoms vė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880" y="4648320"/>
            <a:ext cx="83059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os liūdnos pasekmė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as variantas, kad  TCP serveris visai negalės atsakyti į užklaus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visi TCP serveriai yra užtvindomi, nebelieka nei vieno, kuris galėtų priimti susijungimo užklausą ir išvesti iš CLOSE būvio soke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0920" y="304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rver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523-055D-4925-BD2C-B04B2DA2059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 floo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s didelis UDP datagramų kiekis aukos sistemai stengianti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aurinti pralaidu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Siunčiam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lsifikuo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ketai iš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charg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UDP serviso į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ch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servisą kitame ho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omasi -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raudžia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stemos diagnoze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kirt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etų atėjimą į vidinį tinklą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išor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raggle tip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os gaunasi pasiuntus UDP paket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ršrutizator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dresu(paketai nukeliauja į aibę tinklų –ir visi tų tinklų hostai atsako)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mur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a – Echo – į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dresą). Siuntėjo adresas gali būti pake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748-A93D-46F8-9998-7B0E6E909C4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 adreso pakeitimas (spoof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YN Flooding, UDP Flooding atakos yra paremtos tuo, kad kaip šaltinio adresai yra nurodomi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dirbti adresai, kurie gali būti atsitiktinai sugeneruoti, bet turėti tikrų adresų įvaizdį, tačiau paimti iš nenaudojamo diapaz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imti iš visai kito, svetimos organizacijos tinklo (aukos tinklo adminai gali pradėt blokuoti paketus, ateinančius iš šio adreso – organizacijos tinklas nekaltai  atsiduria DoS pozicijo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 atsaka verčia siųsti atsakymus SYN/ACK, o jie gali keliauti padirbtais adresais, tuo pačiu užtvindant ir šiuos hos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8FB9-4628-4428-AE76-E4ECAEEF9AF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SYN flooding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ource unreach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9.0.0.0/8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host &lt;----- router &lt;--- Internet &lt;----- router &lt;-- att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92.168.0.4/3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0.0.0.13/3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72.16.0.2/32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urodyti adresai skirti privatiems tinklams, jų nėra maršrutizacijos lentelės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49C-40B9-4EA8-8097-66978EB20B0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SYN flooding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valid source ad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kos hostui siunčiamas srautas TCP SYN paketų, nurodant teisingą, tačiau suklastotą adre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ka siunčia srautą SYN/ACK kaip atsakym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žeidžiami du hostai. Jų funkcionalumas krinta arba visai sustabdo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andoma kovoti tobulinant pačias operacines sistemas, kad esant dideliam susijungimo aktyvumui iš vieno taško, tai interpretuot kaip atak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681-ADC2-46ED-91EB-F04A5EBD7FB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ketai su neteisingu šaltinio adresu nepraleidži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38080" y="1371600"/>
            <a:ext cx="51055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1.0.0.0/8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uter 1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9.0.0.0/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SP &lt;----- ISP &lt;---- ISP &lt;--- ISP &lt;-- router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&lt;-- attac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A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B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C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uter 3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2.0.0.0/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19920" y="228600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aršrutizatoriai, priimdami paketus praleidžia tik tuos, kurių šaltinio adresu nurodomas teisingas ad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C20-490A-4253-8BCC-59B7D6986A1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reso pakeitimas-spoof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od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poofing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škia sa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te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tojimą, dar tikslia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tėjo IP adres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tojim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žmonių yra suinteresuoti šia klastote, nes mano, kad spoofingas leidžia įsilaužti į mašiną ir lik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šk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onim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pilnai nepaslepia atakuoto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roblema yra tame, kad visi atsakymai grįžt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tėj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igi jei jūs suklastojote siuntėją, tai nie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amatys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sakym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yra nenaudingas normaliai veikl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yra nauding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iose situacijose, kur atsakymo pamatymas nėra būtin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C32-8E60-41E9-9CC4-69A90CD8A5A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reso klast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poofingas gali būti aklas arba ne akl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Aklo spoofingo atveju jūs nesužinote atsako, o ne aklo spoofingo atveju hakeris sėdi kažkur šalia ir gaudo (sniffing) pake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poofingas gali būt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naudojamas maršrutizatoriaus adresu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keis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statant adresinę atitikimybę tarp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P bei MA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ų yra naudojamo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P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užklausos. Jų skaičiui sumažinti sužinota informacija yra laikom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cho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entelėse. Jei hakeris pasiųs gretimoms mašinoms ARP užklausą, kurioje bus nurodyta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ršrutizatoriaus IP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as ,kuriam atitinkanti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as bus jo mašinos MAC adresas, tai šį atitikimą mašinos įsirašys į savas ARP lenteles ir ims tikėti, kad maršrutizatoriumi yra hakerio mašina ir siųs srautą į šią mašin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gali sukelti hostui DoS tipo ataką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hakeris panaudos tos mašin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resą ir savo MAC adresą,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 gausis , kad aukos mašina kaip ir išjungta iš tinklo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8CB-D1C9-4131-9A16-072F18EAFCB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atsakoma į Telnet susijungimo bandym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klauso reikalaujamam port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as 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ndo vykdyti telnet 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į myhost.c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.38060 &gt; myhost.com.telnet 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74957990: 3774957990(0) win 8760 &lt;mss 1460 &gt; 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sakymas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host.com.telnet &gt; tel_client.com.38060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960000:200960000(0) ack 3774957991 win 1024 &lt;mss 1460 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A24-7A3E-488C-B390-9B6E018E97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malus susijungimo sudary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133720" y="2590920"/>
            <a:ext cx="50292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2590920"/>
            <a:ext cx="5029200" cy="2821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/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4A1-9455-4AA7-83CD-4880E717B5B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ikia atspėti eilės numerį kurį naudos mašina, su kuria norima susijung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ėra neįmano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n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ijuojam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lus susijungimas ir tada įsiterpiama spėjant pradinį sekos eilės n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psimetama ki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72000" y="4114800"/>
            <a:ext cx="4572000" cy="213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0" y="4114800"/>
            <a:ext cx="4572000" cy="24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st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88BB-D6B3-4650-A474-CAB0B06FA3A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(X)[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]----------S[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ake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3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-&gt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aktiškai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-&gt;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t X apsimetaT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pėt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atspėtas ISN bus neteisingas, susijungimas nepavy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taba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ake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2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: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&gt; 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keliauja iki T, kuris gali atmesti jungtį. T yra pažeidžiamas SYN Floodingu, kad nebepriimtų jokių paket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B45-9D07-4D35-BCEA-B85BF15D081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oriškai neįmanoma panaudoti spoofingą TCP jungties atvej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i yra dėl tos priežasties, kad abi TCP jungties pusės renkas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ISN-Initial Sequence Numbers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adin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ekos numer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oriškai tai piln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tsitikti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kaičius, kurio neįmanoma atspė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aktiškai jis kartais yra lengvai atspėjamas. Mitnikas naudojo šią techniką atakuodamas Shimomur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35A6-D1C2-43A0-B9BA-C189C67D468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gene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inal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am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jekte ISN tarnavo kaip priemonė perdavimo problemų išsprendimui, o ne kaip kovos prieš hakerius priemon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esnėse operacinėse sistemose šių reikšmių generavimas vykdomas pagal paprastesnius algoritm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i šie metod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a, 64K taisykl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laiku susijęs gener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tiktinių skaičių generator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351-6F09-4A8A-AD52-4E5A1371C97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64K taisykl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as kiekvieną sekundę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Q-counter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šmė padidinama pastovia konstant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iaus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800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inicijuojamas naujas susijungima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Q-counter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šmė didinama kita konstan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iaus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00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gi žinant ISN vienam susijungimui, galima atspėti sekančio susijungimo IS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1 sekundė – pakankamai ilgas laiko tarpas kompiuteriniame pasaul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64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sykl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r naud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SF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es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nOS ver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A21-2A42-4F39-8856-57B5D16E798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 laiku susijęs gene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puliarus ir paprastas generav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a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j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tsitiktinius skaiči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liz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ijos užkrovimo met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s yra didinamas kas kiekvien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x time_units‘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laiko interva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 vis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time_units'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lygaus dydžio, jų ilgis priklauso nuo to kaip jie matuojami, kokia kompiuterio apkrova  i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enesniu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randuoliuose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s yra didinamas vienetu kas kiekvieną micro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368-8483-4BCF-B307-B5A8923916A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iunčiama eilė SYN paketų iš realaus IP tikslu gauti atsakymus ir juos studiju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spėjama, kad yra taikoma “64K” taisyklė, tai nagrinėjami skirtumai tarp dviejų, viens po kito einančių SYN paketų, jis turi dalytis iš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0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naudojamas koks nors ryšys susijęs su laiku, spėjimo schema grindžiam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 Trip Tim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RT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 laikas nuo paketo išsiuntimo iki atsakymo gav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jamasi tokia seka f-j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transmit_TCP(fd_send, NULL, 0,0,0, SOURCE, port, TARGET, TARGET_P, STARTSEQ+i,0, SYN);    stat=wait_packet(fd_receive,&amp;pinfo,TARGET,TARGET_P,SOURCE,port,SYN,20);  gettimeofday(&amp;(time_list[i]),NULL)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 eilės SYN persiuntimų bandoma matematiškai apskaičiuoti, kaip keičiamas ISN skaičius aukos ho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E6B-34B9-4C58-A78D-9F8D6F6E8C9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3429000" y="4191120"/>
            <a:ext cx="2857320" cy="793800"/>
            <a:chOff x="3429000" y="4191120"/>
            <a:chExt cx="2857320" cy="793800"/>
          </a:xfrm>
        </p:grpSpPr>
        <p:sp>
          <p:nvSpPr>
            <p:cNvPr id="651" name=""/>
            <p:cNvSpPr/>
            <p:nvPr/>
          </p:nvSpPr>
          <p:spPr>
            <a:xfrm>
              <a:off x="3429000" y="4191120"/>
              <a:ext cx="2857320" cy="79380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3429000" y="4191120"/>
              <a:ext cx="2856960" cy="793800"/>
              <a:chOff x="3429000" y="4191120"/>
              <a:chExt cx="2856960" cy="793800"/>
            </a:xfrm>
          </p:grpSpPr>
          <p:sp>
            <p:nvSpPr>
              <p:cNvPr id="653" name=""/>
              <p:cNvSpPr/>
              <p:nvPr/>
            </p:nvSpPr>
            <p:spPr>
              <a:xfrm>
                <a:off x="3429000" y="4191120"/>
                <a:ext cx="2856960" cy="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29000" y="4191120"/>
                <a:ext cx="2856960" cy="7938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 u="sng">
                    <a:solidFill>
                      <a:srgbClr val="ccccff"/>
                    </a:solidFill>
                    <a:uFillTx/>
                    <a:latin typeface="Verdana"/>
                    <a:hlinkClick r:id="rId1"/>
                  </a:rPr>
                  <a:t>  </a:t>
                </a:r>
                <a:r>
                  <a:rPr b="0" lang="en-GB" sz="46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lt-LT" sz="4600" spc="-1" strike="noStrike">
                    <a:solidFill>
                      <a:srgbClr val="000000"/>
                    </a:solidFill>
                    <a:latin typeface="Verdana"/>
                  </a:rPr>
                  <a:t>Pabaiga</a:t>
                </a:r>
                <a:r>
                  <a:rPr b="0" lang="en-GB" sz="7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55" name="SKATEBOARDER" descr="Skateboard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2514600"/>
            <a:ext cx="236196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5DB-E1FA-459D-9B0B-99D4E2A88C0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nesiklauso užklausiamame por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.38060 &gt; myhost.com.telnet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74957990: 3774957990(0) win 8760 &lt;mss 1460 &gt;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.telnet &gt; tel_client.com.38060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:0(0)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774957991 win 0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neegzistuo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tel_client.com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host myhost.com unreach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ortas blokuot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tel_client.com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host myhost.com unreachable  - admin prohibited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5C8-2B58-4640-A425-A729FAADEA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ortas blokuotas, routeris neatsak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is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ers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lėti ir neteikti unreachable pranešim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nform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l_client.com  kad kažkas yra negerai, tai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_client.co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unči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rtotin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jungimo bandym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rtojim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 interval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o metu šie pakartojimai yra siunčiami priklauso nuo operacinės sistemos to hosto, kuris siunči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A52-5792-454A-A789-263A445CD7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tsaky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 užklausa yra panaudota parodymui kaip UDP atsako į skirtin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hostas klauso reikalaujamam por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slookup.com.45070  &gt; myhost.com.domain : 51007+ (31)    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+ rodo kad rekursija yra leis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host.com vykdo domeno servisą ir atsak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.domain &gt; nslookup.com.45070  51007 1/0/0 (193)    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51007 – užklausos id , 1- atsakymų įrašas, 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ame server records and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uthority record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– įrašo ilgis be galvučių 193 bait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4AB-381F-407C-B985-70A5DB0C19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hostas nesiklauso reikalaujamam port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slookup.com.45070  &gt; myhost.com.domain : 51007+ (31)     (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host.com nevykdo domeno serv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tsa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 &gt; nslookup.com :</a:t>
            </a: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nslookup.com udp port domain unrea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70D0-6FAF-48AF-BE8D-1743F19E1A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7:11:56Z</dcterms:created>
  <dc:creator>Kristina</dc:creator>
  <dc:description/>
  <dc:language>en-US</dc:language>
  <cp:lastModifiedBy>Kristina</cp:lastModifiedBy>
  <dcterms:modified xsi:type="dcterms:W3CDTF">2004-10-13T09:28:45Z</dcterms:modified>
  <cp:revision>23</cp:revision>
  <dc:subject/>
  <dc:title>Temos</dc:title>
</cp:coreProperties>
</file>