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767-CAA6-470B-A6AD-00DB52A0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818-C30C-4948-B6DA-1375CB7B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6A8-EA39-47FA-B78A-81CE8D20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D89-FB11-4F91-BCEF-B049F5C4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3B8-9502-4F39-9AC5-9BFDC60D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89E-44BC-41EB-BC36-4371A651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478-3BE4-45FA-8AFB-723150A9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C9C-FDFC-4105-95C3-495B40A9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E3F-F48C-4FC9-A631-E043AC0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93B-C955-49F5-A924-3D3FCD85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D00-3777-4840-9B3A-5605FD9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28E-EEE8-4269-A16B-E90FD88C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C325-8370-4800-B762-EAB5DF2C4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81480" y="4876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3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ile2546657_datori2" descr=""/>
          <p:cNvPicPr/>
          <p:nvPr/>
        </p:nvPicPr>
        <p:blipFill>
          <a:blip r:embed="rId1"/>
          <a:stretch/>
        </p:blipFill>
        <p:spPr>
          <a:xfrm>
            <a:off x="457200" y="0"/>
            <a:ext cx="59436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792-D503-4F21-93A3-779239B43A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po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ingi asmen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l Nr nenumatytiems atveja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60E-5EB3-4001-A27F-C02EACCF3E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dėl reikalingas saugos audit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a yra g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 tikėti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uoj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kos suderinamumą su realy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kų rizik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g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ų įnešamą sugriovimų laipsn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daro tinkamus atsak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 s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F1A-A1CC-4F9B-8C7A-165CBA2EB0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ia atlikti tinklo auditą?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os saugumo auditas – tai rim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ug žinių reikalaujantis proc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nepraneš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ų ž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panaikina jūsų iliuzijas apie jūsų tinklo sau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 yra sunkus darbas jį vykdant ir sunkus procesas išaiškinant pašaliečiam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ditas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šališkai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įvertin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jūsų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žiūrimo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tinklo saugą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dovybė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aky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as kuris pasako jums tik tai, ką jūs jau ir taip žinote nėra daug ver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C7E-2F0F-44D5-AB66-3544EED3BA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yra reikšminga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, n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ų pir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duod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ališk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žiūrį į jūsų tinklą, kurio neįtakoja nei vidinė politika, nei tvarkaraščio ribojimai, resursų limitai ar jūsų organizacijos žinių lyg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ditoriu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ą metodolog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rinėjimų atlik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čia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us turi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kirtingą perspektyv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Geras auditoriu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na išanalizav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šim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šimtus tinklų , yra matęs problemas ir sprendimus, apie kuriuos jūs gal nežino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AE7-E6BD-4ECC-8E39-FF9D791F0A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aspekta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įdieg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istemų architektū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tatymas po nelaimė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ymo laikai sprendžiant proble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gavimas į kritines situa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nedarbo val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04D-55E9-436E-8E5C-44FE46E53D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eto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liekant auditą kertinis akmuo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osofi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kur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komas matuojant tinklo saugum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F24-45ED-4FF7-8A93-72DED69701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oriu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takuoja tinkl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į testuoda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moj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tika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idimas tipo “užgrobti vėliav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auditorius sugeba užgrobti vėliavą – tai yra puolamas tinklas yra pakankamai sukompromituojamas nors jūs bandėte tam užkirsti kelią – taig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las neatlaiko tes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36D-364A-4BE2-AF48-D2CD896748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Know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 ( puolimas nuo nulio). Auditorius žino tik taikinį. Visa kita informacija kuri bus panaudojama puolime yra auditoriaus surenkama. Tai modeliu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taką visiško prašalie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iš išorės). Šis audito tipas užima daug laiko ir brangiai kain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rtial-Knowledge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puolimas su dalinėm žiniom). Auditorius nemažai žino apie taikinį: DNS IP numerius, telefonų numerius serverių, palaikančių “dialin”, e-mail, proxy-serverius ir t.t. šis audito tipas yra tikriausiai pats bendriausias ti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84C-9DB9-469C-A769-5EA09BF572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-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. Tai atakuotojas su pilnu tiklo žemėlapiu, administratoriaus slaptažodžiais ir visa kita ką jūs galite jam pasiūlyti. Šis audi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modeliuoja ataką iš vidaus, žinančio žmog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Jei jūsų tinklas gali išlikti po tokios rūšies audito, jis turi įspūdingą saugumą. Tai gali reti tinkla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Effect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linio efekto). Uždedami suvaržymai auditoriui, apribojančiam jį nuo naudojimo atakų, kurios galėtų modifikuoti puolamą sistemą arba sužemintų puolamos sistemos serviso lygį. Tai panašu į auditą produkciją gaminančios sistemos, kai jūs norite pratestuoti, tačiau nenorite trukdyti produkcijos gamyb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DED-2B60-43BA-B3F3-84189BAFE6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t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Auditoriui leidžiama modifikuoti sistemą, jei tuo galima įrodyti kad puolimas galimas, nesvarbu kaip tai atsilieps puolam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o-Holds-Barred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Bet kokia technika kuri gali būti panautota yra leistina atakuotojui. Gali būti naudojami kyšiai, socialinė inžinierija, dokumentų vagystė, popieriaus skiaučių tyrinėjimas ir k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AF8-7F01-4BF9-8B56-BBA0AD5300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ėra garantijos, kad tiriamas tinklas bus saugesnis nei netiriamas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alingas tinklo aud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būti matuojama audito m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atlikti audit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mi rezulta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157-25B4-478C-ACDA-EC7AC449EA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ėkming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rafiš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vaizduoja tinklo proble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uo padidind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nansavimo šansus papildomam tinklo saugu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ibot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nustatytais tikslais ir ribotom atakos priemonėm yra priimtinai nebran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-holds-barred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artimai panašus į tą būdą kuriuo atakos yra daromos real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9B2-271C-4280-A91B-DE04E9FA50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augiau mat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ntrybę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n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matuoja gynėjo kruopšt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o kruopštesnis yra audito tipas t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nkiau yra jį suplan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Puolimas reikalauja, kad silpnos vietos būtų nustatytos ir ištirtos, ir reikės keletos tokių ciklų tam kad būtų pasiektas puolimo tikslas. Iš anksto sunku pasakyti kiek laiko tai už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pribojimai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uriuos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edate audito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o tipo audite gali būti būtinais jūsų tinklo apsaugai, bet jie gali duoti nukrypimą nuo realaus atakuotojo pasiekiamų rezultatų ( kuris veiks be apribojimų). Tai gali sukelti iliuziją, kad jūsų tinklas yra saugesnis nei iš tikrųjų y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D5D-3456-4DE1-93E8-A9FB142A2F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odugnus puolimas reikalauja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us modifikuotų tink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backdoors( kaip realus atakuotojas). Tai pakeičia sąlygas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ž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ūsų tinklo saugumą. Kadangi audito tikslas yra padaryti tinklą saugesniu, jūs turite susitaikyti su saugumo susilpninimo idėja kaip dalimi proceso pagerinančio jūsų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audito tipas reikalauja kad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priai pasitikėtumėte auditoriu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udito gale auditorius turės daug jautrios informacijos apie įėjimą į jūsų tinklą. Jūs turite pasirinkti tokį auditorių kuriam galite patikėti tokią inform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F93-7A3D-4321-B8C4-21CA72AFE8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išvad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portas apie sėkmę ar nesėk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kokio tipo atakos pasisek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išmėgintų atakų tip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atakų, kurios nebuvo išmėgintos dėl uždėtų auditui apriboj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rašymas saugos spragų, kuriuos pastebėjo audi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ūlomi konfigūraciniai pataisymai arba programinės įrangos atnaujinimai, kurie eliminuotų arba minimizuotų problemas pastebėtas audito met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DB6-2D13-445E-B7AD-D9CCEA5670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 anali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as yra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džiai detalizuotas revizijos 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spektas yra egzamin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as pagal tikrinimo sąrašą ir blogas stovis yra fiks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ei rastas problemų skaičius ir jų aštrumas yra pakankamai žemas, tinklas auditą prae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yra perdaug problemų, tinklas fiksuojamas kaip nesau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84C-9888-4F81-A0DB-F2184ADC89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gūracinė analiz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o tipas reikalau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ilno priėjimo prie tinklo galimyb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lno tinklo žinojimo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p kad puolamojo audito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tai nėra puolimo tipo auditas, iš auditoriaus nereikalaujama pralaužti tink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 gera šio priėjimo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, kad matavimai gali būti atlikti pilnoje jūsų priežiūroje.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ger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 kad matavimus yra lengviau suplanuoti nei puolimo eig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872-3EE6-4CE1-B3BD-7E8310E6BF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eta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perprasti tinklo dizainą ir konfigūraciją taip pat gerai kaip ir sistemos tiksl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būti sudaromas audito tvarkaraš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vimai ir duomenų surink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inkti pakankamai informacijos iš kiekvie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nklo kom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t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stų atlikti saugumo analiz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apklausiami žmonės atsakingi už įvairias operacijas ir tinklo saugą taip pat kaip ir tinklo vartoto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urinkti matavimų bei interviu metu duomenys yra analizuojami ir sudaromas tinklo saugumo vaiz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ABE-4E9B-43F1-A757-4C682B3D4B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okalbiai su žmonėmis-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v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os apžvalg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ų tyri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s tyrimas, matavim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C49-79D5-419F-96C5-049F0A8DCA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okalbi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nusakyti, lengva padary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ignoruoja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ysadm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dybinink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žino – matė saugos politi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 jiems galima/ kas ne jų žodž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jiems prieinamos root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m naudojama sistema, kokie kritiniai sistemos ta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A9C-939C-4A77-929A-9C33D6AC73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 apžvalg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topolo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tinklo sandara, maršrutizatoriai, ugniasienės,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aršrutizatorių / ugniasienių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ai, jų rinkimo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4A3-8080-4EC1-B0CE-F0828CDE60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ceso ei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kite tinklo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ą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testuodami viską kas jums atrodo reikal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vieskite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orių iš išor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leiskite jam atlikti testavi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ą šį procesą užbaigus turėsite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rai apsaugotą tinklą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4D0-E3C3-4999-820D-0C4D2B754D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tav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būti sudaromas matavimų pl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turi būti suderinamas su organizacijos atstov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tavimo įrankiai turi būt patikimi, jų kodai turi būti pa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nama, siekiant įsitikinti, ar tinklą gerai saugo ugniasienės, ar nėra skylių programinėje įrangoje, ar gerai fiksuojamos problemos log įraš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148-028D-4A5F-84B6-9492520D2C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alpų sauga – ypač serveri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įeiti, ar yra registracijos žurnalai, kas turi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ėjimas prie hostų, serveri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aliekami kompiuteriai pertraukų me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auga patalpų nuo stichinių nelaimi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058-75D0-42A2-A24B-BE6E1B2CA7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apor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ruoš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paruošiamas detalus raportas aprašantis tinklą ir visus trūkumus ar potencialius trūkumus, kurie buvo atrasti analizės eigo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pri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aportas pristatomas tiriamai organizacijai su trūkumų aptarimu ir potencialiu galimu patvarkymu ar siūlomu dizaino pakeiti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886-8FEF-4CAD-B318-B9DCD7BBDF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s audi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uopštes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a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vertinamas sumanumas ir kruopštumas jūsų darbuoto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atavimai gali būti atliekami tiesioginėje jūsų priežiūroj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okiu būdu jūs žinote tiksliai kokia informacija apie tinklą buvo parodyta audito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būti garantuojama auditoriui tik duomenų surinkimo faz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auditas atlik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 maža arba be jokios įtakos sistemos veikl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viau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arkaraš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o atvej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3E2-73B9-43F0-8641-5EECF10F71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Daugiau išlaid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nei puolamo audito atvej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au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kštai kvalifikuoto auditoria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ne vien tik įrankius įvaldžiusio žmoga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inga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platus mat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m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jos tinklo j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dorojim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DB6-D7CF-4BB3-9482-B8BD448386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talus raportas, aprašantis trūkumus rastus analizės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kusija apie tai kaip šie trūkumai gali būti ištaisyti ar išelimin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o analiz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odymas šaltinių, iš kurių galima gauti atnaujintą programinę įra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0B1-DD4B-4FAF-A459-ECB74ED7D1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jūs tikitės iš aud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supratus, jums bus lengviau pasirinkti auditorių ir jums seksis geriau su juo bendraut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 audito tikslas turėtų būti  - atskleisti įdomią ir išsamią informaciją apie jūsų tinklo saugu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as aud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Kai kurie auditai nėra rimti, nors yra atlikti su deramu stropumu. Pavyzdžiu gali būti auditas, kurio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auja biznio partneriai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metu siekiama atskleisti silpnas saugumo puses, kad jas galima būtų pataisy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opšč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o audito esmė yra parodyti, kad nėra rimtų silpnumų jūsų saug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963-B949-4CFF-854D-134B6E4A7A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i bus įdomūs tik t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veju, jei jūs jų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žinosite iš ank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ruošiatės atlikti auditą,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ūs turėtumėte užtaisyti visas skyl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tada pažiūrėti, ką pasakys auditorius. Nerašyta audito žaidimo taisyklė yra ta, kad auditorius turi kažką ras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o informacija turi bū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Jūs norite sužinoti 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kas yra blogo su tinklo saugumu, bet norite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oti viską kas įmanoma apie j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uo daugiau įdomių faktų auditorius gali jums atskleisti, tuo jums geria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05C-3203-4D25-A0C1-0650FF8B81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škus problemos formul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ai sutinkamas auditorių nepasitenkin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i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i neži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 jie no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 nenori kad jiems būtų pasakyta ką jie g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ir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m lai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atei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 kurių minčių auditoriui, kaip pavyzdžiui apie matav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s reikia atlikti, kokius tinklo elementus norima ištir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s iš to gausite didesnę naud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91D-A3F3-4FDD-8687-66418CF666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ros sritys vertos dėmesio yr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is tarp Interneto ir jūsų tink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ys tarp jūsų tinklo ir biznio partner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monės kuriomis naudojasi jūsų darbuotojai nutolusiame ryšyje su darbo vi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tinklo infrastruktūra (DNS serveriai, failų serveriai, pašto server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specifinė-biznio infrastruktūra ( duomenų bazių serveriai, procesų kontrolės serveria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balaukio (desktop) apli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lanai atstatymui po nelaim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A91-E61F-4926-8FFC-DB26D94941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i susiję su </a:t>
            </a: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mažom problemom, kaip pavyzdž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atlikti savo tinklo audit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ą tikrin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gu problemos lengvai nepasitai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rasti auditorius iš išorės, kuriais galima būtų pasitikėti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B58-07FE-4500-BFC1-FA10DB3FAF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</a:t>
            </a:r>
            <a:r>
              <a:rPr b="0" i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pektas audito yra žinojimas, kurios mašinos turi būti audituojamos ir kurios 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ei analizei 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rink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etą skirtingų kry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iklausomai nuo to , ką norite pamatuo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o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visos mašinos duotoje grupėje prisilaiko, remiasi tais pačiais standartai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pnu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kant po vieną mašiną iš skirtingų grupių sulyginkite jas pagal kritinius saugumo rodikli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a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atveju jūs norėsite atrinkti kuri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š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ina už rib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zės atveju tikr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liminuo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nagrinėj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artojanč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 tikslu geriau įtrau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kal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, kad gauti platesnę vaizdo perspektyv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C32-F7E9-4B91-B86F-E4C747C9707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Kas turėtų atlikti audit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us parinkimas daug priklauso n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kurį rengiamasi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jū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tyviai paprastiems tinklams daug kas gali atlikti naudingą ir funkcionalų auditą.  Ekstremaliai komplikuotiems tinklams jūsų pasirinkimas bus labiau ribo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u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 turite pasirinkti auditorių iš šių grupių: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priklausomi konsultantai, saugumo firmos, ir audito nama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988-01B8-4806-BD65-1DBB55262B6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di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ykdanči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organizacijos parink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rinktis toki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ą, ku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okio lygio auditą, kokio jūs nori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 apdor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nines detales, kurios jums reikalin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tų patik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ų duomenų požiūri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ne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ar galimais atakuotoj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97E-F526-48E2-9768-9C8184CFCF3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klausomi konsultant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lingiaus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ų pasirinkimų skaičiumi grupė. Šie konsultantai gali būti diapazone nu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kščia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psnio saugumo ekspertų  iki atakuotoj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žiūri kaip pasinaudoti kažkuria sistema bei tokių kurie turi parsisiuntę nemokamą įrangą arba pasiskaitę knyg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žvilgiu šių nepriklausomų konsultantų galima pasakyti, kad tie, kurie žino, ką jie daro yra dažn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gais su tais iš “tamsios pusė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dant nepriklausomus konsultantus tenka susidurti su ta pačia praktika kaip samd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t keli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iau reikalav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tik gal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formacijos neskleidimo susitarimai, šešėliniai patikrinimai, interviu yra svarbiu elementu ši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</a:rPr>
              <a:t>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0D0-66D3-42BF-B2B4-13EE77D4F2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ykinai lengva sura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efektyvūs kainos atžvil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ais galima rasti talen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svyruoja kokyb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ikimumas gali būti problematiš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garantuoti nuoseklumą ir audito standartų laikymą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laukti paslėptos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atsirasti neformalus kanalas atakuotoj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FCE-FAFE-412D-B6AF-3FAE4FB49AC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firm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ompanijos, kurios specializuoj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gumo klausimuose. Jas gali sudaryti konsultatų grupė, bet dažniau jų audito grupė yra dalimi didesnio, su saugumu susijusio biz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iausi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vačios, bet kai kuri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ybinės ir valdymo organizacijos tur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grup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naudojimas gamybinės organizacijos grupe gali duoti jums galimybę prieiti prie aukščiausio lygi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e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jūs turite būti atidūs jei nenorite, kad audito rezultatai taptų tos grup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k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k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limi. ( paprastai , grupės kurios tai daro užtikrina gerą anonimiškum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BE0-54EE-49F7-AC8A-AF49389DE43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ikras jų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iznis, tai kokybė turi tendenciją būti aukš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jau yra jums padarę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šešėl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tikrinimą. Ir jei jie to nepadarė, tai kažką sako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yra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susipaž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naujausi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problem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Ir jei jie tuo nepasižymi, tai pasako dar kai ką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turi per daug klient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ibot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rangū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620-27D8-4BAB-AA10-E1191369238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nam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aug tokio ti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fir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ai kurios iš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es giluminiam saugumo audit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detalus rapo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ūs metodologi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avimo metodologija gali bū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kanka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k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d pasakytų jums tai, ką jūs norėtumėte sužin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ūti taip techniškai pagrįs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jums norėtų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a bran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D2E-F0BC-4460-80EB-BD6150590F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eikalavimai auditori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r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turi nekelti pavojau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s yra audituojama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trauktiems žmonė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 sugriau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domo servi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kiais atvejais išskyrus iš anksto numatytus bei tiksliai aprašytus leidim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atskleid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auditas gali būti susijęs su kartais keistu auditoriaus elges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ėtų aprašyti bent jau bendrais bruož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ą jis rengiasi daryti, jūs turite duoti tam sankciją geriau raštišką prieš jam padarant ką nors neįpras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51F-0F27-4266-A851-2F53E520CFF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ai parašytas raportas ir puikus pristaty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sukurti gerai apgalvotą raportą, kuris būtų suprantamas ir pateiktų gerai patvirtintas išv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cija turėtų būti padaryta su galimybe paklausti auditoriaus detalių klaus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ja, kad jūsų duomenys bus traktuojami teising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prasidedant auditui jūs ir auditorius turite susitarti apie audito metu surinktų duomenų, arba iš jų išvestų duomenų saugojimą, panaudojimą ir dispoziciją. Auditorius turi labai stengtis laikytis šio susitarim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ežtas konfidenci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BDD-1582-4394-AE44-3DC674174A8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s tas saugo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krinimas paremtas priimta saugos politik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galimos rizikos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nklo konfigūracijos tyrimas bei į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o, saugaus funkcionavimo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ų saugos įvertinima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BF6-7914-4D5D-A762-4ADF1892E8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tikisi auditorius iš jūs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us elgesio” laiš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 mokate auditoriui už kai kurių saugumo pusių testavimą.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is turi būti protingai laisv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urėti imunitetą) n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avimo pasekmių. To užtikrinimui auditorius turi teisę prašyti raštiško patvirtinimo, atleidžiančio jį nuo kaltės už tai ką jūs arba jis susitarė lei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ratingas elges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uditorius turėjo patirties, kai jis buvo sekamas iš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os darbuotojo, kuris laikė savo pareiga perspėti bendradarbius, kad prasidėjo audit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31D-B75D-4E11-A4FB-86F3263D17B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pareigojimų laiky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varbu kiek išankstinių perspėjimų yra duota, auditoriai retai kada baigia auditą su visa informacija ar tomis priėjimo galimybėmis, kurios buvo žadėtos. Jei jūs pasakėte, kad išsiųsite kopiją savo saugumo politi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čią savaitę, tai to reikia ir laiky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ūs – paskutinės minutės pakeiti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ės, kai auditorius jau laukia jūsų ofise – tai ne laikas keisti žaidimo taisykles. Taip pat jūs turite pripažinti kad auditoriaus laikas kainuoja pinig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nis nepriklauso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esate suinteresuotas rimtu auditu, tai reikia atminti, kad auditorius nėra ginklu prieš jūsų priešus iš kito skyriaus. Iš auditoriaus negalima tikėtis kad jis dalyvaus vidinėje jūsų organizacijos politikoje, o bandymas 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yti sumažins audito reikš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FD2-8B33-442D-BA1E-22C1621BAF9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turi būti atliekamas audit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yb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tariamas audito dydis ir tikslai. Grubus tinklo aprašymas yra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ud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ieš audit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ankstiniai perspėjimai apie bet kokią 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ngą informaciją. Susitarimai apie audito tvarką ir priėjimą prie personalo bei dokumentacijos yra padaromi. Detalus tinklo aprašymas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rinkimas sistem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 atliekami matavimai. Vykdomi interviu su pagrindiniu personalu. Daromi susitarimai dėl papildomos informacijos pateik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D24-5E20-4A01-84F8-38EDBD7387C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 namu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analizuojami surinkti duomenys. Gaunama papildoma informacija. Paruošiamas detalus raportas. Numatoma prezent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u su suinteresuotomis grupėmis atliekama viena ar kelios prezentacijos. Galimi atsakymai į klaus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ų organizacija reaguoja į auditą adresuodama įvairius klausimus techniniam lygiui, kartais paneigiant auditoriaus išvadas, nors į jas reikia įsiklausyti kaip į galimo pavojaus že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ęsin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gali atlikti papildomus matavimus siekiant įsitikinti, kad organizacijos priimti sprendimai buvo teisin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FE2-DE84-4475-A7D0-7F909F52AB7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etal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smų plan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gal nurodytas problemas parenkant žmones jų sprendimui, taisy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isymai daromi saugumo administratoriau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oj p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netempiant tai į kitas savaites ar mėnes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planuoti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pil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uditą po pataisymo ( nors tai brangu) įsitikinimui, kad komanda gerai susidorojo su probl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6A2-5DB5-4508-BDAD-F12091CA713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da atlikt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numatytais, kritiškais atveja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kūrus tinkl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guliariai pagal tvarkarašt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28D-94F3-417F-A7E3-1957E610C5C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ideli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gniasienė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7A4-1867-426C-A9FF-6C070168A2C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114560" y="2125800"/>
            <a:ext cx="6916680" cy="2546280"/>
            <a:chOff x="1114560" y="2125800"/>
            <a:chExt cx="6916680" cy="2546280"/>
          </a:xfrm>
        </p:grpSpPr>
        <p:sp>
          <p:nvSpPr>
            <p:cNvPr id="150" name=""/>
            <p:cNvSpPr/>
            <p:nvPr/>
          </p:nvSpPr>
          <p:spPr>
            <a:xfrm>
              <a:off x="1114560" y="2125800"/>
              <a:ext cx="454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4560" y="2125800"/>
              <a:ext cx="6916680" cy="25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file3968100_DATORIprehisordi5" descr=""/>
          <p:cNvPicPr/>
          <p:nvPr/>
        </p:nvPicPr>
        <p:blipFill>
          <a:blip r:embed="rId1"/>
          <a:stretch/>
        </p:blipFill>
        <p:spPr>
          <a:xfrm>
            <a:off x="1371600" y="1179360"/>
            <a:ext cx="6553080" cy="438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A0B-2506-4AAA-87FC-3BD59235B88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kie galimi saugos audito tip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gal tiriamą objekt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 saug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ugniasienės teikiamos saugios užtvar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lokalaus tinklo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didelių tinklų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E4D-F0DD-4945-AFDE-5C488FE07A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os politik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yra saugos polit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turi ją parašy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ilgai ji turi būt nekeiči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24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 tokios politikos nė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E67-F9D5-407E-8BE5-DBB3B6BCEC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naudoti </a:t>
            </a: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resurs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Tinkamas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 resur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Prieinamu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užtikrin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autorizacij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s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inistrato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vile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o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akomyb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elgtis su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ut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augos požiūriu informac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atakų metu, sistemos atstatymas po atak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B92-4110-4BF6-A6C5-E4221B6AA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C 1244 ­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`Site Security Handbook''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ibrėžia saug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proce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r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os įvairo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blemų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ti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kcija į inciden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stemų palaikymas (patch’a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[ Lietuvos standartai susiję su saugos klausimai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11D-E75E-40F3-8A33-A5E29E1F35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1:37:31Z</dcterms:created>
  <dc:creator>Kristina</dc:creator>
  <dc:description/>
  <dc:language>en-US</dc:language>
  <cp:lastModifiedBy>Kristina</cp:lastModifiedBy>
  <dcterms:modified xsi:type="dcterms:W3CDTF">2004-12-07T17:27:19Z</dcterms:modified>
  <cp:revision>16</cp:revision>
  <dc:subject/>
  <dc:title>13 paskaita</dc:title>
</cp:coreProperties>
</file>