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5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_rels/notesSlide65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0.xml.rels" ContentType="application/vnd.openxmlformats-package.relationships+xml"/>
  <Override PartName="/ppt/notesSlides/notesSlide6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18EC-7B0A-4A75-B5A3-96DF26968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3A0F-8869-406D-9584-B9FFD086A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CF39-81ED-4701-B5B6-6D065E751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52A2-E23C-4AFB-A6DE-51EEC8DF8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300320" y="798480"/>
            <a:ext cx="4259160" cy="319392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831960" y="4355640"/>
            <a:ext cx="519408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2A18-57ED-400C-AF1D-B313E398E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300320" y="798480"/>
            <a:ext cx="4259160" cy="31939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831960" y="4355640"/>
            <a:ext cx="519408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A823-0E92-4AFA-A882-9977EEE84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300320" y="798480"/>
            <a:ext cx="4259160" cy="31939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831960" y="4355640"/>
            <a:ext cx="519408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C722-47F6-4BC9-8A16-B030A168E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300320" y="798480"/>
            <a:ext cx="4259160" cy="319392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831960" y="4355640"/>
            <a:ext cx="519408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5A74-553D-461E-96D1-BBB778670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300320" y="798480"/>
            <a:ext cx="4259160" cy="319392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831960" y="4355640"/>
            <a:ext cx="519408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300C-85F5-49B4-86CE-F56757663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300320" y="798480"/>
            <a:ext cx="4259160" cy="319392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831960" y="4355640"/>
            <a:ext cx="519408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6C5F-D84C-4B59-BB94-B32C1D85E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300320" y="798480"/>
            <a:ext cx="4259160" cy="319392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831960" y="4355640"/>
            <a:ext cx="519408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36D2-303B-4074-AD4C-CFAA66D6A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235C-4DA8-4D5E-9C23-4B598E07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25BF-AA8F-4222-B7B2-E293DD580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0604-6C9C-48A3-BB9A-D208C6B7F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F9BE-506D-4850-A680-28372036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25E2-C7DD-447E-B143-BDFB660D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FE0C-5384-4D4A-AF4F-AEEE413B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2E74-78E3-4DF9-9996-47150EED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1A44-5678-427E-A83B-98ECDB65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B540-F0EA-4554-AE0D-1A8EA5A8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0459-37F4-4D46-8BEA-6361DF3A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E809-123C-4381-ADE8-B6CDBC2E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0362-6A5E-42E7-9AD0-5A8122B05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867280" y="434304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11 paska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file1570572_loveyou_datori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4114800" cy="518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C710-6248-4724-9D2A-044429503DB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9187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arašo tikrin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ššifruojamas pasirašytas dokumentas, pagal reikalą panaudojant privatų rakt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ššifruojamas skaitmeninis parašas, naudojant viešą rakt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atikrinama kontrolinė su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atikrinama data ir laik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E59D-A9CC-4CE3-9236-84D7A3BCA3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9187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D5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 raktu sena versij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untė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MD5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+ E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vė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žino atsitiktinį raktą k naudodamasis siuntėjo viešu rak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ritaik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D5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onkatenacijai pranešimo ir rak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lygina rezultatą su atsiųsta kontroline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ma “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-in-the middl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 ataka – pranešimą galima perimti, sužinoti k, pakeisti pranešimą ir pasiųsti gavėjui, jis to neja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3346-2B42-4436-AE05-E8C5B30ED2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Monotype Corsiva"/>
              </a:rPr>
              <a:t>Gal bandyti taip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9810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untė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MD5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+ E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r-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publi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gavė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ššifruos atsitiktinį raktą naudodamas sav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rivatų rakt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ritaiky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5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onkatenacijai pranešimo ir rak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lygins gautą rezultatą su atsiųsta kontroline suma su pranešim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Galima “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-in-the middle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” ataka – perimamas pranešimas, pakeičiamas raktas, pranešimas ir siunčiama gavėj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2C50-F0AD-4B77-95B9-9D04961516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D5</a:t>
            </a:r>
            <a:r>
              <a:rPr b="0" lang="lt-LT" sz="4400" spc="-1" strike="noStrike">
                <a:solidFill>
                  <a:srgbClr val="000000"/>
                </a:solidFill>
                <a:latin typeface="Arial Black"/>
              </a:rPr>
              <a:t> su rakta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iuntė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MD5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+ E(E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r-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public), s-priv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Gavė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Nustato k naudodamas siuntėjo viešą raktą ir gavėjo privat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aik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D5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onkatenacijai pranešimo bei rak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lygina rezultatą su atsiųsta kontroline sum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taka “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-in-the middle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” negali sužinoti k, nei jo pakeis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inka, kai yra tik vienas gavėj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4285-C51E-40B2-89E3-15F8650FC4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9187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D5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 su raktais i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R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untė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+ E(MD5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i="1" lang="lt-LT" sz="1800" spc="-1" strike="noStrike">
                <a:solidFill>
                  <a:srgbClr val="000000"/>
                </a:solidFill>
                <a:latin typeface="Courier New"/>
              </a:rPr>
              <a:t>+k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i="1" lang="lt-LT" sz="1800" spc="-1" strike="noStrike">
                <a:solidFill>
                  <a:srgbClr val="000000"/>
                </a:solidFill>
                <a:latin typeface="Courier New"/>
              </a:rPr>
              <a:t>+k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, s-priv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vė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uži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D5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naudodamas siuntėjo viešą rakt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aik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D5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ranešim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lygina rezultatą su gauta kontroline suma praneš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-in-the middl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atakuotojas negali pakeisti pranešimo, nes kitas pranešimas duos kitą MD5(m) reikšmę, kurios nebus galima užšifruo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5ED2-289C-4515-A1C6-C2BA2C8EB7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gū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to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sdien auga skaičius aplikacijų, naudojančių saugius protokolus. Tai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n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merc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n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alsav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istancinis moky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5B29-3D85-4C0F-9B83-BC808AE93A6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2280" y="533160"/>
            <a:ext cx="7245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4000" spc="-1" strike="noStrike">
                <a:solidFill>
                  <a:srgbClr val="cc0000"/>
                </a:solidFill>
                <a:latin typeface="Arial"/>
              </a:rPr>
              <a:t>Web </a:t>
            </a:r>
            <a:r>
              <a:rPr b="1" lang="lt-LT" sz="4000" spc="-1" strike="noStrike">
                <a:solidFill>
                  <a:srgbClr val="cc0000"/>
                </a:solidFill>
                <a:latin typeface="Arial"/>
              </a:rPr>
              <a:t>reikalavimai sauga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2120" y="144792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Didėjantis komercinis bei profesinis panaudojimas kelia griežtesnius saugos reikalavimus web paslauga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000" spc="-1" strike="noStrike">
                <a:solidFill>
                  <a:srgbClr val="808080"/>
                </a:solidFill>
                <a:latin typeface="Arial"/>
              </a:rPr>
              <a:t>Iškyla poreikis apriboti priėjimą prie web puslapių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000" spc="-1" strike="noStrike">
                <a:solidFill>
                  <a:srgbClr val="808080"/>
                </a:solidFill>
                <a:latin typeface="Arial"/>
              </a:rPr>
              <a:t>Reikalavimas </a:t>
            </a:r>
            <a:r>
              <a:rPr b="1" lang="de-DE" sz="2000" spc="-1" strike="noStrike">
                <a:solidFill>
                  <a:srgbClr val="808080"/>
                </a:solidFill>
                <a:latin typeface="Arial"/>
              </a:rPr>
              <a:t>autenti</a:t>
            </a:r>
            <a:r>
              <a:rPr b="1" lang="lt-LT" sz="2000" spc="-1" strike="noStrike">
                <a:solidFill>
                  <a:srgbClr val="808080"/>
                </a:solidFill>
                <a:latin typeface="Arial"/>
              </a:rPr>
              <a:t>fikuoti serverį iš kliento pusės bei klientą iš serverio pusė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000" spc="-1" strike="noStrike">
                <a:solidFill>
                  <a:srgbClr val="808080"/>
                </a:solidFill>
                <a:latin typeface="Arial"/>
              </a:rPr>
              <a:t>Iškyla poreikis galėjimo patvirtinti šaltinį, vientisumą web puslapių, jų nepaneigiamumo (</a:t>
            </a:r>
            <a:r>
              <a:rPr b="1" lang="de-DE" sz="2000" spc="-1" strike="noStrike">
                <a:solidFill>
                  <a:srgbClr val="808080"/>
                </a:solidFill>
                <a:latin typeface="Arial"/>
              </a:rPr>
              <a:t>non-repudiation</a:t>
            </a:r>
            <a:r>
              <a:rPr b="1" lang="lt-LT" sz="2000" spc="-1" strike="noStrike">
                <a:solidFill>
                  <a:srgbClr val="808080"/>
                </a:solidFill>
                <a:latin typeface="Arial"/>
              </a:rPr>
              <a:t>) tiksl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000" spc="-1" strike="noStrike">
                <a:solidFill>
                  <a:srgbClr val="808080"/>
                </a:solidFill>
                <a:latin typeface="Arial"/>
              </a:rPr>
              <a:t>Iškyla poreikis turėti konfidencialius web persiuntim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Visa tai sukelia daug  saugos problemų, kurios sprendžiamos skirtingame lygy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1235-94BF-4823-9F3C-A3F5A7E904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TT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S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TTP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ykdoma naudoj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S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audojama saugiem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ersiuntim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S server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s paprastai sukas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443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or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Įtraukia serverio patikrinimą pagal sertifikat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naudoja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a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zuotą patikimą 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tif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ų šaltin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15E5-8634-4363-8A68-E181C2E082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gū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to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au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pl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cini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to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 įtraukia šifravimą kaip aplikacinio lygio protokolo sudedamąją dalį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Įtraukta šifravim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 yr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o dalim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siradus stipresniems šifravimo įrankiams reikia keisti protokol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CE48-9A4E-41CE-8542-F196117C478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2120" y="456840"/>
            <a:ext cx="73850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4000" spc="-1" strike="noStrike">
                <a:solidFill>
                  <a:srgbClr val="cf0e30"/>
                </a:solidFill>
                <a:latin typeface="Arial"/>
              </a:rPr>
              <a:t>S</a:t>
            </a:r>
            <a:r>
              <a:rPr b="1" lang="lt-LT" sz="4000" spc="-1" strike="noStrike">
                <a:solidFill>
                  <a:srgbClr val="cf0e30"/>
                </a:solidFill>
                <a:latin typeface="Arial"/>
              </a:rPr>
              <a:t>augūs transporto kanalai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1960" y="1980720"/>
            <a:ext cx="7034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Jie realizuojami naudojant 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ecure Socket Layer (SSL)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, pasiūlytą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 Netscape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Užtikrina 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autenti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fikaciją tarp k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lient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o ir 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erver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io naudojant tiek 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metri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nį tiek 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as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metri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nį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viešo rakto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šifravimą ir skaitmeninius paraš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Užtikrina konfidencialum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Yra nepriklausomi nuo jokio 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apli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in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io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 proto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ol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352A-AE2E-43A9-A1C3-9B7FCA1957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entifik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utentifikavimui keliamas uždavinys – įsitikinti, kad esybė tikrai yra tuo, kuo prisista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utentifikuojami gali būti tiek klientai, tiek serveria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utentifikavimo procesas yra nusakomas autentifikavimo protokola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BECE-C516-486A-B9BB-70B760C482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84240" y="624852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35320" y="6248520"/>
            <a:ext cx="267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1760" y="457200"/>
            <a:ext cx="3089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4300" spc="-1" strike="noStrike">
                <a:solidFill>
                  <a:srgbClr val="bc3700"/>
                </a:solidFill>
                <a:latin typeface="Arial"/>
              </a:rPr>
              <a:t>SS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990720"/>
            <a:ext cx="8001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84200" indent="-48420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SL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rotokolas naudojas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ankų paspaudim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procedūra, kurios metu tiek klientas, tiek serveris tarpusavyje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utentifikuojas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ir pasiekia susitarimo dėl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akt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48420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lientui susijungus su serveriu, serveris pasiunčia sav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ieš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raktą, be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ertifikat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klientui. Klientas patikrina sertifikatą naudodamasis patikimų sertifikatų saraš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48420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o to klient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generuoj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imetrinį raktą, kurį siunčia serveriui, užšifruotą serverio viešu raktu. Šis raktas panaudojamas kaip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master rakt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ekančių duomenų konfidencialumui užtikrin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48420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ebūtinai, tačiau ir klientas gali būti serveri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utentifikuoja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 tam ir klientas turi turėti raktų porą ir sertifikat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74BE-5F78-4711-AC28-FE12487DCB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6500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4700" spc="-1" strike="noStrike">
                <a:solidFill>
                  <a:srgbClr val="bc3700"/>
                </a:solidFill>
                <a:latin typeface="Arial"/>
              </a:rPr>
              <a:t>SS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SL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eduoda jokios autentifikacijos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web d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en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m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.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yra tiesiog saugus transpoto kana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e Sockets Layer (SSL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–tai naujai įvedamas  lygis, kuris užtikrina saugų kanalą per TCP ryš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L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yra transporto lygio saugos standartas, pagrįstas SSL.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ansport Layer Security IETF standard based on SS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4113-6B28-4BFF-9EA1-47A9374DE6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S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334120" y="1676520"/>
            <a:ext cx="2971800" cy="2743200"/>
            <a:chOff x="5334120" y="1676520"/>
            <a:chExt cx="2971800" cy="2743200"/>
          </a:xfrm>
        </p:grpSpPr>
        <p:sp>
          <p:nvSpPr>
            <p:cNvPr id="162" name=""/>
            <p:cNvSpPr/>
            <p:nvPr/>
          </p:nvSpPr>
          <p:spPr>
            <a:xfrm>
              <a:off x="5334120" y="1676520"/>
              <a:ext cx="2971800" cy="6858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34120" y="2362320"/>
              <a:ext cx="2971800" cy="685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SS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334120" y="3048120"/>
              <a:ext cx="2971800" cy="685800"/>
            </a:xfrm>
            <a:prstGeom prst="rect">
              <a:avLst/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TC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34120" y="3733920"/>
              <a:ext cx="2971800" cy="685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838080" y="1676520"/>
            <a:ext cx="2971800" cy="2743200"/>
            <a:chOff x="838080" y="1676520"/>
            <a:chExt cx="2971800" cy="2743200"/>
          </a:xfrm>
        </p:grpSpPr>
        <p:sp>
          <p:nvSpPr>
            <p:cNvPr id="167" name=""/>
            <p:cNvSpPr/>
            <p:nvPr/>
          </p:nvSpPr>
          <p:spPr>
            <a:xfrm>
              <a:off x="838080" y="1676520"/>
              <a:ext cx="2971800" cy="6858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8080" y="2362320"/>
              <a:ext cx="2971800" cy="685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SS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8080" y="3048120"/>
              <a:ext cx="2971800" cy="685800"/>
            </a:xfrm>
            <a:prstGeom prst="rect">
              <a:avLst/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TC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38080" y="3733920"/>
              <a:ext cx="2971800" cy="685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809880" y="2057400"/>
            <a:ext cx="1524240" cy="0"/>
          </a:xfrm>
          <a:prstGeom prst="line">
            <a:avLst/>
          </a:prstGeom>
          <a:ln w="57240">
            <a:solidFill>
              <a:srgbClr val="00cc99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9880" y="2666880"/>
            <a:ext cx="1524240" cy="0"/>
          </a:xfrm>
          <a:prstGeom prst="line">
            <a:avLst/>
          </a:prstGeom>
          <a:ln w="57240">
            <a:solidFill>
              <a:srgbClr val="00ff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9880" y="3352680"/>
            <a:ext cx="1524240" cy="0"/>
          </a:xfrm>
          <a:prstGeom prst="line">
            <a:avLst/>
          </a:prstGeom>
          <a:ln w="57240">
            <a:solidFill>
              <a:srgbClr val="cc66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9880" y="4038480"/>
            <a:ext cx="1524240" cy="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68360" y="4429080"/>
            <a:ext cx="4511880" cy="1057320"/>
          </a:xfrm>
          <a:custGeom>
            <a:avLst/>
            <a:gdLst/>
            <a:ahLst/>
            <a:rect l="l" t="t" r="r" b="b"/>
            <a:pathLst>
              <a:path w="2842" h="666">
                <a:moveTo>
                  <a:pt x="7" y="23"/>
                </a:moveTo>
                <a:lnTo>
                  <a:pt x="0" y="666"/>
                </a:lnTo>
                <a:lnTo>
                  <a:pt x="2842" y="666"/>
                </a:lnTo>
                <a:lnTo>
                  <a:pt x="2842" y="0"/>
                </a:lnTo>
              </a:path>
            </a:pathLst>
          </a:custGeom>
          <a:noFill/>
          <a:ln w="57240">
            <a:solidFill>
              <a:srgbClr val="000000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35E1-B729-47DE-98AA-A1B4B4ED3F2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SL/TLS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 privalu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Yra nepriklausomas nuo aplikacijų lyg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Įtraukia derybas, kurių metu yra susitariama dėl bendrų  šifravimo metodų, kurie bus naudojami perdavimuo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Leidžia lengvai įjungti naujus metod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2423-59AF-4E96-B279-7E4877BEFE9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 Sockets Layer (SSL) protoco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inaliai sukurtas Netscapui , SSL buvo visuotinai priimtas  World Wide Web autentifikacijai ir šifravimui komunikacijų, vykstančių tarp klientų ir serve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905120" y="3733920"/>
            <a:ext cx="4952880" cy="24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F8D0-3ADA-4917-8CD4-1A8EBE06CCF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SL funkcij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serverio autentifikacij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idžia vartotojui patvirtinti serverio identiškumą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kliento autentifikacija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idžia serveriui įsitikinti vartotojo identiškum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fruotas SSL ryšys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a informa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unčiama tarp kliento ir serveri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yr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šifruojama siunčiančios programinės įrangos ir dešifruojama priimančios programinės įrangos, tuo užtikrinant aukštą konfidencialumo lyg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63C8-5711-4FE4-86B9-A288ED76816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S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protokolą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dar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 sub-protokola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įrašo (record) protokol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rankų-paspaudimo protokol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rankų-paspaudimo protokolas įtraukia SSL įrašo (record) protokolą pasikeitimui eile pranešimų tarp SSL-palaikančio serverio ir SSL palaikančio kliento, kai jie pirmą kartą įkuria SSL ryš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įrašo (record) protokolas nusako formatą, kuris naudojamas duomenų perdavimui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5D33-B216-4CB2-AF2E-2EC5795A64B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rankų paspaudim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sesijos visad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asideda apsikeitimu pranešim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i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skirtas sekančių veiksmų palengvinimui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fiku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lientu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idžia klientui ir serveriu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irinkti šifravim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goritmus ar šifrus, kuriuos abu palaiky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privalomai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fiku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ient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rveriui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audoti viešų raktų šifravimo techniką generavimui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drai naudojamų paslapči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hared secre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kurti šifruotą SSL ryš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4DA2-C8B0-4213-9DB8-42CC8E69F11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rankų paspaudi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protokolas naudoja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šrų šifravi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naudojama ir viešo-rakto ir simetrinis šifravimas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ientai ir serveriai gali palaikyti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rtingus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frų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inkini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rankų paspaudimo protokolas apsprendžia, kaip serveris ir klientas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as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iuos šifravimo rinkinius jie naudos vienas kit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fikacij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tifika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davimui, be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ijos rak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steigimu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8643-2402-4216-8F39-DC2F41912EA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Naudojami šifravimo algorit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imetrinis šifravimo algoritmas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A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kaitmeninio paraš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goritmas, dalis skaitmeninio autentifikavim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dar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A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ktų pasikeitimo algorit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5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ssage Digest algoritm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C2 and RC4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ravimo šifra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audojam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SA Data Securit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A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iešo rak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goritmas skirtas šifravimui ir autentifikacija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A key exchange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sikeitimo rakt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gorit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s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-1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h Algorit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PJACK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imetrinis algoritma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25DC-C978-4994-92DC-5CFB88308D3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rijų-pusių rankų paspaud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entifikavimo protokol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13560" y="1260360"/>
            <a:ext cx="23781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CHK, SHK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yra raktai, kurie žinomi abiem pusė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89880" y="2860560"/>
            <a:ext cx="2454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Gavus šį pranešimą kliento identiškumas nėra ži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257800" y="3276720"/>
            <a:ext cx="1447920" cy="38088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3241800"/>
            <a:ext cx="2057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Šiame taške klientas žino serverio identiškumą, nes jis iššifravo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4191120"/>
            <a:ext cx="914400" cy="7596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89880" y="4765680"/>
            <a:ext cx="2454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Šiame taške serveris žino kliento identiškumą, nes jis iššifravo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5714640" y="4876560"/>
            <a:ext cx="1143000" cy="22860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03680" y="5908680"/>
            <a:ext cx="344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sikeičiama naujais sesijos rakt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4038480" y="5257440"/>
            <a:ext cx="533520" cy="76212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79640" y="2971800"/>
            <a:ext cx="649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Myriad Roman"/>
              </a:rPr>
              <a:t>Clie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79840" y="2971800"/>
            <a:ext cx="724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Myriad Roman"/>
              </a:rPr>
              <a:t>Serv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3200400"/>
            <a:ext cx="1800" cy="2664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54520" y="3220920"/>
            <a:ext cx="1800" cy="2662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62240" y="3365640"/>
            <a:ext cx="2370240" cy="5364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271680" y="3936960"/>
            <a:ext cx="2376720" cy="444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20886600">
            <a:off x="3503880" y="5029200"/>
            <a:ext cx="941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E(SK, SH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62240" y="4411800"/>
            <a:ext cx="2376720" cy="522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13400" y="4902120"/>
            <a:ext cx="141120" cy="57240"/>
          </a:xfrm>
          <a:custGeom>
            <a:avLst/>
            <a:gdLst/>
            <a:ahLst/>
            <a:rect l="l" t="t" r="r" b="b"/>
            <a:pathLst>
              <a:path w="108" h="52">
                <a:moveTo>
                  <a:pt x="0" y="52"/>
                </a:moveTo>
                <a:lnTo>
                  <a:pt x="108" y="52"/>
                </a:lnTo>
                <a:lnTo>
                  <a:pt x="14" y="0"/>
                </a:lnTo>
                <a:lnTo>
                  <a:pt x="0" y="5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271680" y="4964040"/>
            <a:ext cx="2370240" cy="449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56120" y="5383080"/>
            <a:ext cx="141120" cy="61920"/>
          </a:xfrm>
          <a:custGeom>
            <a:avLst/>
            <a:gdLst/>
            <a:ahLst/>
            <a:rect l="l" t="t" r="r" b="b"/>
            <a:pathLst>
              <a:path w="108" h="56">
                <a:moveTo>
                  <a:pt x="94" y="0"/>
                </a:moveTo>
                <a:lnTo>
                  <a:pt x="0" y="51"/>
                </a:lnTo>
                <a:lnTo>
                  <a:pt x="108" y="56"/>
                </a:lnTo>
                <a:lnTo>
                  <a:pt x="94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56120" y="4349880"/>
            <a:ext cx="133200" cy="61920"/>
          </a:xfrm>
          <a:custGeom>
            <a:avLst/>
            <a:gdLst/>
            <a:ahLst/>
            <a:rect l="l" t="t" r="r" b="b"/>
            <a:pathLst>
              <a:path w="103" h="56">
                <a:moveTo>
                  <a:pt x="94" y="0"/>
                </a:moveTo>
                <a:lnTo>
                  <a:pt x="0" y="52"/>
                </a:lnTo>
                <a:lnTo>
                  <a:pt x="103" y="56"/>
                </a:lnTo>
                <a:lnTo>
                  <a:pt x="94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08720" y="3875040"/>
            <a:ext cx="139680" cy="57240"/>
          </a:xfrm>
          <a:custGeom>
            <a:avLst/>
            <a:gdLst/>
            <a:ahLst/>
            <a:rect l="l" t="t" r="r" b="b"/>
            <a:pathLst>
              <a:path w="107" h="52">
                <a:moveTo>
                  <a:pt x="0" y="52"/>
                </a:moveTo>
                <a:lnTo>
                  <a:pt x="107" y="52"/>
                </a:lnTo>
                <a:lnTo>
                  <a:pt x="18" y="0"/>
                </a:lnTo>
                <a:lnTo>
                  <a:pt x="0" y="5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20993400">
            <a:off x="3200400" y="3962160"/>
            <a:ext cx="2106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E(x+1, SHK), E(y,SH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739800">
            <a:off x="3733560" y="3428640"/>
            <a:ext cx="2106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ClientID, E(x,CH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739800">
            <a:off x="3885840" y="4571640"/>
            <a:ext cx="2106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E(y+1,CH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E801-4EF2-494C-9DC2-221F04B56F96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tų pasikeitimo algoritmai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EA ir RS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Jie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usako k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ip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rveris bei klientas nustato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etrinius raktu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iuos jie abu naudos laike SSL sesijo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2.0 ir SSL 3.0 protokolai palaiko persidengiančius šifrų rinkinius. Administratoriai gali priimti ar atšaukti bet kurį iš palaikomų šifrų rinkinių klientuose ar serveryj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yr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dentifikuoj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m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ipriausi gali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šifrų rinkin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iuos jie turi bendrus ir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jie yra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mi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SL sesija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8F61-A7D4-416D-8F52-2D7C595F540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SSL rankų paspaudimo žingsniai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Klien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iunčia serveriui informaciją apie sa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liento SSL versija, naudojami šifrai, atsitiktinai sugeneruotus duomeni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unčia klientui serveri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nformaciją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erverio SSL versija, šifrai, sertifikatas, atsitiktinai sugeneruotus duomenis ir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Klien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bando autentifikuoti serverį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lientas pagal serverio sertifikatą bando autentifikuoti serverį, jei nepavyksta – sesija nesukuri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Klien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kuri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“premaster secret”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užšifruoja tai su serverio viešu raktu ir pasiunčia serveri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remaster secret” sukuriamas naudojantis visais sugeneruotais duomenim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7610-42EF-4772-90DE-2EE31C986DA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5.Jei serveris užprašė kliento autentifikavimo (tai nebūtinas žingsnis), tai </a:t>
            </a:r>
            <a:r>
              <a:rPr b="1" i="1" lang="lt-LT" sz="3200" spc="-1" strike="noStrike">
                <a:solidFill>
                  <a:srgbClr val="000000"/>
                </a:solidFill>
                <a:latin typeface="Times New Roman"/>
              </a:rPr>
              <a:t>klient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siunčia pasirašytus unikalius šiam rankų paspaudimui duomenis, žinomus abiem pusėm ir savo sertifikatą serveriui kartu su šifruotais “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master secret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6.Server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, jei reikia – autentifikuoja klientą, su savo slaptu raktu dešifruoja “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master secret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r atlikdamas eilę žingsnių (juos atlieka ir klientas) sugeneruoja “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master secre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00CC-D4AA-4078-8C91-EA112E7CB1C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Abu – tiek klientas, tiek server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naudoja “master secret” sesijos raktų generavimui. T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imetrini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rakt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Klient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nformuoja serverį, kad tolimesni kliento pranešimai bus šifruojami su sesijos raktu. Taip pat pasiunčiamas atskiras šifruotas pranešimas indikuojantis,  kad klientas baigė rankų paspaudi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ver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sako tuo pači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rankų paspaudimas yra baigtas, prasideda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SL sesi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ja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ek klientas, tiek serveris naudoja sesijos raktus siunčiamos informacijos  šifravimui-iššifravim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36E3-FC27-4B66-8477-A2A78F4D0F5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entifik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liento bei serveri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fi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sijusi su tam tikrų duomen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fravimu naudojant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ieną iš raktų: privatų-slaptą ir dešifravimu kitu raktu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erverio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tenti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fikacijo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atvej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lientas šifruoja “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master secre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 su serverio viešu raktu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serveris nežino slapto rakto, jis negali iššifruoti “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master secre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 ir sugeneruoti simetrinių raktų, reikalingų sesij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liento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t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i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fikacij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en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fruoj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sitiktinius duomenis su kliento privačiu raktu, tai yra jis sukuria skaitmeninį parašą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Viešas raktas kliento sertifikate gali patvirtinti paraš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1FEF-0A23-4A0C-80F9-5724FDAFB8F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lien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fikuoja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erverio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tifi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153280" cy="495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183F-1EC8-426A-A608-3694FB03E48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aip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tscape server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fikuoja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ent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tifi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001000" cy="68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9B73-573B-40B2-89C8-551EB56DB92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-in-the-Middle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ak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en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n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pl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uri patikrinti serverio DN 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ain nam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urodo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rver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tif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 realiu DN to serverio su kuriuo komunikuojama. Tai leidžia išvengti “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-in the middl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a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os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man in the middle"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kenkėjišk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gra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, kuri peri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omunikacijas tarp kliento ir serverio, ji perima teisėtus raktus vykdant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ankų paspaudimą, įstato jų vieton sav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r sukelia įvaizdį klientui, kad tai serveris, o serveriui, kad tai klien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C347-8234-47AA-A8C6-3ADF9AF7A9A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Viešo rakto perd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ip gali Bobas patikimai perduoti viešą raktą?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en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fikacini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olas gali būti tok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i, I'm Bob, bobs-public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e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ce, This Is b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digest[Alice, This Is Bob] } bobs-private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gal šitokį protokolą bet kas gali būti Bob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E2FC-56D2-463C-953D-98B32CDAAA5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ertifikatų panaudoj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, I'm Bob, bobs-certif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e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ce, This Is b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digest[Alice, This Is Bob] } bobs-private-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9917-39B1-4131-BB27-4DC79FE1E3C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9187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rijų-pusių rankų paspaud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Yra laikoma, kad abi pusės žino šifravimo raktu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K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H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Jei klientinė pusė nežino raktų – reikia tam tikro būdo, kuris garantuotų pasikeitimo raktais saug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46C0-8736-4EAB-A6E2-B35A0F9E29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ta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&gt;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, I'm Bob, bobs-certif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e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&gt;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4194-EAB8-4F8D-9548-5032871468F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asikeitimas slapta inform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, I'm Bob, bobs-certif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e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ce, This Is b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digest[Alice, This Is Bob] } bobs-private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 bob, here is a secret {secret} bobs-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ome message}secret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F753-68A0-43B1-A415-BD6816B592B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ta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&gt;B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, I'm Bob, bobs-certif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&gt;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i, I'm Bob, bobs-certif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e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&gt;B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e 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ice, This Is b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digest[Alice, This Is Bob] } bobs-private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&gt;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ce, This Is b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digest[Alice, This Is Bob] } bobs-private-ke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2F85-25CE-4A20-8C22-7E796389059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ta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 bob, here is a secret {secret} bobs-public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&gt;B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k bob, here is a secret {secret} bobs-public-key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ome message}secret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&gt;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rble[ {some message}secret-key 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A2B7-AF91-406D-8E8E-EA0022FB8E0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 authentication code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, I'm Bob, bobs-certif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e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ce, This Is b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digest[Alice, This Is Bob] } bobs-private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k bob, here is a secret {secret} bobs-public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ome message,MAC}secret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AE8D-C6F0-4C87-9BA2-6A59B30C279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SH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-Secure Shell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SH – t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tandar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naudoja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augia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nutolusiam prisijungimui per nesaugius tinklu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SH užtikrin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šifruot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erminalin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esiją su stipri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utentifika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tiek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lien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tiek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erveri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SH naudoja viešo-rakto šifravimą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SH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šifruoja visus perduodam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duomen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: slaptažodžius, failus, koman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8F59-1E4F-410D-BB3F-E24DE26508E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Yra dvi Secure Shell versijos SSH1 ir SSH2, kuri yra patobulinta saugos požiūriu. Jos nėra tarpusavyje suderinamos. SSH1 naudoti nerekomenduo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SH buvo sukurtas dviejų pagrindinių problemų išsprendimu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augaus nutolusio terminalinio prisijungim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augaus failų perdavi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SH taip pat gal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uneliu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bet kokią TCP sesij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šiuo šifruotu SSH kanalu.  Tuneliavimas leidžia apsaugoti kitų aplikacijų komunikavimą, nekeičiant pačių aplikacij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4C85-7D9D-4D9E-872D-A971DA65A6C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SSH šifravimas, autentifikaci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SH naudoja stipriausius šifravimo algoritmus: 3DES, CAST-128, Twofish, A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(DES algoritmas palaikomas, tačiau skaitomas nesaugi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SH2 yra kliento-serverio protokolas ir abu jie yra autentifikuojam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SH2 daro negalimu slaptažodžių perėmimą, todėl  galima saugi kliento autentifikacija, paremta slaptažodžiais, o pagal reikalą SSH2 gali įtraukti ir viešo-rakto autentifikaciją.(PKI ir sertifikata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58AA-E66F-4BCD-B3C4-107E5550F2F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erverio autentifik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Man-in-the-middle” ataka. Apsaugai nuo tokio tipo atakų, serveris taip pat turi būti autentifikuoja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erveris turi viešą bei privatų rak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utentifikacija paremta DSA arba RSA algoritm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utentifikuojamas skaitmeninis paraš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Jei nepalaikomi sertifikatai, tai klientas ieško viešo rakto patikimų serverių duomenų bazėj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1E59-D14A-442D-9B61-E10589D37B7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SSH sprendžiamos saugumo proble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akeičia nesaugų “TELNE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P paketų klastojimas (adreso pakeitim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NS paketų klastojim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inklo klausym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uomenų klastojimas (įterpiant valdymo informaciją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X autentifikavimo klausym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laidinantys jungimaisi prie X11 serve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F09F-E4DF-47FE-ACB2-8585BD69B12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1900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rbe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atikimas šaltin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Kerber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535040"/>
            <a:ext cx="8534520" cy="509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41800" y="17575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7560" y="175752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1800" y="2112840"/>
            <a:ext cx="1800" cy="429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061480" y="173520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45360" y="2090880"/>
            <a:ext cx="1800" cy="4292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53040" y="2112840"/>
            <a:ext cx="1440" cy="429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81480" y="4203720"/>
            <a:ext cx="3835440" cy="888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94800" y="5003640"/>
            <a:ext cx="222120" cy="88920"/>
          </a:xfrm>
          <a:custGeom>
            <a:avLst/>
            <a:gdLst/>
            <a:ahLst/>
            <a:rect l="l" t="t" r="r" b="b"/>
            <a:pathLst>
              <a:path w="140" h="56">
                <a:moveTo>
                  <a:pt x="18" y="0"/>
                </a:moveTo>
                <a:lnTo>
                  <a:pt x="140" y="56"/>
                </a:lnTo>
                <a:lnTo>
                  <a:pt x="0" y="5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800" y="3225960"/>
            <a:ext cx="3837240" cy="888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03560" y="4025880"/>
            <a:ext cx="222480" cy="88920"/>
          </a:xfrm>
          <a:custGeom>
            <a:avLst/>
            <a:gdLst/>
            <a:ahLst/>
            <a:rect l="l" t="t" r="r" b="b"/>
            <a:pathLst>
              <a:path w="140" h="56">
                <a:moveTo>
                  <a:pt x="17" y="0"/>
                </a:moveTo>
                <a:lnTo>
                  <a:pt x="140" y="56"/>
                </a:lnTo>
                <a:lnTo>
                  <a:pt x="0" y="5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88800" y="2313000"/>
            <a:ext cx="3864240" cy="890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800" y="3114720"/>
            <a:ext cx="222480" cy="88920"/>
          </a:xfrm>
          <a:custGeom>
            <a:avLst/>
            <a:gdLst/>
            <a:ahLst/>
            <a:rect l="l" t="t" r="r" b="b"/>
            <a:pathLst>
              <a:path w="140" h="56">
                <a:moveTo>
                  <a:pt x="140" y="42"/>
                </a:moveTo>
                <a:lnTo>
                  <a:pt x="0" y="56"/>
                </a:lnTo>
                <a:lnTo>
                  <a:pt x="12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253040" y="5114880"/>
            <a:ext cx="3836880" cy="868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53040" y="5894280"/>
            <a:ext cx="222120" cy="88920"/>
          </a:xfrm>
          <a:custGeom>
            <a:avLst/>
            <a:gdLst/>
            <a:ahLst/>
            <a:rect l="l" t="t" r="r" b="b"/>
            <a:pathLst>
              <a:path w="140" h="56">
                <a:moveTo>
                  <a:pt x="140" y="56"/>
                </a:moveTo>
                <a:lnTo>
                  <a:pt x="0" y="56"/>
                </a:lnTo>
                <a:lnTo>
                  <a:pt x="12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817200">
            <a:off x="4497840" y="4209480"/>
            <a:ext cx="291600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((A,T),K), E((T,L,K,A),K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900000">
            <a:off x="1270440" y="3727800"/>
            <a:ext cx="166932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((T,L,K,A),K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20580000">
            <a:off x="5467680" y="5232240"/>
            <a:ext cx="985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(T+1,K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960000">
            <a:off x="1401480" y="3347280"/>
            <a:ext cx="173664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((T,L,K,B),K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20640000">
            <a:off x="2057040" y="2439720"/>
            <a:ext cx="482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, 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95680" y="1752480"/>
            <a:ext cx="3353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S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dalinasi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K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su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A,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tačiau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B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nežino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K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, A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nežino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K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175248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A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prašo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S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rakto komunikavimui 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su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2438280"/>
            <a:ext cx="380880" cy="22860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4724280"/>
            <a:ext cx="36576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S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atsako užkoduodamas sesijos raktą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K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ir “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timestamp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”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T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 ir galiojimo laikas 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A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negali iššifruoti antro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praneš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85800" y="3352680"/>
            <a:ext cx="685800" cy="137160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371600" y="4038120"/>
            <a:ext cx="685800" cy="2133720"/>
          </a:xfrm>
          <a:prstGeom prst="line">
            <a:avLst/>
          </a:prstGeom>
          <a:ln w="1908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048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A </a:t>
            </a:r>
            <a:r>
              <a:rPr b="0" lang="lt-LT" sz="2400" spc="-1" strike="noStrike">
                <a:solidFill>
                  <a:srgbClr val="808080"/>
                </a:solidFill>
                <a:latin typeface="Times New Roman"/>
              </a:rPr>
              <a:t>patvirtina, kad jis žino raktą 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3505320"/>
            <a:ext cx="76320" cy="533160"/>
          </a:xfrm>
          <a:prstGeom prst="line">
            <a:avLst/>
          </a:prstGeom>
          <a:ln w="1908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7120" y="38862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Persiunčia iš 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7086240" y="4267080"/>
            <a:ext cx="152280" cy="22860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05520" y="579132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B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patvirtina kad jis gali iššifruoti pranešimą iš 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6095520" y="5486400"/>
            <a:ext cx="228600" cy="38088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5C29-CC5B-491C-A5CB-1C1BD80DED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cf0e30"/>
                </a:solidFill>
                <a:latin typeface="Arial"/>
              </a:rPr>
              <a:t>IP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ai rinkinys standar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užtikrinančių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aug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riva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omunikavimą IP tinkluose. Šis protokolas palengvina tiesiogius IP susijungimus tarp jautrių hostų per nesaugius tinklus(VPN pagrinda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psaugo vartotojus, kurie nori saugių ryšių ir saugos sumetimais yra varžomi įprastinio nesaugaus ryšio Interne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fruoti paketai yr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okie kaip ir įpras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IP paketai, jie lengvai maršrutizuojami, nereikalauja pakeitimų tarptinkliniuose įrenginiuo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k galiniai komunikavimo taškai žino apie šifravi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cf0e30"/>
                </a:solidFill>
                <a:latin typeface="Arial"/>
              </a:rPr>
              <a:t>IP Security </a:t>
            </a:r>
            <a:r>
              <a:rPr b="1" lang="lt-LT" sz="3600" spc="-1" strike="noStrike">
                <a:solidFill>
                  <a:srgbClr val="cf0e30"/>
                </a:solidFill>
                <a:latin typeface="Arial"/>
              </a:rPr>
              <a:t>savybė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3200" spc="-1" strike="noStrike">
                <a:solidFill>
                  <a:srgbClr val="00279f"/>
                </a:solidFill>
                <a:latin typeface="Arial"/>
              </a:rPr>
              <a:t>Komunikacijų sauga remiasi šifravimais, o ne IP adresais, kurie gali būti pakeičiam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3200" spc="-1" strike="noStrike">
                <a:solidFill>
                  <a:srgbClr val="00279f"/>
                </a:solidFill>
                <a:latin typeface="Arial"/>
              </a:rPr>
              <a:t>Atskirtas </a:t>
            </a:r>
            <a:r>
              <a:rPr b="1" lang="de-DE" sz="3200" spc="-1" strike="noStrike">
                <a:solidFill>
                  <a:srgbClr val="00279f"/>
                </a:solidFill>
                <a:latin typeface="Arial"/>
              </a:rPr>
              <a:t>autenti</a:t>
            </a:r>
            <a:r>
              <a:rPr b="1" lang="lt-LT" sz="3200" spc="-1" strike="noStrike">
                <a:solidFill>
                  <a:srgbClr val="00279f"/>
                </a:solidFill>
                <a:latin typeface="Arial"/>
              </a:rPr>
              <a:t>fikavimas ir konfidencialumo tikrinimas, leidžia platesnį pritaikym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3200" spc="-1" strike="noStrike">
                <a:solidFill>
                  <a:srgbClr val="00279f"/>
                </a:solidFill>
                <a:latin typeface="Arial"/>
              </a:rPr>
              <a:t>Raktų valdymo protokolas atskirtas nuo IP security protoko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3200" spc="-1" strike="noStrike">
                <a:solidFill>
                  <a:srgbClr val="00279f"/>
                </a:solidFill>
                <a:latin typeface="Arial"/>
              </a:rPr>
              <a:t>Taikomas tiek</a:t>
            </a:r>
            <a:r>
              <a:rPr b="1" lang="de-DE" sz="3200" spc="-1" strike="noStrike">
                <a:solidFill>
                  <a:srgbClr val="00279f"/>
                </a:solidFill>
                <a:latin typeface="Arial"/>
              </a:rPr>
              <a:t> IPv4</a:t>
            </a:r>
            <a:r>
              <a:rPr b="1" lang="lt-LT" sz="3200" spc="-1" strike="noStrike">
                <a:solidFill>
                  <a:srgbClr val="00279f"/>
                </a:solidFill>
                <a:latin typeface="Arial"/>
              </a:rPr>
              <a:t>, tiek </a:t>
            </a:r>
            <a:r>
              <a:rPr b="1" lang="de-DE" sz="3200" spc="-1" strike="noStrike">
                <a:solidFill>
                  <a:srgbClr val="00279f"/>
                </a:solidFill>
                <a:latin typeface="Arial"/>
              </a:rPr>
              <a:t>IPv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PS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Pv4 neturi įjungto informacijos saugos mechanizmo – saugos funkcijas nusako IPSec standart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PSec protokolą suda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KE (Internet Key Exchange)protokola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H (Authentication Header)protokola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ESP (Encapsulation Security Payload) protokol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A269-4595-42E9-ADB8-DA5374AB105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KE protoko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Naudojamas ryšio sukūrimo pirmame etape, kai šalys susitaria dėl šifravimo metodų, raktų bei kitų duomenų, kuriuos naudos sukuriant apsaugotą ryšio seansą – </a:t>
            </a:r>
            <a:r>
              <a:rPr b="1" lang="lt-LT" sz="2600" spc="-1" strike="noStrike">
                <a:solidFill>
                  <a:srgbClr val="000000"/>
                </a:solidFill>
                <a:latin typeface="Times New Roman"/>
              </a:rPr>
              <a:t>sukuriant saugos asociaciją</a:t>
            </a: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IKE – tai kombinacija ISAKM bei Qakley protokol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ISAKM – nusako formatus paketams, kurie naudojami sukuriant ir valdant apsaugotus ryšiu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Qakley – pasikeitimo raktais protokola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IKE protokolas nepriklauso nuo šifravimo algoritmų, naudojamų autentifikacijai bei duomenų šifravimui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imes New Roman"/>
              </a:rPr>
              <a:t>IKE nusako apibendrintą saugaus informacijos pasikeitimo procedūr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3983-639A-41C9-A019-9165C7D8551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KE protoko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500" spc="-1" strike="noStrike">
                <a:solidFill>
                  <a:srgbClr val="000000"/>
                </a:solidFill>
                <a:latin typeface="Times New Roman"/>
              </a:rPr>
              <a:t>Visi apsaugoti ryšiai yra vienos krypties</a:t>
            </a:r>
            <a:r>
              <a:rPr b="0" lang="lt-LT" sz="2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Times New Roman"/>
              </a:rPr>
              <a:t>Apsaugoti ryšiai pasižymi šiom savybėm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Times New Roman"/>
              </a:rPr>
              <a:t>Šifravimo algoritmai, kurie reikalingi seanso metu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Times New Roman"/>
              </a:rPr>
              <a:t>Raktai, kuriais pasikeičiama seanso pradžioj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Times New Roman"/>
              </a:rPr>
              <a:t>Raktų keitimo dažni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Times New Roman"/>
              </a:rPr>
              <a:t>Saugaus ryšio “gyvavimo laikas”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Times New Roman"/>
              </a:rPr>
              <a:t>Ryšio iniciatoriaus adresa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Times New Roman"/>
              </a:rPr>
              <a:t>Saugos parametro indeksas (Security Parameter Index -SPI ) – tai saugaus ryšio unikalus identifikatorius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433E-D79D-4F1B-920F-0DB1DA6B316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KE protoko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KE gali sukurti apsaugotą ryšį – saugos asociaciją dviem režimais: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grindiniu bei agresyvi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grindinio režimo atveju IKE sukuria apsaugotą ryšio kanalą , kuris naudojamas derybo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nicijuojantis mazgas siunčia sarašą siūlomų ryšio parametrų, tokių kaip šifravimo bei hash f-jos skaičiavimo algoritmai, autentifikavimo metodai, reikalavimai įjungti AH bei ESP protokolus ir t.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o to šalys tikrina abipusę autentifikaciją naudodamos viešų raktų technologiją bei sertifikat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A253-8BAD-471D-8E3C-BEC231B6A5B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KE protoko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gresyva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režimo atveju reikia mažesnio skaičiaus pasikeitimų informacija, tačiau kiekviename pasikeitime naudojama daugiau duomenų. Sauga realizuojama ne taip kruopšči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o pradinio (pagrindinio ar agresyvaus ) režimo protokolas pereina prie greito režimo (quick mode), kurio metu nustatomi įtrauktų tarnybų parametrai bei generuojami sesijos raktai. Šio režimo metu paketai jau keliauja šifruoti. Sukuriami du saugos ryši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5219-85FE-4DE2-BBD8-2ECA4CFDBCF4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cf0e30"/>
                </a:solidFill>
                <a:latin typeface="Arial"/>
              </a:rPr>
              <a:t>S</a:t>
            </a:r>
            <a:r>
              <a:rPr b="1" lang="lt-LT" sz="3600" spc="-1" strike="noStrike">
                <a:solidFill>
                  <a:srgbClr val="cf0e30"/>
                </a:solidFill>
                <a:latin typeface="Arial"/>
              </a:rPr>
              <a:t>augos asociacijos</a:t>
            </a:r>
            <a:r>
              <a:rPr b="1" lang="de-DE" sz="3600" spc="-1" strike="noStrike">
                <a:solidFill>
                  <a:srgbClr val="cf0e3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3200" spc="-1" strike="noStrike">
                <a:solidFill>
                  <a:srgbClr val="00279f"/>
                </a:solidFill>
                <a:latin typeface="Arial"/>
              </a:rPr>
              <a:t>Jos sukuriamos veikiant raktų pasikeitimo protokolu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3200" spc="-1" strike="noStrike">
                <a:solidFill>
                  <a:srgbClr val="00279f"/>
                </a:solidFill>
                <a:latin typeface="Arial"/>
              </a:rPr>
              <a:t>Kombinacija saugos parametro indekso(</a:t>
            </a:r>
            <a:r>
              <a:rPr b="1" lang="de-DE" sz="3200" spc="-1" strike="noStrike">
                <a:solidFill>
                  <a:srgbClr val="00279f"/>
                </a:solidFill>
                <a:latin typeface="Arial"/>
              </a:rPr>
              <a:t>Security Parameter Index (SPI) </a:t>
            </a:r>
            <a:r>
              <a:rPr b="1" lang="lt-LT" sz="3200" spc="-1" strike="noStrike">
                <a:solidFill>
                  <a:srgbClr val="00279f"/>
                </a:solidFill>
                <a:latin typeface="Arial"/>
              </a:rPr>
              <a:t>) ir paskirties adreso vienareikšmiškai nusako atitinkamą saugos asociacij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cf0e30"/>
                </a:solidFill>
                <a:latin typeface="Arial"/>
              </a:rPr>
              <a:t>Saugos asociaci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augos asociacijos parametrai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Autenti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fikacinis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 algorit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mas ir moda, naudojama 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 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Šifravimo 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algorit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mas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, algoritm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o moda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, ini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cializacijos 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ve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k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tor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ius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, transform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acijos, naudojamos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 E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Raktas(raktai) ir raktų gyvavimo laikas, taikant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 ESP 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ir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 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Saugos asociacijos gyvavimo laik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Autenti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kacinis algoritmas, kuris naudojamas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 ESP (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jei naudojamas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Saugomų duomenų jautrumo lyg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ugos asociacijos yra vienos kryp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augos asociacij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iekviena saugos asociacija gali teikti arba šifravimą, arba vientisumo kontrolę, arba autentifikavimą arbaviską kartu – tai nusakoma atitinkamom opcijom, kuriant asociacijas. SA vienareikšmiškai apibūdinama SPI bei paskirties 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i sistema siunčia paketą, kuriam reikia IPSec apsaugos, ji peržiūri SA duomenų bazę ir pritaiko atitinkamą saugos servisą bei įjungia SPI į IPSec galvutę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vus tokį paketą, patikrinama DB ir pagal SPI procesas atkartojam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F061-E4A5-4A57-8DBF-2D52165B675A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9187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rbe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yra naudojamas kaip sesijos raktas šifruojant paga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lgoritm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psikeitimas raktu yra surištas su patikimu šaltin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B766-E20C-4E33-9C1B-7EC437668E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hentication Header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H – galvutės autentifikavimo protokolas. Jo pagrindinis tikslas – užtikrinti duomenų vientisum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is leidžia aptikti informacijos pakitimus paketo galvutėje ir autentifikuoti paketo siuntėją bei užtikrina persiuntimų vientisu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H galvutė įdedama tarp IP (IPv4) bei TCP /UDP galvučių. Galvutė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PI indeksas – unikaliai identifikacija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Eilės numeri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utentifikavimo duomenys – skaitmeninis paraš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AB8A-C291-4381-978D-E8401E4423F5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cf0e30"/>
                </a:solidFill>
                <a:latin typeface="Arial"/>
              </a:rPr>
              <a:t>Authentication Header (A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762120" y="1447920"/>
            <a:ext cx="4038480" cy="1980720"/>
            <a:chOff x="762120" y="1447920"/>
            <a:chExt cx="4038480" cy="1980720"/>
          </a:xfrm>
        </p:grpSpPr>
        <p:sp>
          <p:nvSpPr>
            <p:cNvPr id="252" name=""/>
            <p:cNvSpPr/>
            <p:nvPr/>
          </p:nvSpPr>
          <p:spPr>
            <a:xfrm>
              <a:off x="768240" y="1454400"/>
              <a:ext cx="4025880" cy="1974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62120" y="190620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2120" y="236484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1880" y="1522440"/>
              <a:ext cx="602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N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600200" y="1447920"/>
              <a:ext cx="0" cy="45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661040" y="1522440"/>
              <a:ext cx="805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90920" y="1447920"/>
              <a:ext cx="0" cy="45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81960" y="1981080"/>
              <a:ext cx="2993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ecurity Parameter Index (SPI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36640" y="2745720"/>
              <a:ext cx="1957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uthentication 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5029200" y="1279440"/>
            <a:ext cx="40132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SPI + destination address 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apibrėžia saugos asociaciją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 (algoritm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as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, 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raktas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, 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autentifikacinių duomenų struktūra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69960" y="3641760"/>
            <a:ext cx="80931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Taikomas raktu pagrįstas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 MD5 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tam tikriems IP galvutės lauk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Naudojamas slaptas raktas, kuriuo dalijasi galiniai komunikavimo tašk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3520" y="5562720"/>
            <a:ext cx="86104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Negalimumas paneigti yra garantuojamas, jei AH yra naudojamas kartu su asimetriniais algoritmais (skaitmeniniais parašai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Encapsulation Security Paylo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ESP protokolas- tai saugaus turinio uždarymo protoko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is užtikrin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utentifikavi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datagramo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vientisu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vykd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datagramos duomenų šifravi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tokolas dirba dviejuose režimuose: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ransportiniame bei tuneliavim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ransportinio režimo atveju šis protokolas apsaugo duomenis ir aukštesnio lygio protokolų (tokių kaip TCP) galvutes. Nerealizuojama IP galvutės apsau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2D18-08FF-4E72-A0A6-6D3067E64F31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Encapsulation Security Paylo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unelinis darbo rež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tarnauja ryšiui tarp dviejų vartų, kai tuo tarpu transporto režimas naudojamas ryšiui hostas-hostas arba hostas-vart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o režimo atveju visa IP datagrama talpinama į vidų ESP paketo, o jo galvutėje rašomi tik vartų adresa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krieji galutinių taškų adresai yra užšifruo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Užtikrinant didesnę kanalo saugą, abu protokolai taikomi kartu – tai garantuoja tiek autentifikaciją, tiek konfidencialumą, tiek perdavimų vientisum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5B10-64AC-4111-8304-A1145E144796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f0e30"/>
                </a:solidFill>
                <a:latin typeface="Arial"/>
              </a:rPr>
              <a:t>Encapsulating Security Payload (E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762120" y="2208240"/>
            <a:ext cx="7924680" cy="839880"/>
            <a:chOff x="762120" y="2208240"/>
            <a:chExt cx="7924680" cy="839880"/>
          </a:xfrm>
        </p:grpSpPr>
        <p:sp>
          <p:nvSpPr>
            <p:cNvPr id="270" name=""/>
            <p:cNvSpPr/>
            <p:nvPr/>
          </p:nvSpPr>
          <p:spPr>
            <a:xfrm>
              <a:off x="768240" y="2597040"/>
              <a:ext cx="791208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98560" y="2665440"/>
              <a:ext cx="1098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IP He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057400" y="25909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71600" y="2665440"/>
              <a:ext cx="1762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Other IP Head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14800" y="25909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51960" y="2665440"/>
              <a:ext cx="1312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ESP He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638680" y="25909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309000" y="2665440"/>
              <a:ext cx="1517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Encypted 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62120" y="22096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572000" y="22096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686800" y="22096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38080" y="23623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62520" y="23623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48320" y="23623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001000" y="23623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93840" y="2208240"/>
              <a:ext cx="669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l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27400" y="2208240"/>
              <a:ext cx="1099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Encryp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670680" y="1538280"/>
            <a:ext cx="6465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279f"/>
                </a:solidFill>
                <a:latin typeface="Arial"/>
              </a:rPr>
              <a:t>IP datagram with encrypted por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71040" y="3595680"/>
            <a:ext cx="231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279f"/>
                </a:solidFill>
                <a:latin typeface="Arial"/>
              </a:rPr>
              <a:t>ESP Head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762120" y="4349880"/>
            <a:ext cx="4724280" cy="1282680"/>
            <a:chOff x="762120" y="4349880"/>
            <a:chExt cx="4724280" cy="1282680"/>
          </a:xfrm>
        </p:grpSpPr>
        <p:sp>
          <p:nvSpPr>
            <p:cNvPr id="290" name=""/>
            <p:cNvSpPr/>
            <p:nvPr/>
          </p:nvSpPr>
          <p:spPr>
            <a:xfrm>
              <a:off x="768240" y="4349880"/>
              <a:ext cx="4711680" cy="128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62120" y="4876920"/>
              <a:ext cx="472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508760" y="4417920"/>
              <a:ext cx="2993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ecurity Parameter Index (SPI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129320" y="5103720"/>
              <a:ext cx="3704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Opaque transform data, variable leng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f0e30"/>
                </a:solidFill>
                <a:latin typeface="Arial"/>
              </a:rPr>
              <a:t>Encapsulating Security Payload (E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68880" y="1355760"/>
            <a:ext cx="5520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Must-implement for ESP is DES-C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762120" y="2286000"/>
            <a:ext cx="7407720" cy="2743200"/>
            <a:chOff x="762120" y="2286000"/>
            <a:chExt cx="7407720" cy="2743200"/>
          </a:xfrm>
        </p:grpSpPr>
        <p:sp>
          <p:nvSpPr>
            <p:cNvPr id="297" name=""/>
            <p:cNvSpPr/>
            <p:nvPr/>
          </p:nvSpPr>
          <p:spPr>
            <a:xfrm>
              <a:off x="762120" y="2286000"/>
              <a:ext cx="6159240" cy="2730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62120" y="2819520"/>
              <a:ext cx="617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2120" y="3657600"/>
              <a:ext cx="617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2120" y="4495680"/>
              <a:ext cx="617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194560" y="2360520"/>
              <a:ext cx="2993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ecurity Parameter Index (SPI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574360" y="3046320"/>
              <a:ext cx="2274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Initialization Vector (IV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956320" y="3884760"/>
              <a:ext cx="1404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ayload 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812960" y="4570560"/>
              <a:ext cx="930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add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947040" y="4570560"/>
              <a:ext cx="1222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ad Leng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18280" y="4570560"/>
              <a:ext cx="1427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ayload 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181480" y="44956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886200" y="44956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086600" y="28195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086600" y="502920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91520" y="28195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391520" y="42670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070400" y="3732120"/>
              <a:ext cx="1099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Encryp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95920" y="533520"/>
            <a:ext cx="73710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H and ESP Layering Op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681120" y="1927080"/>
            <a:ext cx="1089000" cy="378000"/>
            <a:chOff x="681120" y="1927080"/>
            <a:chExt cx="1089000" cy="378000"/>
          </a:xfrm>
        </p:grpSpPr>
        <p:sp>
          <p:nvSpPr>
            <p:cNvPr id="316" name=""/>
            <p:cNvSpPr/>
            <p:nvPr/>
          </p:nvSpPr>
          <p:spPr>
            <a:xfrm>
              <a:off x="681120" y="1927080"/>
              <a:ext cx="1089000" cy="378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33760" y="1953720"/>
              <a:ext cx="784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 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778040" y="1925640"/>
            <a:ext cx="938160" cy="379440"/>
          </a:xfrm>
          <a:prstGeom prst="rect">
            <a:avLst/>
          </a:prstGeom>
          <a:solidFill>
            <a:srgbClr val="ff500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021040" y="1959120"/>
            <a:ext cx="428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2700360" y="1927080"/>
            <a:ext cx="1865160" cy="378000"/>
            <a:chOff x="2700360" y="1927080"/>
            <a:chExt cx="1865160" cy="378000"/>
          </a:xfrm>
        </p:grpSpPr>
        <p:sp>
          <p:nvSpPr>
            <p:cNvPr id="321" name=""/>
            <p:cNvSpPr/>
            <p:nvPr/>
          </p:nvSpPr>
          <p:spPr>
            <a:xfrm>
              <a:off x="2700360" y="1927080"/>
              <a:ext cx="1865160" cy="378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932920" y="1953720"/>
              <a:ext cx="14785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PORT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681120" y="2557440"/>
            <a:ext cx="3920760" cy="387360"/>
            <a:chOff x="681120" y="2557440"/>
            <a:chExt cx="3920760" cy="387360"/>
          </a:xfrm>
        </p:grpSpPr>
        <p:grpSp>
          <p:nvGrpSpPr>
            <p:cNvPr id="324" name=""/>
            <p:cNvGrpSpPr/>
            <p:nvPr/>
          </p:nvGrpSpPr>
          <p:grpSpPr>
            <a:xfrm>
              <a:off x="681120" y="2560680"/>
              <a:ext cx="1089000" cy="379440"/>
              <a:chOff x="681120" y="2560680"/>
              <a:chExt cx="1089000" cy="379440"/>
            </a:xfrm>
          </p:grpSpPr>
          <p:sp>
            <p:nvSpPr>
              <p:cNvPr id="325" name=""/>
              <p:cNvSpPr/>
              <p:nvPr/>
            </p:nvSpPr>
            <p:spPr>
              <a:xfrm>
                <a:off x="681120" y="2560680"/>
                <a:ext cx="1089000" cy="3794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34120" y="2587680"/>
                <a:ext cx="7840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P HD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736000" y="2559240"/>
              <a:ext cx="1865880" cy="380880"/>
              <a:chOff x="2736000" y="2559240"/>
              <a:chExt cx="1865880" cy="380880"/>
            </a:xfrm>
          </p:grpSpPr>
          <p:sp>
            <p:nvSpPr>
              <p:cNvPr id="328" name=""/>
              <p:cNvSpPr/>
              <p:nvPr/>
            </p:nvSpPr>
            <p:spPr>
              <a:xfrm>
                <a:off x="2736000" y="2559240"/>
                <a:ext cx="1865880" cy="380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969640" y="2586240"/>
                <a:ext cx="14778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RANSPORT 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1787760" y="2557440"/>
              <a:ext cx="934920" cy="387360"/>
              <a:chOff x="1787760" y="2557440"/>
              <a:chExt cx="934920" cy="387360"/>
            </a:xfrm>
          </p:grpSpPr>
          <p:sp>
            <p:nvSpPr>
              <p:cNvPr id="331" name=""/>
              <p:cNvSpPr/>
              <p:nvPr/>
            </p:nvSpPr>
            <p:spPr>
              <a:xfrm>
                <a:off x="1787760" y="2557440"/>
                <a:ext cx="934920" cy="387360"/>
              </a:xfrm>
              <a:prstGeom prst="rect">
                <a:avLst/>
              </a:prstGeom>
              <a:solidFill>
                <a:srgbClr val="d93192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020680" y="2594160"/>
                <a:ext cx="5374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S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3" name=""/>
          <p:cNvGrpSpPr/>
          <p:nvPr/>
        </p:nvGrpSpPr>
        <p:grpSpPr>
          <a:xfrm>
            <a:off x="681120" y="3176640"/>
            <a:ext cx="4841280" cy="387360"/>
            <a:chOff x="681120" y="3176640"/>
            <a:chExt cx="4841280" cy="387360"/>
          </a:xfrm>
        </p:grpSpPr>
        <p:grpSp>
          <p:nvGrpSpPr>
            <p:cNvPr id="334" name=""/>
            <p:cNvGrpSpPr/>
            <p:nvPr/>
          </p:nvGrpSpPr>
          <p:grpSpPr>
            <a:xfrm>
              <a:off x="1785600" y="3176640"/>
              <a:ext cx="936720" cy="387360"/>
              <a:chOff x="1785600" y="3176640"/>
              <a:chExt cx="936720" cy="387360"/>
            </a:xfrm>
          </p:grpSpPr>
          <p:sp>
            <p:nvSpPr>
              <p:cNvPr id="335" name=""/>
              <p:cNvSpPr/>
              <p:nvPr/>
            </p:nvSpPr>
            <p:spPr>
              <a:xfrm>
                <a:off x="1785600" y="3176640"/>
                <a:ext cx="936720" cy="387360"/>
              </a:xfrm>
              <a:prstGeom prst="rect">
                <a:avLst/>
              </a:prstGeom>
              <a:solidFill>
                <a:srgbClr val="ff5008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002680" y="3211920"/>
                <a:ext cx="4276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681120" y="3176640"/>
              <a:ext cx="1088640" cy="387360"/>
              <a:chOff x="681120" y="3176640"/>
              <a:chExt cx="1088640" cy="387360"/>
            </a:xfrm>
          </p:grpSpPr>
          <p:sp>
            <p:nvSpPr>
              <p:cNvPr id="338" name=""/>
              <p:cNvSpPr/>
              <p:nvPr/>
            </p:nvSpPr>
            <p:spPr>
              <a:xfrm>
                <a:off x="681120" y="3176640"/>
                <a:ext cx="1088640" cy="387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834120" y="3205440"/>
                <a:ext cx="7840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P HD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3656520" y="3178440"/>
              <a:ext cx="1865880" cy="385560"/>
              <a:chOff x="3656520" y="3178440"/>
              <a:chExt cx="1865880" cy="385560"/>
            </a:xfrm>
          </p:grpSpPr>
          <p:sp>
            <p:nvSpPr>
              <p:cNvPr id="341" name=""/>
              <p:cNvSpPr/>
              <p:nvPr/>
            </p:nvSpPr>
            <p:spPr>
              <a:xfrm>
                <a:off x="3656520" y="3178440"/>
                <a:ext cx="1865880" cy="385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890160" y="3206880"/>
                <a:ext cx="14778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RANSPORT 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2708640" y="3176640"/>
              <a:ext cx="934920" cy="387360"/>
              <a:chOff x="2708640" y="3176640"/>
              <a:chExt cx="934920" cy="387360"/>
            </a:xfrm>
          </p:grpSpPr>
          <p:sp>
            <p:nvSpPr>
              <p:cNvPr id="344" name=""/>
              <p:cNvSpPr/>
              <p:nvPr/>
            </p:nvSpPr>
            <p:spPr>
              <a:xfrm>
                <a:off x="2708640" y="3176640"/>
                <a:ext cx="934920" cy="387360"/>
              </a:xfrm>
              <a:prstGeom prst="rect">
                <a:avLst/>
              </a:prstGeom>
              <a:solidFill>
                <a:srgbClr val="d93192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941560" y="3211920"/>
                <a:ext cx="5374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S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6" name=""/>
          <p:cNvGrpSpPr/>
          <p:nvPr/>
        </p:nvGrpSpPr>
        <p:grpSpPr>
          <a:xfrm>
            <a:off x="681120" y="4586400"/>
            <a:ext cx="5022360" cy="379440"/>
            <a:chOff x="681120" y="4586400"/>
            <a:chExt cx="5022360" cy="379440"/>
          </a:xfrm>
        </p:grpSpPr>
        <p:grpSp>
          <p:nvGrpSpPr>
            <p:cNvPr id="347" name=""/>
            <p:cNvGrpSpPr/>
            <p:nvPr/>
          </p:nvGrpSpPr>
          <p:grpSpPr>
            <a:xfrm>
              <a:off x="2741760" y="4586400"/>
              <a:ext cx="1089360" cy="379440"/>
              <a:chOff x="2741760" y="4586400"/>
              <a:chExt cx="1089360" cy="379440"/>
            </a:xfrm>
          </p:grpSpPr>
          <p:sp>
            <p:nvSpPr>
              <p:cNvPr id="348" name=""/>
              <p:cNvSpPr/>
              <p:nvPr/>
            </p:nvSpPr>
            <p:spPr>
              <a:xfrm>
                <a:off x="2741760" y="4586400"/>
                <a:ext cx="1089360" cy="3794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893680" y="4613040"/>
                <a:ext cx="7840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P HD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3837600" y="4586400"/>
              <a:ext cx="1865880" cy="379440"/>
              <a:chOff x="3837600" y="4586400"/>
              <a:chExt cx="1865880" cy="379440"/>
            </a:xfrm>
          </p:grpSpPr>
          <p:sp>
            <p:nvSpPr>
              <p:cNvPr id="351" name=""/>
              <p:cNvSpPr/>
              <p:nvPr/>
            </p:nvSpPr>
            <p:spPr>
              <a:xfrm>
                <a:off x="3837600" y="4586400"/>
                <a:ext cx="1865880" cy="3794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071240" y="4613040"/>
                <a:ext cx="14778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RANSPORT 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" name=""/>
            <p:cNvSpPr/>
            <p:nvPr/>
          </p:nvSpPr>
          <p:spPr>
            <a:xfrm>
              <a:off x="1776600" y="4587480"/>
              <a:ext cx="936720" cy="378000"/>
            </a:xfrm>
            <a:prstGeom prst="rect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3920" bIns="43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019240" y="4619160"/>
              <a:ext cx="5374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S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681120" y="4586400"/>
              <a:ext cx="1089000" cy="379440"/>
              <a:chOff x="681120" y="4586400"/>
              <a:chExt cx="1089000" cy="379440"/>
            </a:xfrm>
          </p:grpSpPr>
          <p:sp>
            <p:nvSpPr>
              <p:cNvPr id="356" name=""/>
              <p:cNvSpPr/>
              <p:nvPr/>
            </p:nvSpPr>
            <p:spPr>
              <a:xfrm>
                <a:off x="681120" y="4586400"/>
                <a:ext cx="1089000" cy="3794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834480" y="4613040"/>
                <a:ext cx="7840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P HD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8" name=""/>
          <p:cNvGrpSpPr/>
          <p:nvPr/>
        </p:nvGrpSpPr>
        <p:grpSpPr>
          <a:xfrm>
            <a:off x="2743200" y="6032520"/>
            <a:ext cx="1089000" cy="380880"/>
            <a:chOff x="2743200" y="6032520"/>
            <a:chExt cx="1089000" cy="380880"/>
          </a:xfrm>
        </p:grpSpPr>
        <p:sp>
          <p:nvSpPr>
            <p:cNvPr id="359" name=""/>
            <p:cNvSpPr/>
            <p:nvPr/>
          </p:nvSpPr>
          <p:spPr>
            <a:xfrm>
              <a:off x="2743200" y="6032520"/>
              <a:ext cx="108900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95840" y="6059520"/>
              <a:ext cx="784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 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4718160" y="6033960"/>
            <a:ext cx="1866960" cy="379440"/>
            <a:chOff x="4718160" y="6033960"/>
            <a:chExt cx="1866960" cy="379440"/>
          </a:xfrm>
        </p:grpSpPr>
        <p:sp>
          <p:nvSpPr>
            <p:cNvPr id="362" name=""/>
            <p:cNvSpPr/>
            <p:nvPr/>
          </p:nvSpPr>
          <p:spPr>
            <a:xfrm>
              <a:off x="4718160" y="6033960"/>
              <a:ext cx="1866960" cy="379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950720" y="6059520"/>
              <a:ext cx="14785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PORT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1776240" y="6032520"/>
            <a:ext cx="938520" cy="380880"/>
          </a:xfrm>
          <a:prstGeom prst="rect">
            <a:avLst/>
          </a:prstGeom>
          <a:solidFill>
            <a:srgbClr val="d9319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019240" y="6066000"/>
            <a:ext cx="538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681120" y="6033960"/>
            <a:ext cx="1089000" cy="379440"/>
            <a:chOff x="681120" y="6033960"/>
            <a:chExt cx="1089000" cy="379440"/>
          </a:xfrm>
        </p:grpSpPr>
        <p:sp>
          <p:nvSpPr>
            <p:cNvPr id="367" name=""/>
            <p:cNvSpPr/>
            <p:nvPr/>
          </p:nvSpPr>
          <p:spPr>
            <a:xfrm>
              <a:off x="681120" y="6033960"/>
              <a:ext cx="1089000" cy="379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33760" y="6059520"/>
              <a:ext cx="784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 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3822840" y="6033960"/>
            <a:ext cx="934920" cy="379440"/>
          </a:xfrm>
          <a:prstGeom prst="rect">
            <a:avLst/>
          </a:prstGeom>
          <a:solidFill>
            <a:srgbClr val="ff500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062240" y="6066000"/>
            <a:ext cx="428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2743200" y="5418000"/>
            <a:ext cx="1089000" cy="379440"/>
            <a:chOff x="2743200" y="5418000"/>
            <a:chExt cx="1089000" cy="379440"/>
          </a:xfrm>
        </p:grpSpPr>
        <p:sp>
          <p:nvSpPr>
            <p:cNvPr id="372" name=""/>
            <p:cNvSpPr/>
            <p:nvPr/>
          </p:nvSpPr>
          <p:spPr>
            <a:xfrm>
              <a:off x="2743200" y="5418000"/>
              <a:ext cx="1089000" cy="379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896200" y="5444640"/>
              <a:ext cx="784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 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4776840" y="5418000"/>
            <a:ext cx="1866960" cy="378000"/>
            <a:chOff x="4776840" y="5418000"/>
            <a:chExt cx="1866960" cy="378000"/>
          </a:xfrm>
        </p:grpSpPr>
        <p:sp>
          <p:nvSpPr>
            <p:cNvPr id="375" name=""/>
            <p:cNvSpPr/>
            <p:nvPr/>
          </p:nvSpPr>
          <p:spPr>
            <a:xfrm>
              <a:off x="4776840" y="5418000"/>
              <a:ext cx="1866960" cy="378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009760" y="5442840"/>
              <a:ext cx="14785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PORT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844800" y="5418000"/>
            <a:ext cx="936720" cy="379440"/>
            <a:chOff x="3844800" y="5418000"/>
            <a:chExt cx="936720" cy="379440"/>
          </a:xfrm>
        </p:grpSpPr>
        <p:sp>
          <p:nvSpPr>
            <p:cNvPr id="378" name=""/>
            <p:cNvSpPr/>
            <p:nvPr/>
          </p:nvSpPr>
          <p:spPr>
            <a:xfrm>
              <a:off x="3844800" y="5418000"/>
              <a:ext cx="936720" cy="379440"/>
            </a:xfrm>
            <a:prstGeom prst="rect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086360" y="5450760"/>
              <a:ext cx="5382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S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736560" y="5418000"/>
            <a:ext cx="1089000" cy="378000"/>
            <a:chOff x="736560" y="5418000"/>
            <a:chExt cx="1089000" cy="378000"/>
          </a:xfrm>
        </p:grpSpPr>
        <p:sp>
          <p:nvSpPr>
            <p:cNvPr id="381" name=""/>
            <p:cNvSpPr/>
            <p:nvPr/>
          </p:nvSpPr>
          <p:spPr>
            <a:xfrm>
              <a:off x="736560" y="5418000"/>
              <a:ext cx="1089000" cy="378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89200" y="5455800"/>
              <a:ext cx="784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 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1805040" y="5418000"/>
            <a:ext cx="936360" cy="378000"/>
            <a:chOff x="1805040" y="5418000"/>
            <a:chExt cx="936360" cy="378000"/>
          </a:xfrm>
        </p:grpSpPr>
        <p:sp>
          <p:nvSpPr>
            <p:cNvPr id="384" name=""/>
            <p:cNvSpPr/>
            <p:nvPr/>
          </p:nvSpPr>
          <p:spPr>
            <a:xfrm>
              <a:off x="1805040" y="5418000"/>
              <a:ext cx="936360" cy="378000"/>
            </a:xfrm>
            <a:prstGeom prst="rect">
              <a:avLst/>
            </a:prstGeom>
            <a:solidFill>
              <a:srgbClr val="ff500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46240" y="5449320"/>
              <a:ext cx="428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6058800" y="2624040"/>
            <a:ext cx="248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ransport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427800" y="4221000"/>
            <a:ext cx="206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unnel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681120" y="4022640"/>
            <a:ext cx="5022360" cy="387360"/>
            <a:chOff x="681120" y="4022640"/>
            <a:chExt cx="5022360" cy="387360"/>
          </a:xfrm>
        </p:grpSpPr>
        <p:sp>
          <p:nvSpPr>
            <p:cNvPr id="389" name=""/>
            <p:cNvSpPr/>
            <p:nvPr/>
          </p:nvSpPr>
          <p:spPr>
            <a:xfrm>
              <a:off x="2742120" y="4027680"/>
              <a:ext cx="108900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3920" bIns="43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894040" y="4054320"/>
              <a:ext cx="7840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 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837600" y="4027680"/>
              <a:ext cx="18658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3920" bIns="43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071240" y="4054320"/>
              <a:ext cx="1477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PORT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1120" y="4027680"/>
              <a:ext cx="108936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3920" bIns="43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34480" y="4054320"/>
              <a:ext cx="7840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 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786320" y="4022640"/>
              <a:ext cx="936720" cy="387360"/>
            </a:xfrm>
            <a:prstGeom prst="rect">
              <a:avLst/>
            </a:prstGeom>
            <a:solidFill>
              <a:srgbClr val="ff500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3920" bIns="43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003400" y="4057560"/>
              <a:ext cx="427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7175520" y="5665680"/>
            <a:ext cx="1298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BF91-C965-4A48-B985-009D98D761A9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uneliavimo moda naudojama kai palaikomas ryšys – maršrutizatorius – maršrutizatorius – šifruojamas visas IP paketas, net ir IP galvut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ransporto moda – palaiko ryšį hostas-hostas. Tinkliniams įrenginiams leidžia matyti tiek šaltinio, tiek paskirties taško IP adresus – IP galvutė nešifruota – šifruojama nuo traansporto galvutės. Gali būti naudojama tuo atveju, kai abu hostai palaiko IPSe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BD42-3C26-4F17-AC34-175E158AAF55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file1598206_datori2" descr=""/>
          <p:cNvPicPr/>
          <p:nvPr/>
        </p:nvPicPr>
        <p:blipFill>
          <a:blip r:embed="rId1"/>
          <a:stretch/>
        </p:blipFill>
        <p:spPr>
          <a:xfrm>
            <a:off x="990720" y="1184400"/>
            <a:ext cx="7086600" cy="506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25E3-2D34-452F-B6C8-91D7688DF4CA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600200" y="1828800"/>
            <a:ext cx="4818240" cy="5029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00800" y="2098800"/>
            <a:ext cx="2401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06160" y="2098800"/>
            <a:ext cx="2401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92240" y="2576520"/>
            <a:ext cx="1800" cy="3981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96160" y="2576520"/>
            <a:ext cx="1440" cy="3981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22480" y="2936880"/>
            <a:ext cx="3943440" cy="987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26160" y="3805200"/>
            <a:ext cx="239760" cy="119160"/>
          </a:xfrm>
          <a:custGeom>
            <a:avLst/>
            <a:gdLst/>
            <a:ahLst/>
            <a:rect l="l" t="t" r="r" b="b"/>
            <a:pathLst>
              <a:path w="151" h="75">
                <a:moveTo>
                  <a:pt x="19" y="0"/>
                </a:moveTo>
                <a:lnTo>
                  <a:pt x="151" y="75"/>
                </a:lnTo>
                <a:lnTo>
                  <a:pt x="0" y="7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022480" y="3954600"/>
            <a:ext cx="3943440" cy="987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22480" y="4822920"/>
            <a:ext cx="239760" cy="118800"/>
          </a:xfrm>
          <a:custGeom>
            <a:avLst/>
            <a:gdLst/>
            <a:ahLst/>
            <a:rect l="l" t="t" r="r" b="b"/>
            <a:pathLst>
              <a:path w="151" h="75">
                <a:moveTo>
                  <a:pt x="151" y="75"/>
                </a:moveTo>
                <a:lnTo>
                  <a:pt x="0" y="75"/>
                </a:lnTo>
                <a:lnTo>
                  <a:pt x="1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840000">
            <a:off x="4531680" y="3265560"/>
            <a:ext cx="30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840000">
            <a:off x="2932560" y="2952720"/>
            <a:ext cx="21679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(x, Public   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20820000">
            <a:off x="3779640" y="407628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9012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entifikacija, pagrįsta viešais rakta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42E7-BC5B-4A1B-9D95-80A3108C786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9012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Pranešimo vientisumą užtikrinantys protokola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kaitmeniniai parašai sudaromi naudoj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S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šifravimo metodą – tai asimetrinis algoritmas, naudojantis du raktus:slaptą bei vieš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varbia problema yra pranešimo vientisumo užtikrinimas – pranešimas pakeliui nėra modifikuo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sirašoma, naudojan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ivatų raktą ir tikrinama taikant viešą rakt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D8E8-27E7-4D09-B13D-A778750437F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9187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arašo sudary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uskaičiuojama pasirašomo dokumento kontrolinė su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žšifruojama kontrolinė suma, data, laikas ir kita informacija naudojant privatų rakt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rie dokumento pridedamas paraš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Galima užšifruoti pasirašytą dokumentą dar ir su gavėjo viešu rakt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968C-67B9-4FA7-A3D9-BC97EFE225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4T12:44:38Z</dcterms:created>
  <dc:creator>Kristina</dc:creator>
  <dc:description/>
  <dc:language>en-US</dc:language>
  <cp:lastModifiedBy>Kristina</cp:lastModifiedBy>
  <dcterms:modified xsi:type="dcterms:W3CDTF">2004-11-24T07:47:26Z</dcterms:modified>
  <cp:revision>19</cp:revision>
  <dc:subject/>
  <dc:title>11 paskaita</dc:title>
</cp:coreProperties>
</file>