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B29-E6F7-41AF-8143-0CE0D939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D05-EE38-47FE-A402-E0047BB8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DD7-2CC9-40D2-8CBE-7B2B317D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4A8-60BB-4D9F-8029-9A7997E0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89A-8FF9-4F66-AFC3-6EFF2EA6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E79-36F9-49BF-84BE-DB409C0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55D-2217-4757-8BC7-CD1E70E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566-16C6-449C-B5C1-B1BA020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60B-E465-40E7-BD84-2139150B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F10-B108-4ADD-930C-A4AC409F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D27-7384-4353-8B37-D1D0998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A8C-FEC7-4A39-9B3B-FD45DCE3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40F-A74B-42D9-9959-A10DEC9DD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tp://ftp.isi.edu/in-notes/rfc2616.tx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MISSION CONTROL PROTOC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 RFC 7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faqs.org/rfcs/rfc793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e174298_left_right1" descr="Left-right"/>
          <p:cNvPicPr/>
          <p:nvPr/>
        </p:nvPicPr>
        <p:blipFill>
          <a:blip r:embed="rId1"/>
          <a:stretch/>
        </p:blipFill>
        <p:spPr>
          <a:xfrm>
            <a:off x="6553080" y="30492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D68-05B8-4B05-AFA3-C34CA5648F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tank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nt leisti daugeliui procesų viename hoste naudotis TCP komunikacijos įrankiais vienu metu,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ę porto adre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iekviename h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or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, sujungtas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ho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dresu (iš internetinio komunikacijų lygmens) sudar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areikšmiškai apibrėžia kiekvieną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ketas vienu metu gali būti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29D-6BC4-43B0-9E99-342743653D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inicializuoja ir palaiko kiekvienam duomenų srautui tam tikr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vio inform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k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ų dydž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š pradedant procesams komunikuoti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kur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ą (inicializacija būvio kiekvienoje pusė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ms baigus komunikacijas, susijungimas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aro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resursai atlaisvinami kit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dangi susijungimai sudaro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ikimo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erpėj, susijungimai pradedami rankų paspaudimu, naudojant eilės numerius – siekiama išvengti klaidingų inicializ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625-570E-45AB-BD69-13EEEDC6B9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vartotojai opcijomis gali nurodyti saugą ir pirmumą susijusį su komunikac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šios reikšmės nenurodomos, naudojamos reikšmės pagal nutylėj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ACE-CC17-4411-AF0D-A8B811CC6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ų mode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ces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erduoda duomen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viesd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CP ir perduodam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duomenų buf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argum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pakuoja duomenis iš šių buferių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ir kvie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terne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į perdavimui kiekvieno segmento gavėj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lpina duomenis iš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uferį ir informuoja vartoto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segmentus įtrau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ntro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, kur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am, eilišk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persiuntimui už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 užtikrin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ąsają su lokaliu tink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78C-85F0-4C35-B48F-BDCCE7AF22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ai ho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erac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stemos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reipiasi į jį kaip į failų sist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kvies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i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peracinės sistemos funkcijas, pavyzdžiui kurios valdo duomenų struktū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aktiškai sąsają su tinklu kontroli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renginio drai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siogiai nesikreipia į įrenginio draiverį, jis kviečia interne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otokolą, kuris kviečia įrenginio draiv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4D4-D0F4-4164-9191-DC962217CC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Patikima komun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davimai tampa patikimais naudojant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septualiai kiekvienas baitas turi savo eilės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ojo baito segmente eilės numeris yra perduodamas kartu su segmentu ir yra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 turi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 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e rodo eilės numerį sekančio laukiamo duomenų baito atbulinėje perdavimo krypt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663-F06C-4BB2-879D-5EFB39919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kartotinas persiunt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1" i="1" lang="lt-LT" sz="2800" spc="-1" strike="noStrike">
                <a:solidFill>
                  <a:srgbClr val="000000"/>
                </a:solidFill>
                <a:latin typeface="Arial Unicode MS"/>
              </a:rPr>
              <a:t>perduoda segmentą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, kartu jo kopija įrašoma į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pakartotino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perdavimo eilę ir startuojamas laikrod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Gavus šio persiuntimo patvirtinimą, segmentas yra išmet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Jei patvirtinimas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negaunamas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ir praeina užduotas laiko intervalas, segmento siuntimas pakart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99D-B9CC-483B-86D3-228AE7934C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ienareikšmiškai apibūdina susijungimą tarp dviejų galinių taš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ok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as gali dalyvau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ų su skirtingais išoriniais soke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as gali būti naudojamas duomenų perdavimu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biem krypt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CP gali surišti procesą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t kuri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u. Tačiau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rai-žino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oketus TCP susieja tik su atitinkamais procesais(šie “valdo” tam tikrus port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erai-žinomi soketai yra įprastas mechanizmas išankstiniam susiejimui soketo adreso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andartin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i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032-EF24-4DFE-86D2-4A77D119C2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var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kreipini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argument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kalus portas, išorinis soke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grąž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ump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lokalų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vartotojas gali naudotis sekančiuose veiksm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a apie susijungimą(tam tikra duomenų struktūra) laiko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blo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Control Block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kaliu susijungimo vardu gali būt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rod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šiuo susijungi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476-C46C-4DC3-BC86-966C2197BF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yvus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OPEN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kreipinys apsprendžia ar susijungimas bu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ktyvus ar pasyv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asyvi OPEN užklausa – procesas nor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riim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ateinančias susijungimo užklausas, 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 inicijuo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susijungimą (žada teikti servis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cesas, prašantis pasyvaus OPEN priims susijungimo užklausas iš kito h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Šiuo atveju išorin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oket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nurodomas visa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uli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kas rodo nenusakytą soke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nusaky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išoriniai soketai yra leidžiami tik pasyviem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2D7-B2D1-4982-946C-5AD3539D66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tokolas skiriamas užtikrint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tikim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ndravimą tarp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ų komunikaciniuose tinklu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yra į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usijungim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orientuotas protokolas, suprojektuotas taikymu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sluoksninėje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rotokolų hierarchijoje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tarptinklini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laiky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užtikrina tarp-procesinį bendravimą tarp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poros proces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besisukančių tam tikruose hostuose, kurie yra skirtingi, bet komunikaciniais tinklais surišti komp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E41-4FC9-4FE8-A452-59520776A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gali išduoti pasyvų OPEN ir laukti atitinkam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ų OPEN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einančių iš kitų procesų, jiems atsiradus TCP informuoja juos apie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sidary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 procesai, kurie išdav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us OPE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s kitam tuo pačiu metu, bus teisingai sujung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u atveju susijungimas galimas su bet kuriuo išoriniu soketu, kuris yra nurodęs šį lokalų soketą, antru atveju susijungimas gal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k su tam tikru sok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FA5-AAA5-4314-A2C9-11F7B0BDB7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procedū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o procedūroje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 vėliavėl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r jos metu vyksta apsikeitimas trimis praneši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ijų pus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nkų paspaudimo proced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einan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gmento su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ėliavėle su laukianči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įėj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einančio segmen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as sutampa su laukia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sakytas tiksliai arba bet koks), susijung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icijuoja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sukuriamas po to 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 numeriai yra susinchronizuojami abiem kryp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8C1-0FBC-4CE4-A72F-38941EB312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Duomenys perduodami susijungimu –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baitų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ka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Jei siunčiamus duomenis reika tuoj pat perduoti gavėjui,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f-joje naudojama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ė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iunčiantis TCP gal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rinkt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š vartotojo ateinančius duomenis,(iš buferio, esančio vartotojo/TCP sąsajoj),  dalinti juos segmentais ir siųsti juos savo nuožiūra, arba atėjus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ei. Push nesiriša si segmento riba, push tik skelbia , kad reikia išsiųsti visus neišsiųstus duomen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DDF-ADDC-4841-A7C2-85D17B92DA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naudoja interneto protokolo serviso tipas lauką bei saugos opcijas nusakydamas pirmenybę bei saugą atžvilgiu susijung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e visi TCP moduliai funkcionuoja saugioje daugelio lygių aplinkoje (galimas ir vienas saugos lyg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moduliai, kurie operuoja daugelio lygių saugos aplinkoje, turi tiksliai atžymėti išeinančius segmentus pirmumo, saugos indik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okie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CP modul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ai turi teikti aukštesnio lygio protokolams nusakyti norimą saugos lygį, pirmumo lygį susijungimo atžvilg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E99-594F-45F7-9957-397283895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galvu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s lauk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ma38" descr="Artwork for comma38"/>
          <p:cNvPicPr/>
          <p:nvPr/>
        </p:nvPicPr>
        <p:blipFill>
          <a:blip r:embed="rId1"/>
          <a:stretch/>
        </p:blipFill>
        <p:spPr>
          <a:xfrm>
            <a:off x="838080" y="1670040"/>
            <a:ext cx="7239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E92-C4DA-466F-819B-286A2CF3D7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pirmo duomenų baito šiame segmente  numer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įjung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ėliavėlė, tai eilės numeris rodo pradinę eilės numerio reikšmę.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itial sequence numb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irmas duomenų baitas turės eilės N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virtinimo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įjungt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trolės bitai šis laukas rodo, koks laukiamas sekantis eilės NR iš siuntėjo pus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susijungimas sudarytas, jis visad yra siunči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poslink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 žodžių suda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vutę. Rodo duomenų pradž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zervuo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Rezervuota vėlesnėm reikmėm. Turi būti nul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FEC-94A8-45FE-A479-EEBF76EF69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olės bitai (6 bita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URG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CK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atvirtinimo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PSH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ush f-jos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RST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erkrauti(reset) jungtį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Y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inchronizuoti eilės numeriu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I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ebėra duomenų iš siuntė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E27-DCCF-43F3-B1D1-92C077338C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ngas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į baitų kiekį pradedant nuo rodomu patvirtinimo eilės Nr šio segmento siuntėjas nusiteikęs priim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 su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galvutės bei duomenų kontrolinė su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gaunasi nelyginis baitų kiekis , jis papildomas nuliais iki lyginio kiekio kontrolinės sumos skaičiavimui, šis papildinys nėra perduodamas, o kontrolinės sumos laukas skaičiuojant yra keičiamas nul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Tai poslinkio reikšmė, atskaitant nuo segmento eilės NR, rodanti į svarbius duomenis. Būtina URG vėliavėl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p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 užimti erdvę TCP galvutės gale. Visos opcijos įtraukiamos į kontrolinę sumą. Jos užima keletą baitų, baigiasi  nulių lauku – “header 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D1A-23E1-4D59-A9D0-9D49754D90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TCP persiunčiamas baitas turi eilės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baitas turi būti patvir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 baito patvirtinimas žymi, kad yra patvirtintas visų baitų įskaitant ir X gav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ukas skirtas eilės numeriams yra baigtinis.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 -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 Visa aritmetika susijusi su eilės numeriais vykdom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936-873A-4D08-B8BC-8722A25F71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ikrinimai, susiję su eilės numeria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 yra surištas su išsiųstų bet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virti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itų eilės num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jau patvirt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ų segmento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eilės numeriai – segmentas šalinamas iš pakartotino perdavimo ei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įeinantis segmentas turi eilės numerius, kur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ukt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 ar segmentas tilps į priėmimo lang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priėmimo langas lygus 0, gali priimti tik ACK segmentus ir siųsti duomenis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s ir 0 langas, tačiau turi apdoroti ateinan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S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gmen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2F7-835C-4329-9786-950A775810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gz-darbas-protokolai_html_m7dde9bf8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2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OSI modelis ir TCP/IP protokolų pak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82B-D9F4-472B-99D1-3086444E58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pa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nt naują susijungimą yra panaudojamas ISN generatorius, kuris generuoja naują ISN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torius yra surištas s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b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laikrodžiu, kurio reikšmė kinta k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klas kartojasi k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5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Max segmento gyvavimo laikas paprastai būna &lt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Skaitoma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N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nikal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susijungimas turi siuntimo eilės NR ir priėmimo eilės NR. Siunt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 yra parenkamas, o priėmimo pradinis eilės Nr sužinomas užmezgant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2DC-EC0F-4CDE-BD0C-DF6C812930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ijungimo sukūrimui ir jo inicializacijai du TCP turi susinchronizuoti savus IS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atliekama pasikeičiant susijungimo įkūrim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e perduodami su sinchronizacijos bitu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itinkamai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gi reikalingas mechanizmas ISN parinkimui bei ISN reikšmių apsikeitimui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C70-C860-4C9C-9C5E-5E6E968163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nchronizacijo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nchronizacija reikalauja, kad kiekviena pus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siųs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avo ISN  ir gautų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š kitos pusės.  Kiekviena pusė privalo gauti kitos pusės ISN ir patvirtinti jo g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 --&gt;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&lt;--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&lt;--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--&gt;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jų pusių rankų paspaudimas yra būtinas, kadangi ISN nėra surišti su globaliniu laikrodžiu ir kiekvienas TCP gali rinkt ISN pagal savo sch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6AE-68AE-4DE8-91AD-71E11F36DB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ylaus(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) laiko koncep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ai, kurie nusimuša ir nelieka informacijos apie paskutinius perduotus eilės numerius kiekviena aktyvia jungtimi, turi palaukti tam tikrą laiko intervalą neišduodami jokių TCP segmentų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ifetime (M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pie2 m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uri užtikrinti tai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kurs segmento su tokiu eilės numeriu kaip ir esančio tink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time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 tai, kad kažkurie seni duomenys nebūtų priimami kaip nauji ir nauji nebūtų priimami kaip senų dublik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EA0-E2FE-4208-B23C-5066DE8818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 pusių rankų paspaudimo procedūra yra naudojama sujungimo sudary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iai ją inicijuoja vienas TCP ir atsako kitas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ocedūra taip pat veikia ir jei du TCP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enu me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nicijuoja šią procedūr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 gauna SYN be ACK (jis praneštų apie SYN gavim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C39-8783-4A37-85A2-0433BFF4FA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azinė susijungimo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--&gt; SYN-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&lt;--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=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&lt;-- SYN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&gt;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D12-96FF-484F-8ECB-034A556ACD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 --&gt; &lt;SEQ=100&gt;&lt;CTL=SYN&gt;           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&lt;-- &lt;SEQ=300&gt;&lt;CTL=SYN&gt;              &lt;-- SYN-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CTL=SYN&gt;              --&gt; SYN-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--&gt; &lt;SEQ=100&gt;&lt;ACK=301&gt;&lt;CTL=SYN,ACK&gt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 &lt;-- &lt;SEQ=300&gt;&lt;ACK=101&gt;&lt;CTL=SYN,ACK&gt; &lt;--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          ... &lt;SEQ=101&gt;&lt;ACK=301&gt;&lt;CTL=ACK&gt;     --&g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C1C-1E10-4318-8EBC-7638518E94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statymas po dubliuojančio SY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LOSED                                    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100&gt;&lt;CTL=SYN&gt;      ..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plicate) ... &lt;SEQ=90&gt;&lt;CTL=SYN&gt;         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&lt;-- &lt;SEQ=300&gt;&lt;ACK=91&gt;&lt;CTL=SYN,ACK&gt;  &lt;--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91&gt;&lt;CTL=RST&gt;               -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95F-C77B-48CA-8E04-B94B76F224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... &lt;SEQ=100&gt;&lt;CTL=SYN&gt;               --&gt;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   &lt;-- &lt;SEQ=400&gt;&lt;ACK=101&gt;&lt;CTL=SYN,ACK&gt;  &lt;-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ESTABLISHED --&gt;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Q=101&gt;&lt;ACK=401&gt;&lt;CTL=ACK&gt;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2D4-E158-4E7B-A221-152F1D13A0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siau atviri 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iau atvir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jei vienas iš TCP uždarė ar nutraukė susijungimą savam gale be pranešimo kitam TCP arba jei abu tampa desinchronizuoti dėl atminties problem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e susijungimai yra priverčiami restartuoti jei tik bandoma persiųsti duomenis kažkuria kryptim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usiau atviri susijungimai skaitomi retais ir atstatymo procedura yra lengvai įtrauki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40F-978E-4DAF-A6E2-CD5B185482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protokolas informaciją siunčia bei priima įvairaus dydži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protokolas TCP protokolui užtikrina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būd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išsiunt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gav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virš TCP galvutės įdėdamas IP datagramos galvut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galvutėje nurodomas šaltinio bei paskirties punkt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IP adres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 IP rūpinasi paketų fragmentacija, jų perdavimu komunikaciniais tinkl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DFD-48E0-443F-AE5F-E28F86729B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300,receive 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LOSED     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(!!)     &lt;--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&lt;--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ort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SYN-SENT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usiau atviras susijung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7F4-265B-439C-BF0F-FF507C5D338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nd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receiv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??)    &lt;--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=10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&lt;-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    --&gt; (ABORT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ktyvi pusė iššaukia pusiau atviro susijungimo nutrauk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479-7869-4FCA-9944-F275E66677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už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i trys atve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icijuoja susijungimo nutraukimą perdu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struk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icij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tol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ųs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trolės signa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artotojai vienu metu vykd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B56-13B2-41A0-8954-654044B1F34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vartotojas inicijuoja uždar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tvej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konstruojamas ir įdedamas į išeinančių segmentų eil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vartotojo nebepriimamos funk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uris įeina 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ėmimai yra leidžiami šiame būvyje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si prieš tai einantys segmentai ir segmentas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išsiųsti pakol bus sulauktas patvirti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imą(FIN-WAIT-2) ir at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ės patvirtint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š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ę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jo gavimą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ne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ol jo vartotojas irgi neuždarys  susijungimo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C40-2FC3-4237-B9B4-7DA95EC8C50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:  TCP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gauna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 tink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eina iš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į gavę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tvirtinti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jį ir pranešti vartotojui, kad susijungimas yra uždar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s turi atsaky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kuri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likusių duomenų persiun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aukia sav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virtinimo ir naikina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laukiama, tai po laiko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sijungimas nutraukiamas ir informuojamas vartoto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450-23B8-4F99-A147-AF9E1D7561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: 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bu vartotojai vienu metu uždaro jungtį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alaik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 abiejuose susijungimo galuose iššaukia pasikeit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visi segmentai (susikaupę prieš FIN) yra išsiunčiami ir patvirtinami, kiekvien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atvirtinti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susijungimo nutraukimą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kurį jis yra gav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, gavę patvirtinančiu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traukia susijungim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E0B-B2A2-41B7-87D5-305D8D9F5C2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--&gt;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FIN-WAIT-2  &lt;-- &lt;SEQ=300&gt;&lt;ACK=101&gt;&lt;CTL=ACK&gt;      &lt;--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WAIT   &lt;-- &lt;SEQ=300&gt;&lt;ACK=101&gt;&lt;CTL=FIN,ACK&gt;  &lt;-- LAST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IME-WAIT   --&gt; &lt;SEQ=101&gt;&lt;ACK=301&gt;&lt;CTL=ACK&gt;      --&gt;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F15-94DA-40F0-9AE8-076AAC5DB1F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... FIN-WA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0&gt;&lt;ACK=100&gt;&lt;CTL=FIN,ACK&gt;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ACK=300&gt;&lt;CTL=FIN,ACK&gt;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LOSING     --&gt; &lt;SEQ=101&gt;&lt;ACK=301&gt;&lt;CTL=ACK&gt;      ... C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1&gt;&lt;ACK=101&gt;&lt;CTL=ACK&gt;    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1&gt;&lt;ACK=301&gt;&lt;CTL=ACK&gt;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IME-WAIT                                            TIM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MSL)                                            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7A6-F50B-4DD5-ADF2-2D98D23403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ango vald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surišta su tuo momentu laisva buferio sritimi naudojama šiam susijung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gaunama daugiau duomenų nei gali būti priimta, duomenys naikin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reikalingi pakartotini persiuntimai, apkraunamas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ant per mažus lango dydžius gaunamas per ilgas duomenų persiunti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175-C5B8-433D-B74F-091895B4EC2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aus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ftp://ftp.isi.edu/in-notes/rfc2616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skirtis, naudojama terminolog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acija (klientas, proxy, gateway, tunnel origin), pagrindinės taisyk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rametrai: versija, resursų identifikatorius, datos, laiko formatai, simbolių rinkinys, turinio kodavimas, persiuntimo kodavimas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tokolo parametrai:(Media Types,Product Tokens, Quality Values, Language Tags,    Entity Tags, Range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6C3-3B3E-4E6A-ACFC-88CF2261557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ąsa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vienos pusė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sają su vartoto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 aplikaciniu procesu, iš kitos pusės su žemesnio lygio protokolu – IP protoko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aplikacijų ir TCP užtikrin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eip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panašiais į tuos , kuriuos operacinė sistema teikia aplikaciniams procesams manipuliavim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u fai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Jungties atidarymas, uždarymas, duomenų siuntimas, priėmim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TCP ir žemesnio sluoksnio: skaitoma, kad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echaniz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remdamiesi šie du sluoksniai gal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perd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 viens ki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87D-D518-4310-8741-CA138DE1F9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 pranešima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ssage Types, Message Headers, Message Body, Message Length, General Header Field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a ir atsaky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quest, Request-Line, Method, Request-URI, The Resource Identified by a Request,Request Header Fields, Response, Status-Line, Status Code and Reason Phrase, Response Header Fie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 Definitions, OPTIONS, GET, HEAD, POST, PUT, DELETE TRACE,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ūvio kod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 Status Code Definitions, Informational 1xx, Successful 2xx Redirection 3xx), Server Error 5x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 cach’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aching in HTT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56C-1409-4463-8E06-14420209CC2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kslas yra užtikr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g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rand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p poros komunikuojančių proces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serviso palaikymo užtikrinimui mažiau patikimoje Interneto komunikacijų terpė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alingi šie mechaniz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perd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o kontrol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tankinimo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mumo ir saug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656-CDDF-4A33-95D3-F350501FA4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erd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rau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oktetų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i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ryptim, suskirstydamas srau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artais nori būti tikri,  kad visi TCP perduoti duomenys buvo perduoti. Tam naudojam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f-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sitikinimui, kad duomenys, kurie yra perduoti TCP iš tikrųjų yra perduoti gavėjui, vartotojas nurodo veiksmą “pus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014-17B3-45C0-BD2C-A21BD225CA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tikimu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y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gad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arasti, dubliuoti ar nusiųsti ne ta tvar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m persiunčiam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ait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teik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me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iš gavėjo reikalaujamas patvirtinimas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ACK nėra gaunamas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laiko intervale, duomenų persiunti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kartoj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imas dar negarantuoja kad duomenys pristatyti galiniam vartotojui, o tik tai, kad priimantis TCP apsiima šią atsakomyb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o taške eilės numeriai naudojami priėm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išku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laikyti, nes duomenys gali būti gaunami ne ta tvarka, be to gali atsiras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blika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ugadinimui išvengti naudojam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s tikrinamos priėmus segmentą ir sugadinti segmentai yra naikinam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EF0-8C5A-45D5-B7D0-4EAA0FCBE2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kontrol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riemonę kuri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vald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siųstą informacijos kiek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ACK yra grąžinamas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dydis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"window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indikuoja t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eilės numerių interva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s gali būti priimtas po paskutinio priėm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ro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os siuntėjas gali pasiųsti prieš gaudamas sekantį lei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74C-9960-49DA-A335-C4C9456218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10:04Z</dcterms:created>
  <dc:creator>Kristina</dc:creator>
  <dc:description/>
  <dc:language>en-US</dc:language>
  <cp:lastModifiedBy>Kristina</cp:lastModifiedBy>
  <dcterms:modified xsi:type="dcterms:W3CDTF">2004-10-06T08:15:24Z</dcterms:modified>
  <cp:revision>58</cp:revision>
  <dc:subject/>
  <dc:title>TCP</dc:title>
</cp:coreProperties>
</file>