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EADB-9DD9-43BE-91FF-331EB55DA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9360-4826-4573-A1B9-412AAF494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B483-E5D9-45CE-84E8-55C53FEB3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B340-426D-4E38-83D1-CC8087B30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92A1-BB60-42B9-98A9-BCC624D86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397F-E824-43DD-B34C-4F5F73265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F260-CF73-4382-A36A-67D7C266D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E510-F3F3-45BD-968E-698E37B4A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B097-E52C-4443-A0A0-41CF23AA0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A61D-C18F-4702-9B3D-BE657DF8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CDFD-CFAC-4D72-B1FF-4289D6F8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5891-AD0E-4300-8BF2-014B1C89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A8729-078B-41E5-A4A3-2C19138A4F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darby.daemonnews.org/episode.php3" TargetMode="External"/><Relationship Id="rId2" Type="http://schemas.openxmlformats.org/officeDocument/2006/relationships/hyperlink" Target="http://darby.daemonnews.org/episode.php3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540972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laptažodži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3760" y="5028840"/>
            <a:ext cx="2438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2 skyri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990720" y="762120"/>
            <a:ext cx="4875840" cy="1904400"/>
            <a:chOff x="990720" y="762120"/>
            <a:chExt cx="4875840" cy="1904400"/>
          </a:xfrm>
        </p:grpSpPr>
        <p:sp>
          <p:nvSpPr>
            <p:cNvPr id="44" name=""/>
            <p:cNvSpPr/>
            <p:nvPr/>
          </p:nvSpPr>
          <p:spPr>
            <a:xfrm>
              <a:off x="990720" y="762120"/>
              <a:ext cx="4875840" cy="190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990720" y="762120"/>
              <a:ext cx="4875120" cy="1904040"/>
              <a:chOff x="990720" y="762120"/>
              <a:chExt cx="4875120" cy="1904040"/>
            </a:xfrm>
          </p:grpSpPr>
          <p:grpSp>
            <p:nvGrpSpPr>
              <p:cNvPr id="46" name=""/>
              <p:cNvGrpSpPr/>
              <p:nvPr/>
            </p:nvGrpSpPr>
            <p:grpSpPr>
              <a:xfrm>
                <a:off x="990720" y="762120"/>
                <a:ext cx="4874400" cy="1903680"/>
                <a:chOff x="990720" y="762120"/>
                <a:chExt cx="4874400" cy="1903680"/>
              </a:xfrm>
            </p:grpSpPr>
            <p:sp>
              <p:nvSpPr>
                <p:cNvPr id="47" name=""/>
                <p:cNvSpPr/>
                <p:nvPr/>
              </p:nvSpPr>
              <p:spPr>
                <a:xfrm>
                  <a:off x="990720" y="762120"/>
                  <a:ext cx="4874400" cy="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990720" y="762120"/>
                  <a:ext cx="4874400" cy="19036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 u="sng">
                      <a:solidFill>
                        <a:srgbClr val="ccccff"/>
                      </a:solidFill>
                      <a:uFillTx/>
                      <a:latin typeface="Verdana"/>
                      <a:hlinkClick r:id="rId1"/>
                    </a:rPr>
                    <a:t>  </a:t>
                  </a:r>
                  <a:r>
                    <a:rPr b="1" lang="en-US" sz="7300" spc="-1" strike="noStrike">
                      <a:solidFill>
                        <a:srgbClr val="ffffff"/>
                      </a:solidFill>
                      <a:latin typeface="Verdana"/>
                    </a:rPr>
                    <a:t> </a:t>
                  </a:r>
                  <a:r>
                    <a:rPr b="1" lang="en-US" sz="800" spc="-1" strike="noStrike">
                      <a:solidFill>
                        <a:srgbClr val="ffffff"/>
                      </a:solidFill>
                      <a:latin typeface="Verdana"/>
                    </a:rPr>
                    <a:t>                                       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Verdana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" name=""/>
              <p:cNvSpPr/>
              <p:nvPr/>
            </p:nvSpPr>
            <p:spPr>
              <a:xfrm>
                <a:off x="990720" y="762120"/>
                <a:ext cx="4875120" cy="1904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50" name="sourcewars" descr="Go to this week's installmen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14400" y="887400"/>
            <a:ext cx="4952880" cy="40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E462-F3CD-4F23-AE4A-BD03093C053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rute-force log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Remiamasi tais pačiais metodais kaip ir atspėjant slaptažodžius tik dirbama greičiau. Tikslas – greit rasti veikiantį prisijungimo vardą – slaptažodį kol ataka neužfiksuo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Kaip priešpriešą šioms atakoms galima naudoti prisijungimo užrakinimą(po kelių nesėkmingų prisijungimo bandymų) – galima sulaukti DoS tipo atak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0EE4-F961-4473-A9C8-582483CAF76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ak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rieš slaptažodži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i,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 negali atspė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ug informacijos apie jus turintis žmogus,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l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daryt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li sudaryti apie pusę milijono spėjinių per sekundę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akos naudojant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odyn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i kitus triukus, kuriuos mums atrodo kad </a:t>
            </a:r>
            <a:r>
              <a:rPr b="0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ik me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ame sugalvoję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avyzdžiui: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ac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udoja daugelį filtrų, taiko perstatymus mėgindama atspėti slaptažodį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AC96-8383-4C03-82AF-5D1F258A87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Slaptažodžio nulaužimas (cracing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Tai efektyvesnė priemonė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nustatant slaptažodžius, nepadeda logino užrakinimas, nes vykdoma off-line principu. Programos dirba su tam tikrais dump failais, kurių išgavimas iš sistemos vykdomas naudojant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buferio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erpildymo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atakas prieš sisteminio lygio serverio proces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Šito tipo ataka reikalauja, kad atakuotojas turėtų tam tikras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riėjimo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teises sistemoje – tai gynyba ir susiveda į privilegijų bei teisių, kurias turi vartotojai valdym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Tačiau tokie įrankiai, kaip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Lp0phtcrack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LC3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ir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John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The Ripper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adarė slaptažodžių nulaužimo procesą labai trivialiu, todėl vartotojai turėtų naudoti tokius sunkiai nulaužiamus slaptažodžius, kuriuose būtų simboliai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 "@&amp;#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704E-8019-4721-A998-E381E641084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Arial"/>
                <a:ea typeface="Arial"/>
              </a:rPr>
              <a:t>password sniffing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Slaptažodžių gaudytojas gali gaudyti slaptažodžius iš tinkl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Tai daroma su 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indows password hashe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elnet sesi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m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HTTP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informacija – kai ji keliauja nešifru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TP, e-mail POP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i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IMAP proto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l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ai taip pat nėra apsaugoti nuo šio tipo atak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Apsaugai siūloma naudoti SSH vietoj Telnet, saugų FTP,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POP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Slaptažodžių gaudymas nereikalauja aukštų privileginių teisių, normalus lokalaus administratoriaus loginas laptope gali būt pakanka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EB53-F49F-4E28-93E4-53B09FC5D16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niff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gram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Leidži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žinot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i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word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mbinacijas ir kitus duomenis iš daugelio(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text protocol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 atviro kodo protokolų, tokių kaip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FTP, Telnet, SMTP, HTTP, POP, poppass, NNTP, IMAP, SNMP, LDAP, Rlogin, RIP, OSPF, PPTP MS-CHAP, NFS, YP/NIS, SOCKS, X11, CVS, IRC, AIM, ICQ, Napster, PostgreSQL, Meeting Maker, Citrix ICA, Symantec pcAnywhere, NAI Sniffer, Microsoft SMB, Oracle SQL*Net, Sybase, and Microsoft SQ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E4D7-A556-4A39-900C-370D1532D42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ip apsisaugoti nuo tokio tipo atakų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niff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ikalauja, kad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nklinė sąsaj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rbtų “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miscuo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modoje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keriui reikalingo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ot’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isės slaptažodžių gaudymu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sisaugant reikės taip apsaugoti sistemą, kad hakeri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alėt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imti root’o teisių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udojam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šrutizatori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urie sumažina riziką, kadangi hakeris galės vogti –sniffinti tik vieną hostą iš kiekvieno sukompromituoto hosto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C77C-0E42-4C4E-AC28-19EEAB54BFD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aslaugi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inė įrang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totojui siūl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įsimin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o slaptažodį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ie gali būti pavogiami iš sistemo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zik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totojui yra tokio laipsnio, kokio laipsnio prieinamumu ta sistema pasižymi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šsaugoti slaptažodžiai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li būti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odomi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viru tekst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udojant specialius šiam tikslui skirtus įrankius ( jų paskirtis gali būti -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dė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rtotojui, kuri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begal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isiminti slaptažodžio po to kai nebenaudojo jo kelis mėnesiu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18FC-C177-4E0B-A44B-07C49A764F8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laptažodžių įsimin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000000"/>
                </a:solidFill>
                <a:latin typeface="Times New Roman"/>
              </a:rPr>
              <a:t>Jei juos užsirašote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r ir kaip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uos užsirašote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žsiraš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yt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 patį slaptažodį, o tik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zę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ri padeda atsiminti slaptažodį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fl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You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Reikia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ė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avo schemą slaptažodžiams įsimint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C084-E9D3-4D5A-8EBC-05ED705A2BA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ontrpriemonė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ganizacijoje reikia sukurti priimtiną slaptažodžių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itiką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iki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testuo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laptažodžius su slaptažodžių nulaužimo program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kia įdiegti įrankius, kurie tikrina slaptažodžius, kai jie yr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kuriam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X – Npasswd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eiki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ers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as kažkiek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iko keisti slaptažodį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lima kaupti sen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laptažodži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72DD-1868-4911-86DC-39B7F47693A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X sistemų naudoja </a:t>
            </a:r>
            <a:r>
              <a:rPr b="1" lang="lt-LT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shadow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laptažodžius, tai hakeriams teikia šiokių tokių sunkumų prieinant prie jų, nes slaptažodžiai yra šifruoti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Naudojama NIS+.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čiau jei yra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udojama nesaugi NI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ba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gai sukonfigūruota NIS+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stema, tai pažeidžiamumas išliek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267E-3BFC-4D8D-B74D-D27FBB3F466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tentifikacija ir identifik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metodai, kurie leidžia įsitikinti, kad vartotojas iš tikrųjų yra tuo, kuo prisistato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ikavim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sutapatinimas, tapatybės nustatym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entifikacij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tai p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virtint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atikrinimu pagrįsta identifikacij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m, kad vartotojas galėtų pasiekti resursą, turi būti nustatyta,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 tai tikrai tas individ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riuo jis prisistato, ar jis turi reikiamas liudijimus, ar jam buvo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teiktos būtinos teisės/privilegij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likti tuos veiksmus, kurių jis užsipraš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5247-4EEF-4451-A30E-9BF1818376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AM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1995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Pluggable Authentication Modules)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ai autentifikacinis  metodas, kuris duoda administratoriui galimybę valdyti vartotojų prisijungimus ir tai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aip jie save autentifikuoj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istemos administratorius gali įjungti naujus autentifikavimo metodus instaliuodamas naujus PAM modulius ir keisti autentifikavimo politikas redaguodamas konfiguracinius fail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m sistema vartotoj</a:t>
            </a:r>
            <a:r>
              <a:rPr b="0" lang="lt-LT" sz="1600" spc="-1" strike="noStrike">
                <a:solidFill>
                  <a:srgbClr val="000000"/>
                </a:solidFill>
                <a:latin typeface="Verdana"/>
              </a:rPr>
              <a:t>ų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utentifikavimui</a:t>
            </a:r>
            <a:r>
              <a:rPr b="0" lang="lt-LT" sz="1600" spc="-1" strike="noStrike">
                <a:solidFill>
                  <a:srgbClr val="000000"/>
                </a:solidFill>
                <a:latin typeface="Verdana"/>
              </a:rPr>
              <a:t> leidžia naudoti 7 skirtingus būdus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/key, OPIE, opie_access, a cleartext password, Kerberos IV, Kerberos 5, and the traditional Unix password authentication system.</a:t>
            </a:r>
            <a:r>
              <a:rPr b="0" lang="lt-LT" sz="16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ttp://www.freebsd.org/doc/en_US.ISO8859-1/articles/pam/index.html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ttp://www.onlamp.com/pub/a/bsd/2003/02/20/FreeBSD_Basics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20FD-85C9-41A4-AF2D-B79C534961C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vi-faktorė autentifikacija.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68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i kuriose sistemose naudojama kelių autentifikavimo priemonių kombinacij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ktroninė bankininkystė bei e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ersl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8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Token ar smart kortelė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600" indent="-186480" algn="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ienta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zišk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do savo token/smart kortelę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600" indent="-186480" algn="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k jis vienas žino savo kortelė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d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utentifikuojam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viem metoda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uo ką jūs turite ir tuo ką jūs žinot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A080-A259-41EC-9D89-B550600B851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3352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Centrinis serveris autentifikuoja vartotoją </a:t>
            </a:r>
            <a:br>
              <a:rPr sz="2800"/>
            </a:b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- serveris bei “smart” kortelė–žino slaptą raktą, serveris generuoj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tsitiktinį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kaičių, jį šifruoja slapto rakto pagalba, “smart” kortelė žinodama slaptą raktą dešifruoja šį skaičių ir siunči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tgal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atsitiktinį skaičių, jei jis sutampa su sugeneruotu – vartotojas autentifikuoja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rtais naudojam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vipusė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utentifikacija, kai iš vartotojo pusės taip pat generuojamas atsitiktinis skaičius, jis koduojamas ir siunčiamas serveriui kartu su dešifruotu skaičiumi, o serveris irgi turi gražinti dešifruotą skaičių – </a:t>
            </a:r>
            <a:r>
              <a:rPr b="1" lang="lt-LT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taip autentifikuojamas serveri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6984-8C80-46C1-8D9A-D214B703F3D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nkartiniai slaptažodžiai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 generuojami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rteli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b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inė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įrangos, arba vartotojui pateikiama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ąraš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ienkartinių slaptažodžių, kuriuos jis turi iš eilės naudo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nkartiniai slaptažodži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tai strategija naudoti slaptažodį tik vieną kartą, tai jei jį sužinos, j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b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lim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audo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oks slaptažodžių panaudojimas yra tikslingas Interneto kontekst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14FC-343C-4A24-89CC-D0D492B34B3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dicin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aptažodž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darom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ienkartiniai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Į slaptažodį įjungiama užšifruota laiko žymė (encrypted timestamp) – taip elgiamasi KERBEROS metode. Kadangi negalima pakeisti laiko žymės nežinant slaptažodžio, sunku juo pasinaudoti.  Šiam metodui deja reikalingi du dalyka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peciali klientinė programa, sugebanti į slaptažodį įjungta laiko žym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ikalinga gera sinchronizacija tarp kliento ir serverio, priešingu atveju ateinantis slaptažodis bus arba jau negalimas arba dar negalim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283C-D1C6-445E-83EA-4FD64AC0A5E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tas būdas padaryt tradicinius slaptažodžius vienkartiniais naudojant sistemą klausimas-atsakymas(challenge-response system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sakymai autentifikuotam vartotojui būna iš anksto žinomi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nkai iš anksto duoda slaptažodžių sarašą, o jūs po prisijungimo paprašo įvesti n-tąjį skaičių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3316-A91A-48AC-84A7-BF03B8EC916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chronizacij</a:t>
            </a:r>
            <a:r>
              <a:rPr b="1" lang="lt-LT" sz="4400" spc="-1" strike="noStrike">
                <a:solidFill>
                  <a:srgbClr val="000000"/>
                </a:solidFill>
                <a:latin typeface="Times New Roman"/>
              </a:rPr>
              <a:t>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nkartiniai slaptažodžiai dažna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eudoatsitiktini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kaičių seka, jie dažnai yra įdiegiam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nėj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įrangoje. Naudojant vienkartinius slaptažodžius, kuriuos pateikia techninė įranga, gali kilti problemų su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chronizacij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chronizuotos laik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rtelės generuoja naują slaptažodį kiekvienu specifiniu laiko momentu, tą patį daro ir serveris. Reikalinga gera sinchronizacija su serverio laik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9747-6C81-4FB4-9ADF-A4FA8ABF1C8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metriniai įrankiai.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totojas turi būti identifikuojamas ne pagal ta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ką jis/ji žino”, bet pagal tai “ kas būdinga jam/ja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ą įgalina padaryti biometrinė (biometrics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ologija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limybė automatiškai atpažinti asmenį naudojant pirštų antspaudus, pagal veidą, akis, balsą, rankos geometriją,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onalinį parašą ar spausdinimo manierą.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2EA6-9D11-4789-BD42-BC02F828198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ila, bet biometrinės sistemos vis dar netinka panaudojimui Interne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ek daugiau šansų teikia technologija, pagrįsta “balso antspaudu” – kompiuteriai turi mikrofonu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valai tarp klavišų paspaudimų gerai charakterizuoja individualią spausdinimo manierą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6BDA-2CFC-40A7-8FA6-ECE4852419A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S slaptažodžiai turi būti naudojami kiekvienam organizacijos kompiuteriui tikslu apsaugoti priėjimą prie BIOS konfigūracinių utilitų.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rting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S slaptažodž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iekvienam kompiuteriu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guliariai juos keis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piuterių BIOS slaptažodžius reikia laikyti saugiame saraš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ems kompiuteriams turi būti nustatyta, kad jie pasikrautų tik iš kieto disk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ikia patikrinti ar kartais negalima įeiti su backdoor slaptažodži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piuterinės dėžes reikia užrakinti, užrakinti kambarius, kai nieko nėr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42E2-FF7E-41A8-BED8-40E9F9D11E2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tentifikavimas remias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28191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o, kas būdinga individui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o, ką individas žino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o, ką individas turi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38E6-C366-4590-932B-4053C4ED6A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toriz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sprendžia kokius kokio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rso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ributus gali naudoti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entifikuot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rtotoja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os esybė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pavyzdžiui vartotojai, aplikacijos, sistemos) kurios prieina prie informacijos šaltinio turi turėti atitinkamas 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rizacijas į šį resursą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rizacija reiškia leidimu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81CC-3BDC-4D5E-A7FB-4C92C9168FD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toriz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rizacija suteikia galimybę kontroliuoti vartotojų veiksmu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rizacija turi būti paremta mažiausių privilegijų principu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eigų atskyrima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ks žmogus negali atlikti vienas viso proceso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didėję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skaitomuma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n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dministratoriaus login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C591-AAB4-495D-AA7C-A0427531AB5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toriz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einamu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tai galimybė matyti resursą ir rinkti informaciją iš / apie šį resurs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audojima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yra galimybė naudoti resurs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ifikacij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tai galimybė keisti tą resurs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kūrima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tai galimybė kurti naują resurs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šmetima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tai galimybė išmesti resurs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dyma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tai galimybė pakeisti resurso autorizacij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6D91-714A-48A7-B482-A672FCD52FE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laptažodži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uguma kompiuterinių sistemų yra sukonfigūruotos taip, kad jos naudoj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aptažodžius kaip pirm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nintelę gynybinę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psaugos linij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otojo autentifikacijos( procesas individo identiškumui patikrinti) schemoje yra naudojami vien tik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totojo prisijungimo vardas ir slaptažodis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roma prielaida, kad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itinkamas vartotojas žino slaptažodį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entifikacija, paremta </a:t>
            </a:r>
            <a:r>
              <a:rPr b="1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uo, ką jūs žinot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44B5-A153-4A26-912D-8FFCD060886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ugos problem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laptažodžių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nebuvi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leidžia laisvai prieiti prie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konfidenciali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duomen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artotojai dažnai pasirenk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lengv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įsimenamą slaptažodį, - vardą, gim metus Gaila, tačiau tokie slaptažodžiai labai paprasta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nulaužiam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(atspėjami) panaudojant specialias progra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ei vartotojas pasirenk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udėting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laptažodį, jis dažnai jį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užsiraš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arba sukuria komandinį failą, kad nereikėtų jo įvedinė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liekami sistemo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įdiegim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metu naudoti arba demonstracinėms versijoms taikytini slaptažodži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C63F-F78F-4EE6-82F4-AEBAD053C21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aptažodžiai  yra pažeidžiami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 jie dažnai yra perduodami tinklu </a:t>
            </a:r>
            <a:r>
              <a:rPr b="1" lang="lt-LT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atviru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kstu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(TELNET)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 esant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kankamam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ursų kiekiui (žinių, įrankių, kompiuterinių pajėgumų) jie gali būti atspėti ir nulaužt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3-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žgrobti slaptažodžius keliaujančius tinklu pasinaudo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jan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aliomi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gramomi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D5B2-DC1C-4D9A-BD53-6A9F926F102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tak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Dažniausiai sutinkamos atakos, nukreiptos prieš slaptažodžius, ta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laptažodžio atspėjima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brute forc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rac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sniff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4CFC-713C-43FD-962F-6508A7E82F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tak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ukompromituo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laptažodžiai vienas iš dažnai pasitaikančių sistemos pažeidžiamumų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artotojai yra nerūpestingi su savo PIN, slaptažodžių politika yra sunkiai įdiegiama, atakuotojai turi daugybę įrankių, leidžiančių pažeisti slaptažodži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takuotojas, įgavęs slaptažodį įgyja ir vartotojo tei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Organizacija turi šviesti, mokyti savo darbuotojus laikytis saugos politikos, o taip pat imtis tam tikrų priemonių apsisaugant prieš slaptažodių atak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E38C-BE1F-4B1D-A2B3-F6D277DE0CF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Arial"/>
              </a:rPr>
              <a:t>Slaptažodžio atspėj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laptažodžiai įvedami ranka arba naudojant programines priemones. Yra daug tokių programų, kurios yra įvairaus sudėtingumo, bandomi įvairūs variantai, remiamasi žodyna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Tai gali būti atliekama prisijungus – on-line režime  arba dirbama su turimais duomenimis off-line – neprisijungus prie sist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5385-71DD-4616-93BB-EF7AC7D857E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4T18:06:56Z</dcterms:created>
  <dc:creator>Kristina</dc:creator>
  <dc:description/>
  <dc:language>en-US</dc:language>
  <cp:lastModifiedBy>Kristina</cp:lastModifiedBy>
  <dcterms:modified xsi:type="dcterms:W3CDTF">2004-09-15T08:15:08Z</dcterms:modified>
  <cp:revision>7</cp:revision>
  <dc:subject/>
  <dc:title>Slaptažodžiai</dc:title>
</cp:coreProperties>
</file>