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B4AE-C8AD-473B-BC67-F1683BC4B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667C-CE8D-4491-8453-4B248405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8A94-EC3E-4390-B714-E6A77E799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B766-5495-49B6-A36D-BFB91F4E0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9137-4AD8-4C9B-98C2-69C71A0D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357C-604C-4C0B-879B-18F8FDD3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B9BB-F2F6-4012-B08A-A0084A49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545A-1803-4112-B64B-F29B6994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3877-6E84-48CD-9C6F-2BD545D9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6A47-E50B-4C0E-A3BE-56179375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C842-5531-40CB-A17D-599E2B20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A1FD-1882-4FC3-A1C0-888A88F7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7D11-E076-4BA7-93F7-D60A023CD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81480" y="487656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13 paska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file2546657_datori2" descr=""/>
          <p:cNvPicPr/>
          <p:nvPr/>
        </p:nvPicPr>
        <p:blipFill>
          <a:blip r:embed="rId1"/>
          <a:stretch/>
        </p:blipFill>
        <p:spPr>
          <a:xfrm>
            <a:off x="457200" y="0"/>
            <a:ext cx="594360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01EC-9DE4-4A60-AC4C-0E71E61A11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ita dokument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/software inventor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zaci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inkl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polog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tsakingi asmeny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el Nr nenumatytiems atveja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iden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CB49-C06B-47F6-8349-0A26DCFBB3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odėl reikalingas saugos audit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cija yra gal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o tikėtis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tuoj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ikos suderinamumą su realyb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kų rizik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amp; 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ugo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yg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takų įnešamą sugriovimų laipsn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udaro tinkamus atsak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į saugo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iden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43A2-53ED-406A-B57B-6B3CF1CA24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dėl reikia atlikti tinklo auditą?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os saugumo auditas – tai rim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daug žinių reikalaujantis proce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as dažnai nepraneša 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rų žin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ius panaikina jūsų iliuzijas apie jūsų tinklo saug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a yra sunkus darbas jį vykdant ir sunkus procesas išaiškinant pašaliečiams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</a:rPr>
              <a:t> A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ditas </a:t>
            </a:r>
            <a:r>
              <a:rPr b="1" i="1" lang="lt-LT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šališkai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įvertina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jūsų 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ižiūrimo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tinklo saugą </a:t>
            </a:r>
            <a:r>
              <a:rPr b="1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adovybės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akys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itas kuris pasako jums tik tai, ką jūs jau ir taip žinote nėra daug ver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84E7-B845-422F-A11C-35BCC49841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as dažnai yra reikšmingas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, n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ų pir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is duod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šališk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žiūrį į jūsų tinklą, kurio neįtakoja nei vidinė politika, nei tvarkaraščio ribojimai, resursų limitai ar jūsų organizacijos žinių lygi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r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uditorius tur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lią metodologij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rinėjimų atlikimu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čia,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ditorius turi 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kirtingą perspektyv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Geras auditorius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ūna išanalizavę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šimt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 šimtus tinklų , yra matęs problemas ir sprendimus, apie kuriuos jūs gal nežino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5C20-3669-4B6D-9708-34D57AB85B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dito aspektai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09680" y="1523880"/>
            <a:ext cx="6096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nklo diza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nklo įdieg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Hostų sistemų architektū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Hostų sa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Fizinė sa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tatymas po nelaimė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cesai ir procedū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akymo laikai sprendžiant problem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agavimas į kritines situaci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Elgsena nedarbo valand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B19C-A98C-4F02-A793-EBD028B6F0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Metod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tliekant auditą kertinis akmuo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osofin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žiūris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, kuris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ikomas matuojant tinklo saugumą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oli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igūracijo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izė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DF0C-A319-49C9-9437-C6733B194A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uol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itorius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ai atakuoja tinklą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į testuoda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olamoji </a:t>
            </a:r>
            <a:r>
              <a:rPr b="1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tika </a:t>
            </a:r>
            <a:r>
              <a:rPr b="1" i="1" lang="lt-LT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aidimas tipo “užgrobti vėliavą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i auditorius sugeba užgrobti vėliavą – tai yra puolamas tinklas yra pakankamai sukompromituojamas nors jūs bandėte tam užkirsti kelią – taigi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klas neatlaiko test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E525-32B7-475B-87E9-D304ED614A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 tipai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Zero-Knowledg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uolimas ( puolimas nuo nulio). Auditorius žino tik taikinį. Visa kita informacija kuri bus panaudojama puolime yra auditoriaus surenkama. Tai modeliuoja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ataką visiško prašalieči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iš išorės). Šis audito tipas užima daug laiko ir brangiai kainuo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rtial-Knowledge puol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puolimas su dalinėm žiniom). Auditorius nemažai žino apie taikinį: DNS IP numerius, telefonų numerius serverių, palaikančių “dialin”, e-mail, proxy-serverius ir t.t. šis audito tipas yra tikriausiai pats bendriausias tip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79DA-15DC-498B-86FE-DDD1C810C6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Full-Knoledg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uolimas. Tai atakuotojas su pilnu tiklo žemėlapiu, administratoriaus slaptažodžiais ir visa kita ką jūs galite jam pasiūlyti. Šis auditas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modeliuoja ataką iš vidaus, žinančio žmoga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Jei jūsų tinklas gali išlikti po tokios rūšies audito, jis turi įspūdingą saugumą. Tai gali reti tinklai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Zero-Effect puol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nulinio efekto). Uždedami suvaržymai auditoriui, apribojančiam jį nuo naudojimo atakų, kurios galėtų modifikuoti puolamą sistemą arba sužemintų puolamos sistemos serviso lygį. Tai panašu į auditą produkciją gaminančios sistemos, kai jūs norite pratestuoti, tačiau nenorite trukdyti produkcijos gamyb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566C-C5C2-48AE-93B8-E8E0006C44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dito tip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Full Penetratio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Auditoriui leidžiama modifikuoti sistemą, jei tuo galima įrodyti kad puolimas galimas, nesvarbu kaip tai atsilieps puolamai sistem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o-Holds-Barred Penetratio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Bet kokia technika kuri gali būti panautota yra leistina atakuotojui. Gali būti naudojami kyšiai, socialinė inžinierija, dokumentų vagystė, popieriaus skiaučių tyrinėjimas ir ki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52DD-B3EF-41E3-BFC5-5ED0B6BCC0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ėra garantijos, kad tiriamas tinklas bus saugesnis nei netiriamas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dėl reikalingas tinklo audi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 tip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s turi būti matuojama audito me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s turi atlikti audit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kiami rezultat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077B-79BF-4F46-BEDE-9171717126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Teigiamos pusė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ėkmingas puol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grafišk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tvaizduoja tinklo proble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tuo padidinda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finansavimo šansus papildomam tinklo saugum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Ribotas puol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u nustatytais tikslais ir ribotom atakos priemonėm yra priimtinai nebrang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-holds-barred puol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artimai panašus į tą būdą kuriuo atakos yra daromos realia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286C-A605-427F-9F46-D5BFC54931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Trūku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uol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daugiau matuoj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uditoria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antrybę be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umanu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ei matuoja gynėjo kruopštu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uo kruopštesnis yra audito tipas tu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unkiau yra jį suplanu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Puolimas reikalauja, kad silpnos vietos būtų nustatytos ir ištirtos, ir reikės keletos tokių ciklų tam kad būtų pasiektas puolimo tikslas. Iš anksto sunku pasakyti kiek laiko tai uži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pribojimai,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uriuos jū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uždedate auditoriu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šio tipo audite gali būti būtinais jūsų tinklo apsaugai, bet jie gali duoti nukrypimą nuo realaus atakuotojo pasiekiamų rezultatų ( kuris veiks be apribojimų). Tai gali sukelti iliuziją, kad jūsų tinklas yra saugesnis nei iš tikrųjų y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F482-82EB-4A09-9C92-35DD37B8A0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rūku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odugnus puolimas reikalauja kad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uditorius modifikuotų tinkl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u backdoors( kaip realus atakuotojas). Tai pakeičia sąlygas ir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umažin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jūsų tinklo saugumą. Kadangi audito tikslas yra padaryti tinklą saugesniu, jūs turite susitaikyti su saugumo susilpninimo idėja kaip dalimi proceso pagerinančio jūsų tinklo saugu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s audito tipas reikalauja kad jū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priai pasitikėtumėte auditoriu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udito gale auditorius turės daug jautrios informacijos apie įėjimą į jūsų tinklą. Jūs turite pasirinkti tokį auditorių kuriam galite patikėti tokią informaciją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1251-7AED-45F3-8971-F3506C0D42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 išvad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i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aportas apie sėkmę ar nesėkm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etalus aprašymas kokio tipo atakos pasisek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ali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etalus aprašymas išmėgintų atakų tip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etalus aprašymas atakų, kurios nebuvo išmėgintos dėl uždėtų auditui apribojim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prašymas saugos spragų, kuriuos pastebėjo auditori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simali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ūlomi konfigūraciniai pataisymai arba programinės įrangos atnaujinimai, kurie eliminuotų arba minimizuotų problemas pastebėtas audito metu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60D1-4D35-43FF-8898-E202E0E54B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igūracinė analizė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uditas yra </a:t>
            </a:r>
            <a:r>
              <a:rPr b="0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džiai detalizuotas revizijos sąraš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ekvienas saugumo aspektas yra egzaminu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mas pagal tikrinimo sąrašą ir blogas stovis yra fiksuoja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ei rastas problemų skaičius ir jų aštrumas yra pakankamai žemas, tinklas auditą praein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i yra perdaug problemų, tinklas fiksuojamas kaip nesaug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6B3F-E2A9-4D82-BCD9-4B2F188EB30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onfigūracinė analiz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udito tipas reikalauj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ilno priėjimo prie tinklo galimyb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ilno tinklo žinojimo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Knoledg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aip kad puolamojo audito atvej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dangi tai nėra puolimo tipo auditas, iš auditoriaus nereikalaujama pralaužti tinkl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a gera šio priėjimo pus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ta, kad matavimai gali būti atlikti pilnoje jūsų priežiūroje.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ta gera pus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ta kad matavimus yra lengviau suplanuoti nei puolimo eig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0EC2-3E9E-4B79-BF62-6E42C627FF2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dito etap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ius turi perprasti tinklo dizainą ir konfigūraciją taip pat gerai kaip ir sistemos tiksl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i būti sudaromas audito tvarkarašt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avimai ir duomenų surink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iki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rinkti pakankamai informacijos iš kiekvien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nklo komp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nt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istų atlikti saugumo analiz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i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Yra apklausiami žmonės atsakingi už įvairias operacijas ir tinklo saugą taip pat kaip ir tinklo vartotoja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omen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iz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Surinkti matavimų bei interviu metu duomenys yra analizuojami ir sudaromas tinklo saugumo vaiz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1A23-0B77-4DE9-B075-0D14D9BF17A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dit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uomenų rink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okalbiai su žmonėmis-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terv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ment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cijos apžvalg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Log įrašų tyrim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is tyrimas, matavima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2FBA-4CC6-4366-AB2D-EBE61A92E09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okalbia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nku nusakyti, lengva padaryt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žnai ignoruojam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rtotojai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a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ysadm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dybininka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r žino – matė saugos politik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 jiems galima/ kas ne jų žodži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r jiems prieinamos root teisė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m naudojama sistema, kokie kritiniai sistemos tašk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6A74-4732-4375-8D0D-7A78FD27F2B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menta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 apžvalg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/software inventor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zaci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inklo topologi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 tinklo sandara, maršrutizatoriai, ugniasienės, serveria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Maršrutizatorių / ugniasienių taisyklė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Log įrašai, jų rinkimo taisyklė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iden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8A55-4F05-4328-8B7B-5F18BFC85B9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oceso eig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likite tinklo </a:t>
            </a:r>
            <a:r>
              <a:rPr b="0" lang="lt-L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uditą </a:t>
            </a:r>
            <a:r>
              <a:rPr b="1" lang="lt-L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aty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atestuodami viską kas jums atrodo reikalin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utvarkykit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rastas probl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ikvieskite </a:t>
            </a:r>
            <a:r>
              <a:rPr b="0" lang="lt-L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uditorių iš išorė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leiskite jam atlikti testavim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utvarkykit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rastas probl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ą šį procesą užbaigus turėsite </a:t>
            </a:r>
            <a:r>
              <a:rPr b="1" lang="lt-L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erai apsaugotą tinklą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C89B-E4AF-4100-BC6B-264E1DA30C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Matavi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uri būti sudaromas matavimų pl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s turi būti suderinamas su organizacijos atstov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atavimo įrankiai turi būt patikimi, jų kodai turi būti patikrin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krinama, siekiant įsitikinti, ar tinklą gerai saugo ugniasienės, ar nėra skylių programinėje įrangoje, ar gerai fiksuojamos problemos log įrašu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F12C-DA2E-45A5-9993-FC928FA571E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Fizinė saug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talpų sauga – ypač serverių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s gali įeiti, ar yra registracijos žurnalai, kas turi rak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riėjimas prie hostų, serveri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ip paliekami kompiuteriai pertraukų met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psauga patalpų nuo stichinių nelaimi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13C4-0332-49A1-A87A-5D9F8B616C9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Rapor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orto ruoši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Yra paruošiamas detalus raportas aprašantis tinklą ir visus trūkumus ar potencialius trūkumus, kurie buvo atrasti analizės eigoj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orto pristaty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Raportas pristatomas tiriamai organizacijai su trūkumų aptarimu ir potencialiu galimu patvarkymu ar siūlomu dizaino pakeitim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5F4F-5691-4993-B22E-6794C3CD990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igiamos pusė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s audit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ruopštesn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e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uolamas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įvertinamas sumanumas ir kruopštumas jūsų darbuotoj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Matavimai gali būti atliekami tiesioginėje jūsų priežiūroje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okiu būdu jūs žinote tiksliai kokia informacija apie tinklą buvo parodyta auditori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utoriza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gali būti garantuojama auditoriui tik duomenų surinkimo faze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būti auditas atlikt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u maža arba be jokios įtakos sistemos veikl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viau sudary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varkarašt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olimo atveju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AA0D-35AB-4504-AAD8-750597E8E67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rūku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Daugiau išlaidų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nei puolamo audito atvej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eikalauja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aukštai kvalifikuoto auditoriau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, ne vien tik įrankius įvaldžiusio žmoga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eikalingas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platus matavi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omeny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imam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š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organizacijos tinklo jų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dorojimui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D9B1-C78A-4200-8997-3B2BD47498D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v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io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etalus raportas, aprašantis trūkumus rastus analizės met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a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iskusija apie tai kaip šie trūkumai gali būti ištaisyti ar išeliminuo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sima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nklo dizaino analiz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odymas šaltinių, iš kurių galima gauti atnaujintą programinę įrang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AEA5-8DE6-48C0-A49F-534B9F3988B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 jūs tikitės iš aud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 supratus, jums bus lengviau pasirinkti auditorių ir jums seksis geriau su juo bendrauti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mto audito tikslas turėtų būti  - atskleisti įdomią ir išsamią informaciją apie jūsų tinklo saugu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mtas audit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 Kai kurie auditai nėra rimti, nors yra atlikti su deramu stropumu. Pavyzdžiu gali būti auditas, kurio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kalauja biznio partneriai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mt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dito metu siekiama atskleisti silpnas saugumo puses, kad jas galima būtų pataisy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uopšči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likto audito esmė yra parodyti, kad nėra rimtų silpnumų jūsų saugu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EC03-625C-4391-AC84-7C16D58FC4D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dito rezultat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 rezultati bus įdomūs tik tu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veju, jei jūs jų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žinosite iš anks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i jūs ruošiatės atlikti auditą, </a:t>
            </a:r>
            <a:r>
              <a:rPr b="0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ūs turėtumėte užtaisyti visas skyle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tada pažiūrėti, ką pasakys auditorius. Nerašyta audito žaidimo taisyklė yra ta, kad auditorius turi kažką rast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udito informacija turi būt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sa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 Jūs norite sužinoti n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k kas yra blogo su tinklo saugumu, bet norite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inoti viską kas įmanoma apie j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Kuo daugiau įdomių faktų auditorius gali jums atskleisti, tuo jums geria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B17B-AEB3-4F64-9D59-FFF19AC166E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iškus problemos formul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žnai sutinkamas auditorių nepasitenkin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tai, kad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tojai nežin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 jie nor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t nenori kad jiems būtų pasakyta ką jie ga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Reikia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kirt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m laik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pateik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ai kurių minčių auditoriui, kaip pavyzdžiui apie matavim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kuriuos reikia atlikti, kokius tinklo elementus norima ištir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s iš to gausite didesnę naudą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355E-BDE6-40D0-A47C-FBE65A7411A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ros sritys vertos dėmesio yr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ungtis tarp Interneto ir jūsų tink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ungtys tarp jūsų tinklo ir biznio partneri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iemonės kuriomis naudojasi jūsų darbuotojai nutolusiame ryšyje su darbo vie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idinė tinklo infrastruktūra (DNS serveriai, failų serveriai, pašto serveria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idinė specifinė-biznio infrastruktūra ( duomenų bazių serveriai, procesų kontrolės serveriai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rbalaukio (desktop) aplin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cesai ir procedū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lanai atstatymui po nelaimi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F49C-5637-43E9-BF86-12230528B71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di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 u="sng">
                <a:solidFill>
                  <a:srgbClr val="000000"/>
                </a:solidFill>
                <a:uFillTx/>
                <a:latin typeface="Times New Roman"/>
              </a:rPr>
              <a:t>Tai susiję su </a:t>
            </a:r>
            <a:r>
              <a:rPr b="0" lang="lt-LT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mažom problemom, kaip pavyzdžiu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ip atlikti savo tinklo auditą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ą tikrint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s, jeigu problemos lengvai nepasitais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p rasti auditorius iš išorės, kuriais galima būtų pasitikėti?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DC26-EED2-4BF9-B095-969B90AE80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tas </a:t>
            </a:r>
            <a:r>
              <a:rPr b="0" i="1" lang="lt-LT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spektas audito yra žinojimas, kurios mašinos turi būti audituojamos ir kurios n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igūracinei analizei gal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sirink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letą skirtingų krypč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iklausomai nuo to , ką norite pamatuot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vyzdžiui jūs galite audituo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tovu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 visos mašinos duotoje grupėje prisilaiko, remiasi tais pačiais standartai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a jūs galite audituo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pnum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nkant po vieną mašiną iš skirtingų grupių sulyginkite jas pagal kritinius saugumo rodikli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olam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dito atveju jūs norėsite atrinkti kuri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šin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eina už rib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igūracinė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alizės atveju tikriausia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eliminuos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š nagrinėjim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ikartojanči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nfigūracijas tikslu geriau įtrauk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kali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nfigūracijas, kad gauti platesnę vaizdo perspektyvą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1435-E00D-477D-914C-674448F7C1E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Kas turėtų atlikti auditą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iaus parinkimas daug priklauso nu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kl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kurį rengiamasi audituo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 jūs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žiūri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 to tinklo saugu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atyviai paprastiems tinklams daug kas gali atlikti naudingą ir funkcionalų auditą.  Ekstremaliai komplikuotiems tinklams jūsų pasirinkimas bus labiau ribot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u atvej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ūs turite pasirinkti auditorių iš šių grupių: </a:t>
            </a:r>
            <a:r>
              <a:rPr b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priklausomi konsultantai, saugumo firmos, ir audito namai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D6BF-4C34-4D0C-8CD2-6E2A4230619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Auditą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ykdančios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organizacijos parink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eikia rinktis tokią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ciją, kur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gebė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likti tokio lygio auditą, kokio jūs nori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gebėtų apdor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chnines detales, kurios jums reikalin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ūtų patiki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ūsų duomenų požiūriu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ius formal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yšius su jūsų biznio partneriai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ius neformal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yšius su jūsų biznio partneriais ar galimais atakuotoj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6719-C1EB-4053-820C-FA4217FC23E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riklausomi konsultanta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itlingiausi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ditorių pasirinkimų skaičiumi grupė. Šie konsultantai gali būti diapazone nu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kščiausi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ipsnio saugumo ekspertų  iki atakuotoj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e žiūri kaip pasinaudoti kažkuria sistema bei tokių kurie turi parsisiuntę nemokamą įrangą arba pasiskaitę knyg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žvilgiu šių nepriklausomų konsultantų galima pasakyti, kad tie, kurie žino, ką jie daro yra dažniausia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ugais su tais iš “tamsios pusė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dant nepriklausomus konsultantus tenka susidurti su ta pačia praktika kaip samdan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ist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t kelian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ugiau reikalavim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jei tik gal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nformacijos neskleidimo susitarimai, šešėliniai patikrinimai, interviu yra svarbiu elementu ši</a:t>
            </a:r>
            <a:r>
              <a:rPr b="0" lang="lt-LT" sz="2400" spc="-1" strike="noStrike">
                <a:solidFill>
                  <a:srgbClr val="cc0000"/>
                </a:solidFill>
                <a:latin typeface="Times New Roman"/>
              </a:rPr>
              <a:t>uo atvej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7680-3FC2-4DC6-BCB5-D2E76B96641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ivalumai/trūku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rivalu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antykinai lengva suras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būti efektyvūs kainos atžvilgi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rtais galima rasti talent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rūku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tipriai svyruoja kokyb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tikimumas gali būti problematišk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nku garantuoti nuoseklumą ir audito standartų laikymąs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ma sulaukti paslėptos atak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 atsirasti neformalus kanalas atakuotojam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7EEF-B638-4B03-A830-C8078BC4136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os firm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ompanijos, kurios specializuojas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ugumo klausimuose. Jas gali sudaryti konsultatų grupė, bet dažniau jų audito grupė yra dalimi didesnio, su saugumu susijusio bizn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žniausia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vačios, bet kai kurio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mybinės ir valdymo organizacijos turi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 ir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dito grupe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inaudojimas gamybinės organizacijos grupe gali duoti jums galimybę prieiti prie aukščiausio lygi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en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et jūs turite būti atidūs jei nenorite, kad audito rezultatai taptų tos grupė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k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nkim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limi. ( paprastai , grupės kurios tai daro užtikrina gerą anonimiškumą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413D-D0E5-4DA6-ACDC-E63A8A3D4C1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ivalumai/trūku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valu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tikras jų </a:t>
            </a:r>
            <a:r>
              <a:rPr b="0" lang="lt-LT" sz="2800" spc="-1" strike="noStrike">
                <a:solidFill>
                  <a:srgbClr val="3333ff"/>
                </a:solidFill>
                <a:latin typeface="Times New Roman"/>
              </a:rPr>
              <a:t>biznis, tai kokybė turi tendenciją būti aukš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e tikriausiai jau yra jums padarę </a:t>
            </a:r>
            <a:r>
              <a:rPr b="0" lang="lt-LT" sz="2800" spc="-1" strike="noStrike">
                <a:solidFill>
                  <a:srgbClr val="3333ff"/>
                </a:solidFill>
                <a:latin typeface="Times New Roman"/>
              </a:rPr>
              <a:t>šešėlin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atikrinimą. Ir jei jie to nepadarė, tai kažką sako apie fir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e tikriausiai yra </a:t>
            </a:r>
            <a:r>
              <a:rPr b="0" lang="lt-LT" sz="2800" spc="-1" strike="noStrike">
                <a:solidFill>
                  <a:srgbClr val="3333ff"/>
                </a:solidFill>
                <a:latin typeface="Times New Roman"/>
              </a:rPr>
              <a:t>susipažin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u </a:t>
            </a:r>
            <a:r>
              <a:rPr b="0" lang="lt-LT" sz="2800" spc="-1" strike="noStrike">
                <a:solidFill>
                  <a:srgbClr val="3333ff"/>
                </a:solidFill>
                <a:latin typeface="Times New Roman"/>
              </a:rPr>
              <a:t>naujausio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3333ff"/>
                </a:solidFill>
                <a:latin typeface="Times New Roman"/>
              </a:rPr>
              <a:t>problemo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Ir jei jie tuo nepasižymi, tai pasako dar kai ką apie fir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rūku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žnai </a:t>
            </a:r>
            <a:r>
              <a:rPr b="0" lang="lt-LT" sz="2800" spc="-1" strike="noStrike">
                <a:solidFill>
                  <a:srgbClr val="3333ff"/>
                </a:solidFill>
                <a:latin typeface="Times New Roman"/>
              </a:rPr>
              <a:t>turi per daug klient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ibotai </a:t>
            </a:r>
            <a:r>
              <a:rPr b="0" lang="lt-LT" sz="2800" spc="-1" strike="noStrike">
                <a:solidFill>
                  <a:srgbClr val="3333ff"/>
                </a:solidFill>
                <a:latin typeface="Times New Roman"/>
              </a:rPr>
              <a:t>brangū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90FE-78A5-47E3-BA53-75F3FC7006F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 nama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edaug tokio tip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dito fir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Kai kurios iš jų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ur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es giluminiam saugumo auditavim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valu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tipriai detalus rapor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tiprūs metodologišk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rūku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uditavimo metodologija gali bū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epakankam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lanks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ad pasakytų jums tai, ką jūs norėtumėte sužino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ebūti taip techniškai pagrįst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aip jums norėtųs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rast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na brang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0F88-E27F-4159-A55C-EBB49FC2E71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Reikalavimai auditori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esionalu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argu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as turi nekelti pavojaus ne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iam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kl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uris yra audituojamas ne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trauktiems žmonėm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as niekad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li sugriau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ganizacij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kdomo servis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okiais atvejais išskyrus iš anksto numatytus bei tiksliai aprašytus leidimu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lnas atskleid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umo auditas gali būti susijęs su kartais keistu auditoriaus elgesi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ius turėtų aprašyti bent jau bendrais bruoža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ą jis rengiasi daryti, jūs turite duoti tam sankciją geriau raštišką prieš jam padarant ką nors neįprast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CF59-BFC9-42C5-B28B-93DBE0102F1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rai parašytas raportas ir puikus pristaty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ius turi sukurti gerai apgalvotą raportą, kuris būtų suprantamas ir pateiktų gerai patvirtintas išvad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acija turėtų būti padaryta su galimybe paklausti auditoriaus detalių klausim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rantija, kad jūsų duomenys bus traktuojami teising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eš prasidedant auditui jūs ir auditorius turite susitarti apie audito metu surinktų duomenų, arba iš jų išvestų duomenų saugojimą, panaudojimą ir dispoziciją. Auditorius turi labai stengtis laikytis šio susitarimo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iežtas konfidencialu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9CC3-D76A-43E7-88B5-7B21F2D70CE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as tas saugos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udit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 tikrinimas paremtas priimta saugos politika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 galimos rizikos įvertinim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 tinklo konfigūracijos tyrimas bei įvertin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io, saugaus funkcionavimo įvertinim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un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jų saugos įvertinima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F1A3-6D46-43E8-A796-1DFD54D9C5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 tikisi auditorius iš jūsų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aus elgesio” laišk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ūs mokate auditoriui už kai kurių saugumo pusių testavimą. </a:t>
            </a:r>
            <a:r>
              <a:rPr b="1" lang="lt-LT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Jis turi būti protingai laisv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urėti imunitetą) nu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estavimo pasekmių. To užtikrinimui auditorius turi teisę prašyti raštiško patvirtinimo, atleidžiančio jį nuo kaltės už tai ką jūs arba jis susitarė leis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ratingas elgesy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ekvienas saugumo auditorius turėjo patirties, kai jis buvo sekamas iš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os darbuotojo, kuris laikė savo pareiga perspėti bendradarbius, kad prasidėjo audita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E5C7-15EF-4EEE-9EBB-0146EF643B3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sipareigojimų laikymas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varbu kiek išankstinių perspėjimų yra duota, auditoriai retai kada baigia auditą su visa informacija ar tomis priėjimo galimybėmis, kurios buvo žadėtos. Jei jūs pasakėte, kad išsiųsite kopiją savo saugumo politik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kančią savaitę, tai to reikia ir laikyt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ūs – paskutinės minutės pakeitim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utės, kai auditorius jau laukia jūsų ofise – tai ne laikas keisti žaidimo taisykles. Taip pat jūs turite pripažinti kad auditoriaus laikas kainuoja pinig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tinis nepriklausomu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i jūs esate suinteresuotas rimtu auditu, tai reikia atminti, kad auditorius nėra ginklu prieš jūsų priešus iš kito skyriaus. Iš auditoriaus negalima tikėtis kad jis dalyvaus vidinėje jūsų organizacijos politikoje, o bandymas t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yti sumažins audito reikšm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D26E-1CA7-47F5-B5E6-F9888E3EB6F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p turi būti atliekamas audita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yb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tariamas audito dydis ir tikslai. Grubus tinklo aprašymas yra pateikiamas auditori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audi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rieš audit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ankstiniai perspėjimai apie bet kokią r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lingą informaciją. Susitarimai apie audito tvarką ir priėjimą prie personalo bei dokumentacijos yra padaromi. Detalus tinklo aprašymas pateikiamas auditori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omenų rinkimas sistemoj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kle atliekami matavimai. Vykdomi interviu su pagrindiniu personalu. Daromi susitarimai dėl papildomos informacijos pateiki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5D23-9A1B-4042-B9C1-386A8C57B43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160" y="457200"/>
            <a:ext cx="79246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izė namuos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analizuojami surinkti duomenys. Gaunama papildoma informacija. Paruošiamas detalus raportas. Numatoma prezentaci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zenta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tu su suinteresuotomis grupėmis atliekama viena ar kelios prezentacijos. Galimi atsakymai į klausim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k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ūsų organizacija reaguoja į auditą adresuodama įvairius klausimus techniniam lygiui, kartais paneigiant auditoriaus išvadas, nors į jas reikia įsiklausyti kaip į galimo pavojaus ženkl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ęsiny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ius gali atlikti papildomus matavimus siekiant įsitikinti, kad organizacijos priimti sprendimai buvo teising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64D7-B730-4CB7-887C-66F4D310550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 rezultat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ikia sudary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detal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eiksmų plan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agal nurodytas problemas parenkant žmones jų sprendimui, taisym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taisymai daromi saugumo administratoriau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uoj pa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netempiant tai į kitas savaites ar mėnesi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ma suplanuoti dar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pildo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uditą po pataisymo ( nors tai brangu) įsitikinimui, kad komanda gerai susidorojo su problemom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8549-23E4-4D3C-9641-A02ED6DCFDE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ada atlikt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udit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enumatytais, kritiškais atveja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ukūrus tinkl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eguliariai pagal tvarkarašt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9321-1849-4097-ABD1-36E67C5BEA8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dit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a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s 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s k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2­24 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ėnesi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idelis tinklas k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2­24 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ėnesi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Lokalus tinklas k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2 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ėnesi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gniasienė k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6 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ėnesia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209B-2740-4E62-99A0-736982FB97C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1114560" y="2125800"/>
            <a:ext cx="6916680" cy="2546280"/>
            <a:chOff x="1114560" y="2125800"/>
            <a:chExt cx="6916680" cy="2546280"/>
          </a:xfrm>
        </p:grpSpPr>
        <p:sp>
          <p:nvSpPr>
            <p:cNvPr id="150" name=""/>
            <p:cNvSpPr/>
            <p:nvPr/>
          </p:nvSpPr>
          <p:spPr>
            <a:xfrm>
              <a:off x="1114560" y="2125800"/>
              <a:ext cx="454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14560" y="2125800"/>
              <a:ext cx="6916680" cy="25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6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2" name="file3968100_DATORIprehisordi5" descr=""/>
          <p:cNvPicPr/>
          <p:nvPr/>
        </p:nvPicPr>
        <p:blipFill>
          <a:blip r:embed="rId1"/>
          <a:stretch/>
        </p:blipFill>
        <p:spPr>
          <a:xfrm>
            <a:off x="1371600" y="1179360"/>
            <a:ext cx="6553080" cy="438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9B56-F350-4304-ADF7-70904A41BE4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okie galimi saugos audito tipa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gal tiriamą objektą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Orientuoti į 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o saugos tyrim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Orientuoti į ugniasienės teikiamos saugios užtvaros tyrim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Orientuoti į lokalaus tinklo saugą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Orientuoti į didelių tinklų saugą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8B3B-7007-4305-93BE-C885D6F42F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gos politik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menta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s yra saugos politik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augos politikos komponentė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s turi ją parašy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ip ilgai ji turi būt nekeičiam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24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s, jei tokios politikos nė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ita dokumentaci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8A93-6F74-42E5-8B1B-1A16CE4B8A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augos politikos komponentė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s gali </a:t>
            </a:r>
            <a:r>
              <a:rPr b="0" lang="lt-LT" sz="2800" spc="-1" strike="noStrike">
                <a:solidFill>
                  <a:srgbClr val="00cc99"/>
                </a:solidFill>
                <a:latin typeface="Times New Roman"/>
              </a:rPr>
              <a:t>naudoti </a:t>
            </a:r>
            <a:r>
              <a:rPr b="1" lang="lt-LT" sz="2800" spc="-1" strike="noStrike">
                <a:solidFill>
                  <a:srgbClr val="00cc99"/>
                </a:solidFill>
                <a:latin typeface="Times New Roman"/>
              </a:rPr>
              <a:t>resurs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cc99"/>
                </a:solidFill>
                <a:latin typeface="Times New Roman"/>
              </a:rPr>
              <a:t>Tinkamas</a:t>
            </a:r>
            <a:r>
              <a:rPr b="0" lang="lt-LT" sz="2800" spc="-1" strike="noStrike">
                <a:solidFill>
                  <a:srgbClr val="00cc99"/>
                </a:solidFill>
                <a:latin typeface="Times New Roman"/>
              </a:rPr>
              <a:t> resurs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audoji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cc99"/>
                </a:solidFill>
                <a:latin typeface="Times New Roman"/>
              </a:rPr>
              <a:t>Prieinamum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užtikrini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lt-LT" sz="2800" spc="-1" strike="noStrike">
                <a:solidFill>
                  <a:srgbClr val="00cc99"/>
                </a:solidFill>
                <a:latin typeface="Times New Roman"/>
              </a:rPr>
              <a:t>autorizacija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em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os 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ministrator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a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ivileg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j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rtotojo teisė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tsakomybė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ip elgtis su 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jautri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saugos požiūriu informacij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Elgsena atakų metu, sistemos atstatymas po atakų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A268-E004-4D83-B897-80DAED005A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FC 1244 ­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``Site Security Handbook''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pibrėžia saugo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k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amp; proced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ūr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kos įvairov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ret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cij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blemų 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tif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kavi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akcija į incident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stemų palaikymas (patch’a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[ Lietuvos standartai susiję su saugos klausimai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5ECA-9A2B-4B82-BAA8-D620DB48F1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11:37:31Z</dcterms:created>
  <dc:creator>Kristina</dc:creator>
  <dc:description/>
  <dc:language>en-US</dc:language>
  <cp:lastModifiedBy>Kristina</cp:lastModifiedBy>
  <dcterms:modified xsi:type="dcterms:W3CDTF">2004-12-07T17:27:19Z</dcterms:modified>
  <cp:revision>16</cp:revision>
  <dc:subject/>
  <dc:title>13 paskaita</dc:title>
</cp:coreProperties>
</file>