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0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6FB2-AB58-4543-80DE-CE4A1D4DB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0C6A-9095-415B-B1E3-94A66B64B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1BF1-3D8A-4F0B-86AD-6874189F7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9B76-85EF-4FB2-8B16-93DCAEEAA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794E-EC8A-4642-B78C-F81A79F94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C9BD-8787-48F0-BBA4-FEE6B571D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C049-AC3D-46B2-A4CE-E8DC588BF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74BD-543B-43A2-A782-210994F30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496F-0AAD-4E41-9739-7B08C1DE3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5CF9-3212-4917-9B1C-42DC69BD9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8D5-E797-4A75-B2E5-1F4AEADA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D36-59F7-42DC-B5E3-48C45B01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D21-0F40-4863-B0BD-58A3C9D4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F5F-9295-4314-B371-6CF3B908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3BE-4411-4C24-92A6-6A3CD7A6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2ED-EB63-4052-9145-D462EC38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AAA-1069-4C98-902F-C0D595AB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D07F-D1CF-4CB3-8E59-E993D738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602-0565-4575-A433-0FB51C0C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A9D-8843-4AC7-BBD4-392FE70B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2AA-74E5-44E4-99E3-EBA55A06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EC3-EBE9-41B3-93B4-F5C8EAB8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09E3-0792-467D-B2D6-CB98D5994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67280" y="43430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1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le1570572_loveyou_datori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411480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31B-4764-4F34-9A4F-D0729480D9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tikr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uojamas pasirašytas dokumentas, pagal reikalą panaudojant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uojamas skaitmeninis parašas, naudojant viešą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rinama kontrolinė su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rinama data ir laik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DEE-B87B-4992-AC05-FFDF55F489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D5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 raktu sena versi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žino atsitiktinį raktą k naudodamasis siuntėjo viešu ra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tai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nkatenacijai pranešimo ir rak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lygina rezultatą su atsiųsta kontroline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“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ataka – pranešimą galima perimti, sužinoti k, pakeisti pranešimą ir pasiųsti gavėjui, jis to nej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3FC-E199-4555-9C9D-FE82C4BB96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Monotype Corsiva"/>
              </a:rPr>
              <a:t>Gal bandyti tai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r-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ubl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s atsitiktinį raktą naudodamas sa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tų rakt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taiky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5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katenacijai pranešimo ir rak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lygins gautą rezultatą su atsiųsta kontroline suma su praneš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lima “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ataka – perimamas pranešimas, pakeičiamas raktas, pranešimas ir siunčiama gavėj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758-E478-4841-BF60-BB203A8AB2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D5</a:t>
            </a:r>
            <a:r>
              <a:rPr b="0" lang="lt-LT" sz="4400" spc="-1" strike="noStrike">
                <a:solidFill>
                  <a:srgbClr val="000000"/>
                </a:solidFill>
                <a:latin typeface="Arial Black"/>
              </a:rPr>
              <a:t> su rakt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r-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ublic), s-priv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stato k naudodamas siuntėjo viešą raktą ir gavėjo privat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D5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katenacijai pranešimo bei rak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lygina rezultatą su atsiųsta kontroline su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aka “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negali sužinoti k, nei jo pakei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inka, kai yra tik vienas gavė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B4E-5CF1-4738-8CD2-976B2358AB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D5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su raktais 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ntė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E(MD5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i="1" lang="lt-LT" sz="1800" spc="-1" strike="noStrike">
                <a:solidFill>
                  <a:srgbClr val="000000"/>
                </a:solidFill>
                <a:latin typeface="Courier New"/>
              </a:rPr>
              <a:t>+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i="1" lang="lt-LT" sz="1800" spc="-1" strike="noStrike">
                <a:solidFill>
                  <a:srgbClr val="000000"/>
                </a:solidFill>
                <a:latin typeface="Courier New"/>
              </a:rPr>
              <a:t>+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, s-priv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ži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damas siuntėjo viešą rakt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k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anešim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lygina rezultatą su gauta kontroline suma praneš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-in-the middl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uotojas negali pakeisti pranešimo, nes kitas pranešimas duos kitą MD5(m) reikšmę, kurios nebus galima užšifruo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4D5-DAF9-4A04-BEFF-A8B0C8D585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ū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dien auga skaičius aplikacijų, naudojančių saugius protokolus. Tai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erc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als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tancinis moky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E6C-64CB-4926-8AAC-F9795EC497B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2280" y="533160"/>
            <a:ext cx="7245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000" spc="-1" strike="noStrike">
                <a:solidFill>
                  <a:srgbClr val="cc0000"/>
                </a:solidFill>
                <a:latin typeface="Arial"/>
              </a:rPr>
              <a:t>Web </a:t>
            </a:r>
            <a:r>
              <a:rPr b="1" lang="lt-LT" sz="4000" spc="-1" strike="noStrike">
                <a:solidFill>
                  <a:srgbClr val="cc0000"/>
                </a:solidFill>
                <a:latin typeface="Arial"/>
              </a:rPr>
              <a:t>reikalavimai saug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2120" y="14479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Didėjantis komercinis bei profesinis panaudojimas kelia griežtesnius saugos reikalavimus web paslaug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apriboti priėjimą prie web puslapi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Reikalavimas </a:t>
            </a: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autenti</a:t>
            </a: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fikuoti serverį iš kliento pusės bei klientą iš serverio pusė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galėjimo patvirtinti šaltinį, vientisumą web puslapių, jų nepaneigiamumo (</a:t>
            </a: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non-repudiation</a:t>
            </a: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) tiksl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turėti konfidencialius web persiunti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Visa tai sukelia daug  saugos problemų, kurios sprendžiamos skirtingame lygy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9BA-83DB-4372-A446-3061AA7B66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TTP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ykdoma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a saugie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ersiuntim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S serve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s paprastai sukas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43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or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raukia serverio patikrinimą pagal sertifikat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naudoja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zuotą patikimą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t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 šaltin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E2B-76B1-4360-8717-D1B5B333AE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ū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au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l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n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t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įtraukia šifravimą kaip aplikacinio lygio protokolo sudedamąją dal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raukta šifravim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 y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 dali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radus stipresniems šifravimo įrankiams reikia keisti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71F-8423-470D-A534-DC1DF72A53D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2120" y="456840"/>
            <a:ext cx="7385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000" spc="-1" strike="noStrike">
                <a:solidFill>
                  <a:srgbClr val="cf0e30"/>
                </a:solidFill>
                <a:latin typeface="Arial"/>
              </a:rPr>
              <a:t>S</a:t>
            </a:r>
            <a:r>
              <a:rPr b="1" lang="lt-LT" sz="4000" spc="-1" strike="noStrike">
                <a:solidFill>
                  <a:srgbClr val="cf0e30"/>
                </a:solidFill>
                <a:latin typeface="Arial"/>
              </a:rPr>
              <a:t>augūs transporto kanala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1960" y="1980720"/>
            <a:ext cx="7034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Jie realizuojami naudojant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ecure Socket Layer (SSL)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, pasiūlytą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Netscape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Užtikrina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fikaciją tarp 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lient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o ir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erver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o naudojant tiek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metr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nį tiek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s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metr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nį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viešo rakto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šifravimą ir skaitmeninius paraš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Užtikrina konfidencialum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Yra nepriklausomi nuo jokio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pl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in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o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proto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ol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054-198D-4F24-BC63-6B9FC0DF54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ui keliamas uždavinys – įsitikinti, kad esybė tikrai yra tuo, kuo prisist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uojami gali būti tiek klientai, tiek serveri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o procesas yra nusakomas autentifikavimo protokol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F31-6DF0-4081-B4F6-149F34B011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84240" y="624852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5320" y="6248520"/>
            <a:ext cx="267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457200"/>
            <a:ext cx="3089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300" spc="-1" strike="noStrike">
                <a:solidFill>
                  <a:srgbClr val="bc3700"/>
                </a:solidFill>
                <a:latin typeface="Arial"/>
              </a:rPr>
              <a:t>SS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990720"/>
            <a:ext cx="8001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S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tokolas naudojas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nkų paspaud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rocedūra, kurios metu tiek klientas, tiek serveris tarpusavyj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entifikuojas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pasiekia susitarimo dėl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lientui susijungus su serveriu, serveris pasiunčia sa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eš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ą, b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tifika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lientui. Klientas patikrina sertifikatą naudodamasis patikimų sertifikatų saraš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 to klient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ener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imetrinį raktą, kurį siunčia serveriui, užšifruotą serverio viešu raktu. Šis raktas panaudojamas 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ster rak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kančių duomenų konfidencialumui užtikri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būtinai, tačiau ir klientas gali būti serveri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entifik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tam ir klientas turi turėti raktų porą ir sertifika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526-0219-4EE1-A572-75070067AB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6500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700" spc="-1" strike="noStrike">
                <a:solidFill>
                  <a:srgbClr val="bc3700"/>
                </a:solidFill>
                <a:latin typeface="Arial"/>
              </a:rPr>
              <a:t>SS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S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duoda jokios autentifikacijos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web d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yra tiesiog saugus transpoto kana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Sockets Layer (SSL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–tai naujai įvedamas  lygis, kuris užtikrina saugų kanalą per TCP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L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transporto lygio saugos standartas, pagrįstas SSL.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port Layer Security IETF standard based on S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8EA-BC71-471D-A658-5BDB9940C6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34120" y="1676520"/>
            <a:ext cx="2971800" cy="2743200"/>
            <a:chOff x="5334120" y="1676520"/>
            <a:chExt cx="2971800" cy="2743200"/>
          </a:xfrm>
        </p:grpSpPr>
        <p:sp>
          <p:nvSpPr>
            <p:cNvPr id="162" name=""/>
            <p:cNvSpPr/>
            <p:nvPr/>
          </p:nvSpPr>
          <p:spPr>
            <a:xfrm>
              <a:off x="5334120" y="1676520"/>
              <a:ext cx="297180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4120" y="2362320"/>
              <a:ext cx="2971800" cy="685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S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34120" y="3048120"/>
              <a:ext cx="2971800" cy="68580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C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3733920"/>
              <a:ext cx="2971800" cy="685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38080" y="1676520"/>
            <a:ext cx="2971800" cy="2743200"/>
            <a:chOff x="838080" y="1676520"/>
            <a:chExt cx="2971800" cy="2743200"/>
          </a:xfrm>
        </p:grpSpPr>
        <p:sp>
          <p:nvSpPr>
            <p:cNvPr id="167" name=""/>
            <p:cNvSpPr/>
            <p:nvPr/>
          </p:nvSpPr>
          <p:spPr>
            <a:xfrm>
              <a:off x="838080" y="1676520"/>
              <a:ext cx="297180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2362320"/>
              <a:ext cx="2971800" cy="685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S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3048120"/>
              <a:ext cx="2971800" cy="68580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C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3733920"/>
              <a:ext cx="2971800" cy="685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2057400"/>
            <a:ext cx="152424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2666880"/>
            <a:ext cx="1524240" cy="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3352680"/>
            <a:ext cx="1524240" cy="0"/>
          </a:xfrm>
          <a:prstGeom prst="line">
            <a:avLst/>
          </a:prstGeom>
          <a:ln w="57240">
            <a:solidFill>
              <a:srgbClr val="cc66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4038480"/>
            <a:ext cx="1524240" cy="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4429080"/>
            <a:ext cx="4511880" cy="1057320"/>
          </a:xfrm>
          <a:custGeom>
            <a:avLst/>
            <a:gdLst/>
            <a:ahLst/>
            <a:rect l="l" t="t" r="r" b="b"/>
            <a:pathLst>
              <a:path w="2842" h="666">
                <a:moveTo>
                  <a:pt x="7" y="23"/>
                </a:moveTo>
                <a:lnTo>
                  <a:pt x="0" y="666"/>
                </a:lnTo>
                <a:lnTo>
                  <a:pt x="2842" y="666"/>
                </a:lnTo>
                <a:lnTo>
                  <a:pt x="2842" y="0"/>
                </a:ln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1DE-1739-4D45-9D8D-4856B84257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L/TL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prival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nepriklausomas nuo aplikacijų ly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traukia derybas, kurių metu yra susitariama dėl bendrų  šifravimo metodų, kurie bus naudojami perdavimu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eidžia lengvai įjungti naujus metod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586-010D-4637-98FF-B3B404E583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Sockets Layer (SSL) protoc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iai sukurtas Netscapui , SSL buvo visuotinai priimtas  World Wide Web autentifikacijai ir šifravimui komunikacijų, vykstančių tarp klientų ir serve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05120" y="3733920"/>
            <a:ext cx="4952880" cy="24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8CB-91DF-425A-991E-E2918A2C3D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L funkcij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erverio autentifik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vartotojui patvirtinti serverio identiškum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kliento autentifikacij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serveriui įsitikinti vartotojo identišku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uotas SSL ryšy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 inform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 tarp kliento ir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ifruojama siunčiančios programinės įrangos ir dešifruojama priimančios programinės įrangos, tuo užtikrinant aukštą konfidencialumo lyg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C19-D153-436F-9334-AE2C31E67B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kol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dar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 sub-protokol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įrašo (record) protokol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-paspaudimo protokol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-paspaudimo protokolas įtraukia SSL įrašo (record) protokolą pasikeitimui eile pranešimų tarp SSL-palaikančio serverio ir SSL palaikančio kliento, kai jie pirmą kartą įkuria SSL ryš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įrašo (record) protokolas nusako formatą, kuris naudojamas duomenų perdavimu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D70-81F2-4D68-82CE-192B23B485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esijos vis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sideda apsikeitimu pranešim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skirtas sekančių veiksmų palengvinimu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ient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klientui ir serveriu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rinkti šifrav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us ar šifrus, kuriuos abu palaiky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valoma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iu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ti viešų raktų šifravimo techniką generavimu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ai naudojamų paslapč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ared secr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kurti šifruotą SSL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957-7CA1-4839-837E-58CA7F2314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kolas naud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rų šifr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naudojama ir viešo-rakto ir simetrinis šifravim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ai ir serveriai gali palaiky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ingu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nkin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o protokolas apsprendžia, kaip serveris ir klienta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a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šifravimo rinkinius jie naudos vienas ki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davimui,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jos rak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steigim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59B-4E8B-4867-99ED-747A043FA0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Naudojami šifravimo algorit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metrinis šifravimo algoritm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tmeninio paraš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oritmas, dalis skaitmeninio autentifikav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da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ų pasikeitimo algorit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5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Digest algorit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2 and RC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ravimo šifr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SA Data Secur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o rak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as skirtas šifravimui ir autentifikacij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key exchange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keitimo rak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-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h Algorit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JACK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metrinis algorit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55C-C50B-4004-9D01-B7CAECAB02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rijų-pusių rankų paspaud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vimo protokol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13560" y="1260360"/>
            <a:ext cx="2378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HK, SH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raktai, kurie žinomi abiem pusė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89880" y="2860560"/>
            <a:ext cx="245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vus šį pranešimą kliento identiškumas nėra ži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257800" y="3276720"/>
            <a:ext cx="1447920" cy="3808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24180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ame taške klientas žino serverio identiškumą, nes jis iššifravo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4191120"/>
            <a:ext cx="914400" cy="7596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89880" y="4765680"/>
            <a:ext cx="245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ame taške serveris žino kliento identiškumą, nes jis iššifrav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14640" y="4876560"/>
            <a:ext cx="114300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03680" y="5908680"/>
            <a:ext cx="344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sikeičiama naujais sesijos rakt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038480" y="5257440"/>
            <a:ext cx="533520" cy="76212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79640" y="2971800"/>
            <a:ext cx="649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Cli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79840" y="297180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Ser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200400"/>
            <a:ext cx="1800" cy="2664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4520" y="3220920"/>
            <a:ext cx="1800" cy="2662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62240" y="3365640"/>
            <a:ext cx="2370240" cy="536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271680" y="3936960"/>
            <a:ext cx="2376720" cy="44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0886600">
            <a:off x="3503880" y="502920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SK, S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62240" y="4411800"/>
            <a:ext cx="2376720" cy="522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13400" y="4902120"/>
            <a:ext cx="141120" cy="57240"/>
          </a:xfrm>
          <a:custGeom>
            <a:avLst/>
            <a:gdLst/>
            <a:ahLst/>
            <a:rect l="l" t="t" r="r" b="b"/>
            <a:pathLst>
              <a:path w="108" h="52">
                <a:moveTo>
                  <a:pt x="0" y="52"/>
                </a:moveTo>
                <a:lnTo>
                  <a:pt x="108" y="52"/>
                </a:lnTo>
                <a:lnTo>
                  <a:pt x="14" y="0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1680" y="4964040"/>
            <a:ext cx="2370240" cy="449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56120" y="5383080"/>
            <a:ext cx="141120" cy="61920"/>
          </a:xfrm>
          <a:custGeom>
            <a:avLst/>
            <a:gdLst/>
            <a:ahLst/>
            <a:rect l="l" t="t" r="r" b="b"/>
            <a:pathLst>
              <a:path w="108" h="56">
                <a:moveTo>
                  <a:pt x="94" y="0"/>
                </a:moveTo>
                <a:lnTo>
                  <a:pt x="0" y="51"/>
                </a:lnTo>
                <a:lnTo>
                  <a:pt x="108" y="5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56120" y="4349880"/>
            <a:ext cx="133200" cy="61920"/>
          </a:xfrm>
          <a:custGeom>
            <a:avLst/>
            <a:gdLst/>
            <a:ahLst/>
            <a:rect l="l" t="t" r="r" b="b"/>
            <a:pathLst>
              <a:path w="103" h="56">
                <a:moveTo>
                  <a:pt x="94" y="0"/>
                </a:moveTo>
                <a:lnTo>
                  <a:pt x="0" y="52"/>
                </a:lnTo>
                <a:lnTo>
                  <a:pt x="103" y="5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3875040"/>
            <a:ext cx="139680" cy="57240"/>
          </a:xfrm>
          <a:custGeom>
            <a:avLst/>
            <a:gdLst/>
            <a:ahLst/>
            <a:rect l="l" t="t" r="r" b="b"/>
            <a:pathLst>
              <a:path w="107" h="52">
                <a:moveTo>
                  <a:pt x="0" y="52"/>
                </a:moveTo>
                <a:lnTo>
                  <a:pt x="107" y="52"/>
                </a:lnTo>
                <a:lnTo>
                  <a:pt x="18" y="0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993400">
            <a:off x="3200400" y="3962160"/>
            <a:ext cx="210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x+1, SHK), E(y,S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739800">
            <a:off x="3733560" y="3428640"/>
            <a:ext cx="210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lientID, E(x,C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739800">
            <a:off x="3885840" y="4571640"/>
            <a:ext cx="210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y+1,C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686-A40A-4F95-9C12-B36D22B5FDA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ų pasikeitimo algoritmai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A ir R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i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sako 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is bei klientas nustat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ius rakt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jie abu naudos laike SSL sesij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2.0 ir SSL 3.0 protokolai palaiko persidengiančius šifrų rinkinius. Administratoriai gali priimti ar atšaukti bet kurį iš palaikomų šifrų rinkinių klientuose ar serveryj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dentifikuo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priausi gal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ifrų rink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jie turi bendrus ir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ie yr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i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SL sesij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F30-08A3-4D54-AE73-DFEE596F11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L rankų paspaudimo žingsnia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unčia serveriui informaciją apie s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o SSL versija, naudojami šifrai, atsitiktinai sugeneruotus duomeni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unčia klientui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rverio SSL versija, šifrai, sertifikatas, atsitiktinai sugeneruotus duomenis ir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ando autentifikuoti serverį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as pagal serverio sertifikatą bando autentifikuoti serverį, jei nepavyksta – sesija nesukuri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ku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“premaster secret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šifruoja tai su serverio viešu raktu ir pasiunčia serve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emaster secret” sukuriamas naudojantis visais sugeneruotais duomeni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34A-E1BE-4F32-987C-CDFB2FFECD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5.Jei serveris užprašė kliento autentifikavimo (tai nebūtinas žingsnis), tai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siunčia pasirašytus unikalius šiam rankų paspaudimui duomenis, žinomus abiem pusėm ir savo sertifikatą serveriui kartu su šifruotais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6.Server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jei reikia – autentifikuoja klientą, su savo slaptu raktu dešifruoja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atlikdamas eilę žingsnių (juos atlieka ir klientas) sugeneruoja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master secre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29D-9105-4658-BDF6-E0F2FF6C37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bu – tiek klientas, tiek server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a “master secret” sesijos raktų generavimui.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imetrin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k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uoja serverį, kad tolimesni kliento pranešimai bus šifruojami su sesijos raktu. Taip pat pasiunčiamas atskiras šifruotas pranešimas indikuojantis,  kad klientas baigė rankų paspaud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ver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ako tuo pač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rankų paspaudimas yra baigtas, prasided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SL sesi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j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ek klientas, tiek serveris naudoja sesijos raktus siunčiamos informacijos  šifravimui-iššifravim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19D-F28E-4404-A0F7-C64BD486FF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o bei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si su tam tikrų duomen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avimu naudoj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ną iš raktų: privatų-slaptą ir dešifravimu kitu raktu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ent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kaci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ve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as šifruoja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u serverio viešu raktu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serveris nežino slapto rakto, jis negali iššifruoti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ir sugeneruoti simetrinių raktų, reikalingų sesij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kaci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tiktinius duomenis su kliento privačiu raktu, tai yra jis sukuria skaitmeninį parašą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šas raktas kliento sertifikate gali patvirtinti paraš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F7C-0D29-468C-9F81-E743861E73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k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CE5-8FB6-4B69-A884-6229B35565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tscape serve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k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01000" cy="68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B38-6922-48FC-98BC-E636514878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-in-the-Middle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patikrinti serverio DN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nam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rodo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realiu DN to serverio su kuriuo komunikuojama. Tai leidžia išvengti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-in the midd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man in the middle"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kenkėjišk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, kuri per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unikacijas tarp kliento ir serverio, ji perima teisėtus raktus vykd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nkų paspaudimą, įstato jų vieton sa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r sukelia įvaizdį klientui, kad tai serveris, o serveriui, kad tai klie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798-FBF0-4F42-B784-FEA11B82F0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šo rakto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gali Bobas patikimai perduoti viešą raktą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kacin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las gali būti tok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, I'm Bob,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al šitokį protokolą bet kas gali būti Bob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B3A-AFEA-4129-9856-D4B50D1A5A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tifikatų panaud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C4B-D9CB-49D5-9D65-BA03DEB448F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ijų-pusių rankų paspaud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laikoma, kad abi pusės žino šifravimo rakt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K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ei klientinė pusė nežino raktų – reikia tam tikro būdo, kuris garantuotų pasikeitimo raktais saug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799-D1AC-4D5F-82F0-22104DC30C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5CD-4102-44C3-9F8A-ECC62A39CCD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ikeitimas slapta inform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 bob, here is a secret {secret} bobs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B95-40D8-41A1-A62C-D77FA93A018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4B9-B214-4830-AE28-B4530DA0335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 bob, here is a secret {secret}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 bob, here is a secret {secret} bobs-public-ke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ble[ {some message}secret-key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1E0-D0DE-44F9-BCC4-9BC7D35E318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authentication code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 bob, here is a secret {secret}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,MAC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662-42E8-4C2A-8C43-ADA741F79FC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H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-Secure Shell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H –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tandar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augi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tolusiam prisijungimui per nesaugius tinkl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užtikr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šifruo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erminal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siją su stipr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t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naudoja viešo-rakto šifravimą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šifruoja visus perduoda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uome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 slaptažodžius, failus, koman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A59-F3D8-4486-A058-85F756E94D7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dvi Secure Shell versijos SSH1 ir SSH2, kuri yra patobulinta saugos požiūriu. Jos nėra tarpusavyje suderinamos. SSH1 naudoti nerekomenduo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buvo sukurtas dviejų pagrindinių problemų išsprendimu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aus nutolusio terminalinio prisijungi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aus failų perd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taip pat gal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neli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bet kokią TCP ses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šiuo šifruotu SSH kanalu.  Tuneliavimas leidžia apsaugoti kitų aplikacijų komunikavimą, nekeičiant pačių aplikaci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DA7D-E1E9-4C80-956D-023DE1D4671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H šifravimas, autentifika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naudoja stipriausius šifravimo algoritmus: 3DES, CAST-128, Twofish, A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DES algoritmas palaikomas, tačiau skaitomas nesaugi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2 yra kliento-serverio protokolas ir abu jie yra autentifikuoja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2 daro negalimu slaptažodžių perėmimą, todėl  galima saugi kliento autentifikacija, paremta slaptažodžiais, o pagal reikalą SSH2 gali įtraukti ir viešo-rakto autentifikaciją.(PKI ir sertifikat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D71-1FE0-4094-BAC7-B98989F62F2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verio autentifik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-in-the-middle” ataka. Apsaugai nuo tokio tipo atakų, serveris taip pat turi būti autentifik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rveris turi viešą bei privatų rak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cija paremta DSA arba RSA algoritm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tentifikuojamas skaitmeninis paraš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ei nepalaikomi sertifikatai, tai klientas ieško viešo rakto patikimų serverių duomenų bazė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0B3-AF11-46E4-82C1-AFB537ACF7B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H sprendžiamos saugumo proble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keičia nesaugų “TELNE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 paketų klastojimas (adreso pakeiti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NS paketų klastojim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 klausym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uomenų klastojimas (įterpiant valdymo informaciją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X autentifikavimo klausym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laidinantys jungimaisi prie X11 serve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42C-198B-4B14-90E0-07D39AE0CFC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imas šaltin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Kerbe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535040"/>
            <a:ext cx="8534520" cy="509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41800" y="17575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7560" y="1757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1800" y="2112840"/>
            <a:ext cx="1800" cy="429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61480" y="173520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45360" y="2090880"/>
            <a:ext cx="1800" cy="429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53040" y="2112840"/>
            <a:ext cx="1440" cy="429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81480" y="4203720"/>
            <a:ext cx="3835440" cy="888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94800" y="5003640"/>
            <a:ext cx="22212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8" y="0"/>
                </a:moveTo>
                <a:lnTo>
                  <a:pt x="140" y="56"/>
                </a:lnTo>
                <a:lnTo>
                  <a:pt x="0" y="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800" y="3225960"/>
            <a:ext cx="3837240" cy="888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03560" y="4025880"/>
            <a:ext cx="22248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7" y="0"/>
                </a:moveTo>
                <a:lnTo>
                  <a:pt x="140" y="56"/>
                </a:lnTo>
                <a:lnTo>
                  <a:pt x="0" y="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88800" y="2313000"/>
            <a:ext cx="3864240" cy="8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800" y="3114720"/>
            <a:ext cx="22248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40" y="42"/>
                </a:moveTo>
                <a:lnTo>
                  <a:pt x="0" y="56"/>
                </a:lnTo>
                <a:lnTo>
                  <a:pt x="1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53040" y="5114880"/>
            <a:ext cx="3836880" cy="86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53040" y="5894280"/>
            <a:ext cx="22212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40" y="56"/>
                </a:moveTo>
                <a:lnTo>
                  <a:pt x="0" y="56"/>
                </a:lnTo>
                <a:lnTo>
                  <a:pt x="1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817200">
            <a:off x="4497840" y="4209480"/>
            <a:ext cx="29160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A,T),K), E((T,L,K,A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900000">
            <a:off x="1270440" y="3727800"/>
            <a:ext cx="16693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T,L,K,A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20580000">
            <a:off x="5467680" y="5232240"/>
            <a:ext cx="985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T+1,K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960000">
            <a:off x="1401480" y="3347280"/>
            <a:ext cx="1736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T,L,K,B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0640000">
            <a:off x="2057040" y="2439720"/>
            <a:ext cx="48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, 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1752480"/>
            <a:ext cx="3353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dalinasi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s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A,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tačia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B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žin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, 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žin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7524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raš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rakto komunikavimui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s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438280"/>
            <a:ext cx="38088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657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atsako užkoduodamas sesijos raktą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ir “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timestamp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T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 ir galiojimo laikas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gali iššifruoti antr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raneš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5800" y="3352680"/>
            <a:ext cx="685800" cy="1371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371600" y="4038120"/>
            <a:ext cx="685800" cy="213372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048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400" spc="-1" strike="noStrike">
                <a:solidFill>
                  <a:srgbClr val="808080"/>
                </a:solidFill>
                <a:latin typeface="Times New Roman"/>
              </a:rPr>
              <a:t>patvirtina, kad jis žino raktą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505320"/>
            <a:ext cx="76320" cy="53316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38862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ersiunčia iš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086240" y="4267080"/>
            <a:ext cx="15228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57913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B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atvirtina kad jis gali iššifruoti pranešimą iš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095520" y="5486400"/>
            <a:ext cx="228600" cy="3808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8DA-5800-447E-93D9-F0DEDA36FD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IP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ai rinkinys standar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užtikrinanč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aug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iva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omunikavimą IP tinkluose. Šis protokolas palengvina tiesiogius IP susijungimus tarp jautrių hostų per nesaugius tinklus(VPN pagrind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saugo vartotojus, kurie nori saugių ryšių ir saugos sumetimais yra varžomi įprastinio nesaugaus ryšio Intern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ti paketai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okie kaip ir įpra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P paketai, jie lengvai maršrutizuojami, nereikalauja pakeitimų tarptinkliniuose įrengini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 galiniai komunikavimo taškai žino apie šifrav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IP Security </a:t>
            </a: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savybė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Komunikacijų sauga remiasi šifravimais, o ne IP adresais, kurie gali būti pakeičia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Atskirtas 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fikavimas ir konfidencialumo tikrinimas, leidžia platesnį pritaik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Raktų valdymo protokolas atskirtas nuo IP security protok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Taikomas tiek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 IPv4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, tiek 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v4 neturi įjungto informacijos saugos mechanizmo – saugos funkcijas nusako IPSec standart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Sec protokolą sud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KE (Internet Key Exchange)protokol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H (Authentication Header)protokol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SP (Encapsulation Security Payload) protoko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8B9-65F9-4E81-8997-A09AF2E172E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Naudojamas ryšio sukūrimo pirmame etape, kai šalys susitaria dėl šifravimo metodų, raktų bei kitų duomenų, kuriuos naudos sukuriant apsaugotą ryšio seansą –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ukuriant saugos asociaciją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KE – tai kombinacija ISAKM bei Qakley protokol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SAKM – nusako formatus paketams, kurie naudojami sukuriant ir valdant apsaugotus ryši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Qakley – pasikeitimo raktais protokol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KE protokolas nepriklauso nuo šifravimo algoritmų, naudojamų autentifikacijai bei duomenų šifravimui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IKE nusako apibendrintą saugaus informacijos pasikeitimo procedūr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D98-A716-42FC-9022-664AC4A8177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500" spc="-1" strike="noStrike">
                <a:solidFill>
                  <a:srgbClr val="000000"/>
                </a:solidFill>
                <a:latin typeface="Times New Roman"/>
              </a:rPr>
              <a:t>Visi apsaugoti ryšiai yra vienos krypties</a:t>
            </a: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Apsaugoti ryšiai pasižymi šiom savybėm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Šifravimo algoritmai, kurie reikalingi seanso metu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aktai, kuriais pasikeičiama seanso pradžioj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aktų keitimo dažn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Saugaus ryšio “gyvavimo laikas”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yšio iniciatoriaus adres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Saugos parametro indeksas (Security Parameter Index -SPI ) – tai saugaus ryšio unikalus identifikatoriu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7BD-533B-4E10-A58C-8422C118B93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KE gali sukurti apsaugotą ryšį – saugos asociaciją dviem režimais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grindiniu bei agresyv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rindinio režimo atveju IKE sukuria apsaugotą ryšio kanalą , kuris naudojamas deryb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icijuojantis mazgas siunčia sarašą siūlomų ryšio parametrų, tokių kaip šifravimo bei hash f-jos skaičiavimo algoritmai, autentifikavimo metodai, reikalavimai įjungti AH bei ESP protokolus ir t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 to šalys tikrina abipusę autentifikaciją naudodamos viešų raktų technologiją bei sertifik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068-D76D-42E5-B907-D235C5434C9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gresyv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ežimo atveju reikia mažesnio skaičiaus pasikeitimų informacija, tačiau kiekviename pasikeitime naudojama daugiau duomenų. Sauga realizuojama ne taip kruopšč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pradinio (pagrindinio ar agresyvaus ) režimo protokolas pereina prie greito režimo (quick mode), kurio metu nustatomi įtrauktų tarnybų parametrai bei generuojami sesijos raktai. Šio režimo metu paketai jau keliauja šifruoti. Sukuriami du saugos ryš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FBC-B021-404F-AE0C-BA3D12F9D8E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S</a:t>
            </a: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augos asociacijos</a:t>
            </a: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Jos sukuriamos veikiant raktų pasikeitimo protokol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Kombinacija saugos parametro indekso(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Security Parameter Index (SPI) 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) ir paskirties adreso vienareikšmiškai nusako atitinkamą saugos asociacij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Saugos asocia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ugos asociacijos parametrai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fikacini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lgorit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mas ir moda, naudojama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Šifravimo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lgorit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algorit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o moda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in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cializacijos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ve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tor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iu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transfor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cijos, naudojamo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Raktas(raktai) ir raktų gyvavimo laikas, taikant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ir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Saugos asociacijos gyvavimo lai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kacinis algoritmas, kuris naudoja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 (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jei naudoja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Saugomų duomenų jautrumo lyg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gos asociacijos yra vienos kryp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augos asociacij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 saugos asociacija gali teikti arba šifravimą, arba vientisumo kontrolę, arba autentifikavimą arbaviską kartu – tai nusakoma atitinkamom opcijom, kuriant asociacijas. SA vienareikšmiškai apibūdinama SPI bei paskirties 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sistema siunčia paketą, kuriam reikia IPSec apsaugos, ji peržiūri SA duomenų bazę ir pritaiko atitinkamą saugos servisą bei įjungia SPI į IPSec galvut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us tokį paketą, patikrinama DB ir pagal SPI procesas atkartoja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C1D-8DC9-453D-A7E7-DD58555119C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naudojamas kaip sesijos raktas šifruojant pag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psikeitimas raktu yra surištas su patikimu šaltin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B05-22A4-497C-83C5-47F5FF7FE1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hentication Header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H – galvutės autentifikavimo protokolas. Jo pagrindinis tikslas – užtikrinti duomenų vientisu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leidžia aptikti informacijos pakitimus paketo galvutėje ir autentifikuoti paketo siuntėją bei užtikrina persiuntimų vientis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H galvutė įdedama tarp IP (IPv4) bei TCP /UDP galvučių. Galvutė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I indeksas – unikaliai identifikacija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ilės numer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tentifikavimo duomenys – skaitmeninis paraš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27A-67DD-4B76-B421-E0092FA2D6A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Authentication Header (A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62120" y="1447920"/>
            <a:ext cx="4038480" cy="1980720"/>
            <a:chOff x="762120" y="1447920"/>
            <a:chExt cx="4038480" cy="1980720"/>
          </a:xfrm>
        </p:grpSpPr>
        <p:sp>
          <p:nvSpPr>
            <p:cNvPr id="252" name=""/>
            <p:cNvSpPr/>
            <p:nvPr/>
          </p:nvSpPr>
          <p:spPr>
            <a:xfrm>
              <a:off x="768240" y="1454400"/>
              <a:ext cx="4025880" cy="197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120" y="19062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120" y="23648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1880" y="1522440"/>
              <a:ext cx="60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0200" y="1447920"/>
              <a:ext cx="0" cy="45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61040" y="152244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1447920"/>
              <a:ext cx="0" cy="45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81960" y="198108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36640" y="2745720"/>
              <a:ext cx="1957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cation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029200" y="1279440"/>
            <a:ext cx="401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SPI + destination address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pibrėžia saugos asociaciją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(algorit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rakt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utentifikacinių duomenų struktūra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960" y="3641760"/>
            <a:ext cx="8093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Taikomas raktu pagrįst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MD5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tam tikriems IP galvutės lauk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Naudojamas slaptas raktas, kuriuo dalijasi galiniai komunikavimo taš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556272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Negalimumas paneigti yra garantuojamas, jei AH yra naudojamas kartu su asimetriniais algoritmais (skaitmeniniais paraša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ncapsulation Security Pay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SP protokolas- tai saugaus turinio uždarymo protoko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užtikr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datagram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ientis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vykd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tagramos duomenų šifr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as dirba dviejuose režimuose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ansportiniame bei tuneliav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ansportinio režimo atveju šis protokolas apsaugo duomenis ir aukštesnio lygio protokolų (tokių kaip TCP) galvutes. Nerealizuojama IP galvutės apsau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A06-757B-4088-8C4F-26C701DCFA1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ncapsulation Security Pay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nelinis darbo rež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rnauja ryšiui tarp dviejų vartų, kai tuo tarpu transporto režimas naudojamas ryšiui hostas-hostas arba hostas-vart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o režimo atveju visa IP datagrama talpinama į vidų ESP paketo, o jo galvutėje rašomi tik vartų adres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rieji galutinių taškų adresai yra užšifru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tikrinant didesnę kanalo saugą, abu protokolai taikomi kartu – tai garantuoja tiek autentifikaciją, tiek konfidencialumą, tiek perdavimų vientisu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961-1EF4-4A40-AEEF-1186FA35283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f0e30"/>
                </a:solidFill>
                <a:latin typeface="Arial"/>
              </a:rPr>
              <a:t>Encapsulating Security Payload (E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2208240"/>
            <a:ext cx="7924680" cy="839880"/>
            <a:chOff x="762120" y="2208240"/>
            <a:chExt cx="7924680" cy="839880"/>
          </a:xfrm>
        </p:grpSpPr>
        <p:sp>
          <p:nvSpPr>
            <p:cNvPr id="270" name=""/>
            <p:cNvSpPr/>
            <p:nvPr/>
          </p:nvSpPr>
          <p:spPr>
            <a:xfrm>
              <a:off x="768240" y="2597040"/>
              <a:ext cx="791208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8560" y="2665440"/>
              <a:ext cx="109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574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71600" y="2665440"/>
              <a:ext cx="1762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ther IP Head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148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51960" y="2665440"/>
              <a:ext cx="1312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S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3868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09000" y="2665440"/>
              <a:ext cx="1517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ypted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8680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080" y="23623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62520" y="2362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48320" y="2362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1000" y="2362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93840" y="2208240"/>
              <a:ext cx="66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27400" y="2208240"/>
              <a:ext cx="109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70680" y="1538280"/>
            <a:ext cx="646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279f"/>
                </a:solidFill>
                <a:latin typeface="Arial"/>
              </a:rPr>
              <a:t>IP datagram with encrypted por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1040" y="3595680"/>
            <a:ext cx="231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279f"/>
                </a:solidFill>
                <a:latin typeface="Arial"/>
              </a:rPr>
              <a:t>ESP Hea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62120" y="4349880"/>
            <a:ext cx="4724280" cy="1282680"/>
            <a:chOff x="762120" y="4349880"/>
            <a:chExt cx="4724280" cy="1282680"/>
          </a:xfrm>
        </p:grpSpPr>
        <p:sp>
          <p:nvSpPr>
            <p:cNvPr id="290" name=""/>
            <p:cNvSpPr/>
            <p:nvPr/>
          </p:nvSpPr>
          <p:spPr>
            <a:xfrm>
              <a:off x="768240" y="4349880"/>
              <a:ext cx="471168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120" y="4876920"/>
              <a:ext cx="472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08760" y="441792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29320" y="5103720"/>
              <a:ext cx="3704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paque transform data, variable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f0e30"/>
                </a:solidFill>
                <a:latin typeface="Arial"/>
              </a:rPr>
              <a:t>Encapsulating Security Payload (E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8880" y="1355760"/>
            <a:ext cx="552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Must-implement for ESP is DES-C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62120" y="2286000"/>
            <a:ext cx="7407720" cy="2743200"/>
            <a:chOff x="762120" y="2286000"/>
            <a:chExt cx="7407720" cy="2743200"/>
          </a:xfrm>
        </p:grpSpPr>
        <p:sp>
          <p:nvSpPr>
            <p:cNvPr id="297" name=""/>
            <p:cNvSpPr/>
            <p:nvPr/>
          </p:nvSpPr>
          <p:spPr>
            <a:xfrm>
              <a:off x="762120" y="2286000"/>
              <a:ext cx="6159240" cy="2730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120" y="281952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120" y="365760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120" y="449568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94560" y="236052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74360" y="3046320"/>
              <a:ext cx="22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itialization Vector (I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56320" y="3884760"/>
              <a:ext cx="1404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yload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12960" y="4570560"/>
              <a:ext cx="93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d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47040" y="4570560"/>
              <a:ext cx="1222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d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18280" y="4570560"/>
              <a:ext cx="1427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yload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1480" y="4495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86200" y="4495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86600" y="28195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86600" y="50292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91520" y="28195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91520" y="42670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70400" y="3732120"/>
              <a:ext cx="109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5920" y="533520"/>
            <a:ext cx="7371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H and ESP Layering 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1120" y="1927080"/>
            <a:ext cx="1089000" cy="378000"/>
            <a:chOff x="681120" y="1927080"/>
            <a:chExt cx="1089000" cy="378000"/>
          </a:xfrm>
        </p:grpSpPr>
        <p:sp>
          <p:nvSpPr>
            <p:cNvPr id="316" name=""/>
            <p:cNvSpPr/>
            <p:nvPr/>
          </p:nvSpPr>
          <p:spPr>
            <a:xfrm>
              <a:off x="681120" y="1927080"/>
              <a:ext cx="108900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3760" y="19537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778040" y="1925640"/>
            <a:ext cx="938160" cy="379440"/>
          </a:xfrm>
          <a:prstGeom prst="rect">
            <a:avLst/>
          </a:prstGeom>
          <a:solidFill>
            <a:srgbClr val="ff500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21040" y="195912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700360" y="1927080"/>
            <a:ext cx="1865160" cy="378000"/>
            <a:chOff x="2700360" y="1927080"/>
            <a:chExt cx="1865160" cy="378000"/>
          </a:xfrm>
        </p:grpSpPr>
        <p:sp>
          <p:nvSpPr>
            <p:cNvPr id="321" name=""/>
            <p:cNvSpPr/>
            <p:nvPr/>
          </p:nvSpPr>
          <p:spPr>
            <a:xfrm>
              <a:off x="2700360" y="1927080"/>
              <a:ext cx="186516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32920" y="195372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81120" y="2557440"/>
            <a:ext cx="3920760" cy="387360"/>
            <a:chOff x="681120" y="2557440"/>
            <a:chExt cx="3920760" cy="387360"/>
          </a:xfrm>
        </p:grpSpPr>
        <p:grpSp>
          <p:nvGrpSpPr>
            <p:cNvPr id="324" name=""/>
            <p:cNvGrpSpPr/>
            <p:nvPr/>
          </p:nvGrpSpPr>
          <p:grpSpPr>
            <a:xfrm>
              <a:off x="681120" y="2560680"/>
              <a:ext cx="1089000" cy="379440"/>
              <a:chOff x="681120" y="2560680"/>
              <a:chExt cx="1089000" cy="379440"/>
            </a:xfrm>
          </p:grpSpPr>
          <p:sp>
            <p:nvSpPr>
              <p:cNvPr id="325" name=""/>
              <p:cNvSpPr/>
              <p:nvPr/>
            </p:nvSpPr>
            <p:spPr>
              <a:xfrm>
                <a:off x="681120" y="2560680"/>
                <a:ext cx="108900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34120" y="258768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736000" y="2559240"/>
              <a:ext cx="1865880" cy="380880"/>
              <a:chOff x="2736000" y="2559240"/>
              <a:chExt cx="1865880" cy="380880"/>
            </a:xfrm>
          </p:grpSpPr>
          <p:sp>
            <p:nvSpPr>
              <p:cNvPr id="328" name=""/>
              <p:cNvSpPr/>
              <p:nvPr/>
            </p:nvSpPr>
            <p:spPr>
              <a:xfrm>
                <a:off x="2736000" y="2559240"/>
                <a:ext cx="186588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69640" y="258624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1787760" y="2557440"/>
              <a:ext cx="934920" cy="387360"/>
              <a:chOff x="1787760" y="2557440"/>
              <a:chExt cx="934920" cy="387360"/>
            </a:xfrm>
          </p:grpSpPr>
          <p:sp>
            <p:nvSpPr>
              <p:cNvPr id="331" name=""/>
              <p:cNvSpPr/>
              <p:nvPr/>
            </p:nvSpPr>
            <p:spPr>
              <a:xfrm>
                <a:off x="1787760" y="2557440"/>
                <a:ext cx="934920" cy="387360"/>
              </a:xfrm>
              <a:prstGeom prst="rect">
                <a:avLst/>
              </a:prstGeom>
              <a:solidFill>
                <a:srgbClr val="d9319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020680" y="2594160"/>
                <a:ext cx="537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681120" y="3176640"/>
            <a:ext cx="4841280" cy="387360"/>
            <a:chOff x="681120" y="3176640"/>
            <a:chExt cx="4841280" cy="387360"/>
          </a:xfrm>
        </p:grpSpPr>
        <p:grpSp>
          <p:nvGrpSpPr>
            <p:cNvPr id="334" name=""/>
            <p:cNvGrpSpPr/>
            <p:nvPr/>
          </p:nvGrpSpPr>
          <p:grpSpPr>
            <a:xfrm>
              <a:off x="1785600" y="3176640"/>
              <a:ext cx="936720" cy="387360"/>
              <a:chOff x="1785600" y="3176640"/>
              <a:chExt cx="936720" cy="387360"/>
            </a:xfrm>
          </p:grpSpPr>
          <p:sp>
            <p:nvSpPr>
              <p:cNvPr id="335" name=""/>
              <p:cNvSpPr/>
              <p:nvPr/>
            </p:nvSpPr>
            <p:spPr>
              <a:xfrm>
                <a:off x="1785600" y="3176640"/>
                <a:ext cx="936720" cy="387360"/>
              </a:xfrm>
              <a:prstGeom prst="rect">
                <a:avLst/>
              </a:prstGeom>
              <a:solidFill>
                <a:srgbClr val="ff5008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002680" y="3211920"/>
                <a:ext cx="4276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81120" y="3176640"/>
              <a:ext cx="1088640" cy="387360"/>
              <a:chOff x="681120" y="3176640"/>
              <a:chExt cx="1088640" cy="387360"/>
            </a:xfrm>
          </p:grpSpPr>
          <p:sp>
            <p:nvSpPr>
              <p:cNvPr id="338" name=""/>
              <p:cNvSpPr/>
              <p:nvPr/>
            </p:nvSpPr>
            <p:spPr>
              <a:xfrm>
                <a:off x="681120" y="3176640"/>
                <a:ext cx="1088640" cy="38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34120" y="32054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3656520" y="3178440"/>
              <a:ext cx="1865880" cy="385560"/>
              <a:chOff x="3656520" y="3178440"/>
              <a:chExt cx="1865880" cy="385560"/>
            </a:xfrm>
          </p:grpSpPr>
          <p:sp>
            <p:nvSpPr>
              <p:cNvPr id="341" name=""/>
              <p:cNvSpPr/>
              <p:nvPr/>
            </p:nvSpPr>
            <p:spPr>
              <a:xfrm>
                <a:off x="3656520" y="3178440"/>
                <a:ext cx="1865880" cy="385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890160" y="320688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708640" y="3176640"/>
              <a:ext cx="934920" cy="387360"/>
              <a:chOff x="2708640" y="3176640"/>
              <a:chExt cx="934920" cy="387360"/>
            </a:xfrm>
          </p:grpSpPr>
          <p:sp>
            <p:nvSpPr>
              <p:cNvPr id="344" name=""/>
              <p:cNvSpPr/>
              <p:nvPr/>
            </p:nvSpPr>
            <p:spPr>
              <a:xfrm>
                <a:off x="2708640" y="3176640"/>
                <a:ext cx="934920" cy="387360"/>
              </a:xfrm>
              <a:prstGeom prst="rect">
                <a:avLst/>
              </a:prstGeom>
              <a:solidFill>
                <a:srgbClr val="d9319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1560" y="3211920"/>
                <a:ext cx="537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681120" y="4586400"/>
            <a:ext cx="5022360" cy="379440"/>
            <a:chOff x="681120" y="4586400"/>
            <a:chExt cx="5022360" cy="379440"/>
          </a:xfrm>
        </p:grpSpPr>
        <p:grpSp>
          <p:nvGrpSpPr>
            <p:cNvPr id="347" name=""/>
            <p:cNvGrpSpPr/>
            <p:nvPr/>
          </p:nvGrpSpPr>
          <p:grpSpPr>
            <a:xfrm>
              <a:off x="2741760" y="4586400"/>
              <a:ext cx="1089360" cy="379440"/>
              <a:chOff x="2741760" y="4586400"/>
              <a:chExt cx="1089360" cy="379440"/>
            </a:xfrm>
          </p:grpSpPr>
          <p:sp>
            <p:nvSpPr>
              <p:cNvPr id="348" name=""/>
              <p:cNvSpPr/>
              <p:nvPr/>
            </p:nvSpPr>
            <p:spPr>
              <a:xfrm>
                <a:off x="2741760" y="4586400"/>
                <a:ext cx="108936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93680" y="46130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837600" y="4586400"/>
              <a:ext cx="1865880" cy="379440"/>
              <a:chOff x="3837600" y="4586400"/>
              <a:chExt cx="1865880" cy="379440"/>
            </a:xfrm>
          </p:grpSpPr>
          <p:sp>
            <p:nvSpPr>
              <p:cNvPr id="351" name=""/>
              <p:cNvSpPr/>
              <p:nvPr/>
            </p:nvSpPr>
            <p:spPr>
              <a:xfrm>
                <a:off x="3837600" y="4586400"/>
                <a:ext cx="186588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071240" y="461304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1776600" y="4587480"/>
              <a:ext cx="936720" cy="378000"/>
            </a:xfrm>
            <a:prstGeom prst="rect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19240" y="4619160"/>
              <a:ext cx="53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81120" y="4586400"/>
              <a:ext cx="1089000" cy="379440"/>
              <a:chOff x="681120" y="4586400"/>
              <a:chExt cx="1089000" cy="379440"/>
            </a:xfrm>
          </p:grpSpPr>
          <p:sp>
            <p:nvSpPr>
              <p:cNvPr id="356" name=""/>
              <p:cNvSpPr/>
              <p:nvPr/>
            </p:nvSpPr>
            <p:spPr>
              <a:xfrm>
                <a:off x="681120" y="4586400"/>
                <a:ext cx="108900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34480" y="46130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2743200" y="6032520"/>
            <a:ext cx="1089000" cy="380880"/>
            <a:chOff x="2743200" y="6032520"/>
            <a:chExt cx="1089000" cy="380880"/>
          </a:xfrm>
        </p:grpSpPr>
        <p:sp>
          <p:nvSpPr>
            <p:cNvPr id="359" name=""/>
            <p:cNvSpPr/>
            <p:nvPr/>
          </p:nvSpPr>
          <p:spPr>
            <a:xfrm>
              <a:off x="2743200" y="6032520"/>
              <a:ext cx="10890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840" y="60595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718160" y="6033960"/>
            <a:ext cx="1866960" cy="379440"/>
            <a:chOff x="4718160" y="6033960"/>
            <a:chExt cx="1866960" cy="379440"/>
          </a:xfrm>
        </p:grpSpPr>
        <p:sp>
          <p:nvSpPr>
            <p:cNvPr id="362" name=""/>
            <p:cNvSpPr/>
            <p:nvPr/>
          </p:nvSpPr>
          <p:spPr>
            <a:xfrm>
              <a:off x="4718160" y="6033960"/>
              <a:ext cx="186696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50720" y="605952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776240" y="6032520"/>
            <a:ext cx="938520" cy="380880"/>
          </a:xfrm>
          <a:prstGeom prst="rect">
            <a:avLst/>
          </a:prstGeom>
          <a:solidFill>
            <a:srgbClr val="d931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19240" y="6066000"/>
            <a:ext cx="53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81120" y="6033960"/>
            <a:ext cx="1089000" cy="379440"/>
            <a:chOff x="681120" y="6033960"/>
            <a:chExt cx="1089000" cy="379440"/>
          </a:xfrm>
        </p:grpSpPr>
        <p:sp>
          <p:nvSpPr>
            <p:cNvPr id="367" name=""/>
            <p:cNvSpPr/>
            <p:nvPr/>
          </p:nvSpPr>
          <p:spPr>
            <a:xfrm>
              <a:off x="681120" y="6033960"/>
              <a:ext cx="108900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3760" y="60595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822840" y="6033960"/>
            <a:ext cx="934920" cy="379440"/>
          </a:xfrm>
          <a:prstGeom prst="rect">
            <a:avLst/>
          </a:prstGeom>
          <a:solidFill>
            <a:srgbClr val="ff500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62240" y="60660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743200" y="5418000"/>
            <a:ext cx="1089000" cy="379440"/>
            <a:chOff x="2743200" y="5418000"/>
            <a:chExt cx="1089000" cy="379440"/>
          </a:xfrm>
        </p:grpSpPr>
        <p:sp>
          <p:nvSpPr>
            <p:cNvPr id="372" name=""/>
            <p:cNvSpPr/>
            <p:nvPr/>
          </p:nvSpPr>
          <p:spPr>
            <a:xfrm>
              <a:off x="2743200" y="5418000"/>
              <a:ext cx="108900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96200" y="544464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776840" y="5418000"/>
            <a:ext cx="1866960" cy="378000"/>
            <a:chOff x="4776840" y="5418000"/>
            <a:chExt cx="1866960" cy="378000"/>
          </a:xfrm>
        </p:grpSpPr>
        <p:sp>
          <p:nvSpPr>
            <p:cNvPr id="375" name=""/>
            <p:cNvSpPr/>
            <p:nvPr/>
          </p:nvSpPr>
          <p:spPr>
            <a:xfrm>
              <a:off x="4776840" y="5418000"/>
              <a:ext cx="186696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09760" y="544284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44800" y="5418000"/>
            <a:ext cx="936720" cy="379440"/>
            <a:chOff x="3844800" y="5418000"/>
            <a:chExt cx="936720" cy="379440"/>
          </a:xfrm>
        </p:grpSpPr>
        <p:sp>
          <p:nvSpPr>
            <p:cNvPr id="378" name=""/>
            <p:cNvSpPr/>
            <p:nvPr/>
          </p:nvSpPr>
          <p:spPr>
            <a:xfrm>
              <a:off x="3844800" y="5418000"/>
              <a:ext cx="936720" cy="379440"/>
            </a:xfrm>
            <a:prstGeom prst="rect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86360" y="5450760"/>
              <a:ext cx="538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36560" y="5418000"/>
            <a:ext cx="1089000" cy="378000"/>
            <a:chOff x="736560" y="5418000"/>
            <a:chExt cx="1089000" cy="378000"/>
          </a:xfrm>
        </p:grpSpPr>
        <p:sp>
          <p:nvSpPr>
            <p:cNvPr id="381" name=""/>
            <p:cNvSpPr/>
            <p:nvPr/>
          </p:nvSpPr>
          <p:spPr>
            <a:xfrm>
              <a:off x="736560" y="5418000"/>
              <a:ext cx="108900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89200" y="545580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805040" y="5418000"/>
            <a:ext cx="936360" cy="378000"/>
            <a:chOff x="1805040" y="5418000"/>
            <a:chExt cx="936360" cy="378000"/>
          </a:xfrm>
        </p:grpSpPr>
        <p:sp>
          <p:nvSpPr>
            <p:cNvPr id="384" name=""/>
            <p:cNvSpPr/>
            <p:nvPr/>
          </p:nvSpPr>
          <p:spPr>
            <a:xfrm>
              <a:off x="1805040" y="5418000"/>
              <a:ext cx="936360" cy="378000"/>
            </a:xfrm>
            <a:prstGeom prst="rect">
              <a:avLst/>
            </a:prstGeom>
            <a:solidFill>
              <a:srgbClr val="ff500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46240" y="5449320"/>
              <a:ext cx="428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058800" y="2624040"/>
            <a:ext cx="248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ansport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27800" y="4221000"/>
            <a:ext cx="206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unnel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81120" y="4022640"/>
            <a:ext cx="5022360" cy="387360"/>
            <a:chOff x="681120" y="4022640"/>
            <a:chExt cx="5022360" cy="387360"/>
          </a:xfrm>
        </p:grpSpPr>
        <p:sp>
          <p:nvSpPr>
            <p:cNvPr id="389" name=""/>
            <p:cNvSpPr/>
            <p:nvPr/>
          </p:nvSpPr>
          <p:spPr>
            <a:xfrm>
              <a:off x="2742120" y="4027680"/>
              <a:ext cx="10890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94040" y="4054320"/>
              <a:ext cx="784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37600" y="4027680"/>
              <a:ext cx="18658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71240" y="4054320"/>
              <a:ext cx="14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20" y="4027680"/>
              <a:ext cx="108936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4480" y="4054320"/>
              <a:ext cx="784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86320" y="4022640"/>
              <a:ext cx="936720" cy="387360"/>
            </a:xfrm>
            <a:prstGeom prst="rect">
              <a:avLst/>
            </a:prstGeom>
            <a:solidFill>
              <a:srgbClr val="ff500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03400" y="4057560"/>
              <a:ext cx="427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7175520" y="566568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E9A-7A46-4739-8318-43178252616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neliavimo moda naudojama kai palaikomas ryšys – maršrutizatorius – maršrutizatorius – šifruojamas visas IP paketas, net ir IP galvut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ansporto moda – palaiko ryšį hostas-hostas. Tinkliniams įrenginiams leidžia matyti tiek šaltinio, tiek paskirties taško IP adresus – IP galvutė nešifruota – šifruojama nuo traansporto galvutės. Gali būti naudojama tuo atveju, kai abu hostai palaiko IPSe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7DA-0EAF-46FC-9C57-E7E78BD1AAF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file1598206_datori2" descr=""/>
          <p:cNvPicPr/>
          <p:nvPr/>
        </p:nvPicPr>
        <p:blipFill>
          <a:blip r:embed="rId1"/>
          <a:stretch/>
        </p:blipFill>
        <p:spPr>
          <a:xfrm>
            <a:off x="990720" y="1184400"/>
            <a:ext cx="7086600" cy="50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613-6660-4FCB-AA11-F1D1632CD5A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00200" y="1828800"/>
            <a:ext cx="481824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0800" y="209880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06160" y="209880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92240" y="2576520"/>
            <a:ext cx="1800" cy="3981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96160" y="2576520"/>
            <a:ext cx="1440" cy="3981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22480" y="2936880"/>
            <a:ext cx="3943440" cy="9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6160" y="3805200"/>
            <a:ext cx="239760" cy="119160"/>
          </a:xfrm>
          <a:custGeom>
            <a:avLst/>
            <a:gdLst/>
            <a:ahLst/>
            <a:rect l="l" t="t" r="r" b="b"/>
            <a:pathLst>
              <a:path w="151" h="75">
                <a:moveTo>
                  <a:pt x="19" y="0"/>
                </a:moveTo>
                <a:lnTo>
                  <a:pt x="151" y="75"/>
                </a:lnTo>
                <a:lnTo>
                  <a:pt x="0" y="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022480" y="3954600"/>
            <a:ext cx="3943440" cy="9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22480" y="4822920"/>
            <a:ext cx="239760" cy="118800"/>
          </a:xfrm>
          <a:custGeom>
            <a:avLst/>
            <a:gdLst/>
            <a:ahLst/>
            <a:rect l="l" t="t" r="r" b="b"/>
            <a:pathLst>
              <a:path w="151" h="75">
                <a:moveTo>
                  <a:pt x="151" y="75"/>
                </a:moveTo>
                <a:lnTo>
                  <a:pt x="0" y="75"/>
                </a:lnTo>
                <a:lnTo>
                  <a:pt x="1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840000">
            <a:off x="4531680" y="326556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840000">
            <a:off x="2932560" y="2952720"/>
            <a:ext cx="216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(x, Public  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0820000">
            <a:off x="3779640" y="40762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, pagrįsta viešais rakta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639-F3E9-4AA2-A720-855876CC05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Pranešimo vientisumą užtikrinantys protokol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kaitmeniniai parašai sudaromi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šifravimo metodą – tai asimetrinis algoritmas, naudojantis du raktus:slaptą bei vieš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varbia problema yra pranešimo vientisumo užtikrinimas – pranešimas pakeliui nėra modifik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rašoma, naudoja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vatų raktą ir tikrinama taikant viešą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675-ED55-4E4E-9A58-F47F547CBCC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su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kaičiuojama pasirašomo dokumento kontrolinė su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šifruojama kontrolinė suma, data, laikas ir kita informacija naudojant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ie dokumento pridedamas paraš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ma užšifruoti pasirašytą dokumentą dar ir su gavėjo viešu rak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03A-3131-46E5-B6C7-211EC78F00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2:44:38Z</dcterms:created>
  <dc:creator>Kristina</dc:creator>
  <dc:description/>
  <dc:language>en-US</dc:language>
  <cp:lastModifiedBy>Kristina</cp:lastModifiedBy>
  <dcterms:modified xsi:type="dcterms:W3CDTF">2004-11-24T07:47:26Z</dcterms:modified>
  <cp:revision>19</cp:revision>
  <dc:subject/>
  <dc:title>11 paskaita</dc:title>
</cp:coreProperties>
</file>