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6331-BBB8-43BF-9CD8-3A72DC241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8DC7-4536-4F1F-8FEB-F76610CE7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989B-97B5-4E14-905C-46140DD47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3746-5F3F-48C1-89F7-21B96A155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305C-B39B-4743-A6B6-3D9B74E91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4613-993A-4FAE-978A-0DC6D82AF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B1A9-2152-4DC8-B33B-313EFD38C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6909-7FD2-4B10-9C29-EB2FC0A7A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28ED-1D08-422B-B1A6-53ACEC733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31C1-B349-47C5-8E5F-DC3704B9A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DFE8-9751-4DD3-B335-8FFF0B21E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78B5-00EF-42F2-B136-55C63DCF1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CFF5-A2E1-47C0-8BCB-3CDC2BF12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3A2E-54F3-436A-B9B2-C7C96C8B1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B93-0C2B-481A-8A11-2BB80F76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834-926D-4715-8C83-6A92B4F5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838A-6D7A-4400-A4F9-9593D626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80E-032D-4B25-90C3-7E50F0A9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615E-5808-471A-8CE3-C8A816BB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10FD-5853-4ADD-8E9C-BD2D7C7A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D1EB-51CD-4792-910E-24CD64F6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8DA-70F1-4F9B-B044-15732B0A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167E-9E09-4A2A-A248-3EC2BD6C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23D-AA1A-4442-8977-65AAB072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7E5-BCCD-45B2-9A62-DD02929C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582-667F-41B7-8393-794F81DC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4889-2A26-4FB9-A8A7-A6B24C7C9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rsasecurity.com/rsalabs/faq/images/feistel.gif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sasecurity.com/rsalabs/faq/images/feistel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520" y="22856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10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562360" y="3886200"/>
            <a:ext cx="2971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ile2782590_datorjoki3" descr=""/>
          <p:cNvPicPr/>
          <p:nvPr/>
        </p:nvPicPr>
        <p:blipFill>
          <a:blip r:embed="rId1"/>
          <a:stretch/>
        </p:blipFill>
        <p:spPr>
          <a:xfrm>
            <a:off x="457200" y="1820880"/>
            <a:ext cx="4114800" cy="403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D2D5-0077-428A-81A5-5734D5C34C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o saug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psprendž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o algoritmo sudėtingu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kto ilg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ikimumas pasikeičiant informacija apie rakt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čiai taikomi du simetriniai algorit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lokinio šifrav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rautinio šifrav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C7FF-CB3B-4758-A3A2-4E556225D6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Blok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Taikant šį algoritmą, </a:t>
            </a:r>
            <a:r>
              <a:rPr b="1" lang="lt-LT" sz="2800" spc="-1" strike="noStrike">
                <a:solidFill>
                  <a:srgbClr val="55649b"/>
                </a:solidFill>
                <a:latin typeface="Times New Roman"/>
              </a:rPr>
              <a:t>fiksuoto</a:t>
            </a: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 ilgio atviro teksto </a:t>
            </a:r>
            <a:r>
              <a:rPr b="1" lang="lt-LT" sz="2800" spc="-1" strike="noStrike">
                <a:solidFill>
                  <a:srgbClr val="55649b"/>
                </a:solidFill>
                <a:latin typeface="Times New Roman"/>
              </a:rPr>
              <a:t>blokas</a:t>
            </a: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 yra transformuojamas į tokio paties ilgio šifruotą teks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Ši transformacija atliekama naudojant vartotojo pateiktą slaptą raktą</a:t>
            </a:r>
            <a:r>
              <a:rPr b="0" lang="en-GB" sz="2800" spc="-1" strike="noStrike">
                <a:solidFill>
                  <a:srgbClr val="55649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Iššifravimas vykdomas taikant tas pačias transformacijas atbuline tvarka šifruotam blokui, naudojant tą patį šfravimo rak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Fiksuotas teksto ilgis yra vadinamas bloko dydžiu, daugumoje blokinių šifratorių naudojamas 64bitų blokas – ateičiai planuojamas 128bitų blok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52D-759B-46AD-ACC3-DFD9AF2E7A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Blokinis šifravimas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lock cipher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uoja griežtai nustatytu duomenų skaičiumi, transformuodamas ir perstatydamas to bloko bitus pagal užduotą rakt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v.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Data Encryption Stand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ktas –56 bitai, dirba su 64 bitų teksto blok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9680" y="2549520"/>
            <a:ext cx="88646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feistel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495680"/>
            <a:ext cx="7010640" cy="17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799-F010-448B-82F6-B489EC0699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algorit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 sutrumpinimas nuo žodžių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ata Encryption Standar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 Sukurtas 1970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is šifruoja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uomenis blokais po 64 bitu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 Šifravimui naudojama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56 bit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rak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fravimui naudojami poslinkiai bei perstatym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grindini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algoritmas kartojamas 16 kart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, nes ciklų kiekis yra eksponentiniai proporcingas laikui, kurio reikia rakto radimui siekiant “kenkėjiškai” dešifruo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rūkumas – per mažas rakto ilgis, spec dešifratoriai gali atspėti raktą (apie 22 val trunka)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rb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riple 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radėtas naudoti nu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999. 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udoj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tris kartus su skirtingais raktais, taigi rakto ilgis gaunasi  168bit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01, NIS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keitė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E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Advanced Encryption Standard)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ikimasi, ka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 pakankamai stiprus sekantiem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0-20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etų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B6B6-A93A-4C3C-ABCA-BBFCD1610E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duojamas pranešimas papildomas 0-liais, kad galima būtų koduoti imant blokus po 64 bi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 nešifruotą tekstą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123456789ABCDE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0 0001 0010 0011 0100 0101 0110 0111 1000 1001 1010 1011 1100 1101 1110 1111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0 0001 0010 0011 0100 0101 0110 0111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000 1001 1010 1011 1100 1101 1110 11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Čia L yra pirmi 32 bitai R – sekantys (iš kairės į dešin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peruo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64-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lo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audoda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rakt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56-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ktai saugom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64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lgi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8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k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nenaudoj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yzdžiui raktas K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10011 00110100 01010111 01111001 10011011 10111100 11011111 11110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FD8-08AF-4096-8568-E7258C71E6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adžioje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raktas 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yra perstato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PC-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57 49 41 33 25 17 9 1 58 50 42 34 26 18 10 2 59 51 43 35 27 19 11 3 60 52 44 36 63 55 47 39 31 23 15 7 62 54 46 38 30 22 14 6 61 53 45 37 29 21 13 5 28 20 12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0100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110100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101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11100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0110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111100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111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110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Gaunamas </a:t>
            </a:r>
            <a:r>
              <a:rPr b="1" lang="lt-LT" sz="2000" spc="-1" strike="noStrike">
                <a:solidFill>
                  <a:srgbClr val="000000"/>
                </a:solidFill>
                <a:latin typeface="Arial Unicode MS"/>
              </a:rPr>
              <a:t>56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 bitų naujas rak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+ = 1111000 0110011 0010101 0101111 0101010 1011001 1001111 0001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Jis sudalomas į dvi dalis po 28 bitus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= 1111000 0110011 0010101 0101111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= 0101010 1011001 1001111 0001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Sukuriama 16blokų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1&lt;=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&lt;=16.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Kiekviena pora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yra formuojama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š buvusios poro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-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-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atitinkamai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naudojant sekančias stumimo kairėn taisyk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D7C-AEB9-42DC-89CC-37931F1D6D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90720" y="1981080"/>
          <a:ext cx="5943600" cy="4140360"/>
        </p:xfrm>
        <a:graphic>
          <a:graphicData uri="http://schemas.openxmlformats.org/drawingml/2006/table">
            <a:tbl>
              <a:tblPr/>
              <a:tblGrid>
                <a:gridCol w="1218960"/>
                <a:gridCol w="1524240"/>
                <a:gridCol w="1600200"/>
                <a:gridCol w="160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1143000" y="1295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teracijos NR – perstumiamų kairėn bitų skaič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ECF-266B-45EB-B4CF-B4F26869E0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-30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-3006720"/>
            <a:ext cx="3962520" cy="12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00001100110010101010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0110011001111000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000011001100101010101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101010110011001111000111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00110011001010101011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10011001111000111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0011001100101010101111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10011001111000111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100110010101010111111110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100110011110001111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11001010101011111111000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0011001111000111101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10010101010111111110000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01100111100011110101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10101010111111110000110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00111100011110101010101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01010101111111100001100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011110001111010101010110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1066680"/>
            <a:ext cx="3581280" cy="52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0111111110000110011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11100011110101010101100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111111100001100110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000111101010101011001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111111100001100110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0111101010101011001100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11111110000110011001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0111101010101011001100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111111000011001100101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1101010101011001100111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11100001100110010101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01010101011001100111100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100001100110010101010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10101010110011001111000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00001100110010101010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0110011001111000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304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unamos reikšm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E7D-AFE8-4157-B651-BAC1A5A099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Formuojami rakt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1&lt;=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&lt;=16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audojant antrą perstatymų lentelę  konkatenuotai por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os ilg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56 bi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bet naudojami tik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PC-2</a:t>
            </a:r>
            <a:r>
              <a:rPr b="1" lang="lt-LT" sz="2000" spc="-1" strike="noStrike">
                <a:solidFill>
                  <a:srgbClr val="000000"/>
                </a:solidFill>
                <a:latin typeface="Arial Unicode MS"/>
              </a:rPr>
              <a:t> imami bitai N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14 17 11 24 1 5 3 28 15 6 21 10 23 19 12 4 26 8 16 7 27 20 13 2 41 52 31 37 47 55 30 40 51 45 33 48 44 49 39 56 34 53 46 42 50 36 29 32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1110000 110011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1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010 1011111 1010101 0110011 0011110 00111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110 110000 001011 101111 111111 000111 000001 1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471A-0A25-4A98-9CC3-25294500FE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00110 110000 001011 101111 111111 000111 000001 1100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10 011010 111011 011001 110110 111100 100111 1001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0101 011111 110010 001010 010000 101100 111110 011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00 101010 110111 010110 110110 110011 010100 0111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11 001110 110000 000111 111010 110101 001110 10100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000 111010 010100 111110 010100 000111 101100 10111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1011 001000 010010 110111 111101 100001 100010 11110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1101 111000 101000 111010 110000 010011 101111 11101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1000 001101 101111 101011 111011 011110 011110 000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1100 011111 001101 000111 101110 100100 011001 00111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01000 010101 111111 010011 110111 101101 001110 00011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01 010111 000111 110101 100101 000110 011111 101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0101 111100 010111 010001 111110 101011 101001 000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0111 110100 001110 110111 111100 101110 011100 11101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1111 111001 000110 001101 001111 010011 111100 00101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0010 110011 110110 001011 000011 100001 011111 1101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F5AA-0752-4D5A-AD51-87FB123DEF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RIPT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ptografija – tai matematinė disciplina skirta duomenų šifravimui ir dešifravimu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riptoanalizė – metodai šifrui išsiaiškin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188-EB7A-4BB9-A458-EE2A58506A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Vykdo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anešimo M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itų  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pradinis perstatymas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vykdoma pagal lentel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IP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58 50 42 34 26 18 10 2 60 52 44 36 28 20 12 4 62 54 46 38 30 22 14 6 64 56 48 40 32 24 16 8 57 49 41 33 25 17 9 1 59 51 43 35 27 19 11 3 61 53 45 37 29 21 13 5 63 55 47 39 31 23 15 7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0000 0001 0010 0011 0100 0101 0110 0111 1000 1001 1010 1011 1100 1101 1110 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IP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1100 1100 0000 0000 1100 1100 1111 1111 1111 0000 1010 1010 1111 0000 1010 101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Tada IP sudalomas į kairią </a:t>
            </a: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L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bei dešinę </a:t>
            </a: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dal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L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1100 1100 0000 0000 1100 1100 1111 1111 </a:t>
            </a: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1111 0000 1010 1010 1111 0000 1010 101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17A-107E-45A0-9E7A-FED47C7D67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a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iški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XO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dėtį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dėtis moduliu 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mant nu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16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uoja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110 110000 001011 101111 111111 000111 000001 110010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111 0000 1010 1010 1111 0000 1010 1010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feiste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495680"/>
            <a:ext cx="70106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A05-C849-42DD-B363-A1B916E9BF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uojant funkciją f reikia pradžioje atlikti šiuos veiksm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loką reikia išplėsti nu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ai vykdoma naudojant išrinkimo lentelę, kuri pakartoja kai kuriuos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i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ocedūra vadinama E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funkcija (32 bitai įėjime ir 48 bitai išėjime). Išrinkimui naudojama lentelė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E BI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šrinkimo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entel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32     1    2     3     4    5     4     5    6     7     8    9    8     9   10    11    12   13  12    13   14    15    16   17  16    17   18    19    20   21   20    21   22    23    24   25    24    25   26    27    28   29   28    29   30    31    32    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uoja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u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11 0000 1010 1010 1111 0000 1010 1010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110 100001 010101 010101 011110 100001 010101 0101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DE3-585C-4F87-9A54-AAB09A8233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2120" y="3808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unkcij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avimu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ykdom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unkcija s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 rakt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0110 110000 001011 101111 111111 000111 000001 110010 </a:t>
            </a:r>
            <a:br>
              <a:rPr sz="2400"/>
            </a:b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110 100001 010101 010101 011110 100001 010101 010101 </a:t>
            </a:r>
            <a:br>
              <a:rPr sz="2400"/>
            </a:b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000 010001 011110 111010 100001 100110 010100 10011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: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bi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rba 8 grupes po 6 bit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 6 bitų grupė naudojama kaip adresai lentelėse, vadinam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box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s  adresais S lentelėse yra patalpinti 4 bitų skaičiai, kurie pakeis tuos 6 bitus. Rezultate vėl gausis 32 bitų ilgio dyd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BFBC-8ED0-46B0-91A1-77F94D2502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liekam surikiavimą po 6 bitu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či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grupė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kaičiuojam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žymi dyd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x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gaunamas  tai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1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Column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RowNo.    0  1   2  3   4  5   6  7   8  9  10 11  12 13  14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0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14  4  13  1   2 15  11  8   3 10   6 12   5  9   0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0 15   7  4  14  2  13  1  10  6  12 11   9  5   3  8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2 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4  1  14  8  13  6   2 11  15 12   9  7   3 10   5  0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3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15 12   8  2   4  9   1  7   5 11   3 14  10  0   6 13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Pirmas ir paskutinis B bitai sudaro skaičių, kuris g.b. ribose nuo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(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dvejetainėje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).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Lai tai bus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.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Vidurinia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B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bitai duos  dešimtainį skaičių nuo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(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dvejetainėje nuo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0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11).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Lai tai bus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903-9640-4CAE-A157-3C40BC1A85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000 010001 011110 111010 100001 100110 010100 10011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1 1100 1000 0010 1011 0101 1001 0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= </a:t>
            </a:r>
            <a:r>
              <a:rPr b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...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statyma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6   7  20  21  29  12  28  17   1  15  23  26   5  18  31  10   2   8  24  14   32  27   3   9  19  13  30   6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22  11   4  25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1 1100 1000 0010 1011 0101 1001 0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uname:   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10 0011 0100 1010 1010 1001 1011 10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A8E0-F59F-4AB2-AF76-5FE7F46754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7010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100 1100 0000 0000 1100 1100 1111 1111 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010 0011 0100 1010 1010 1001 1011 1011 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110 1111 0100 1010 0110 0101 0100 01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skaičiuojam analogiškai 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komas paskutinis perstaty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gal sekančią lentel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P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Unicode MS"/>
                <a:ea typeface="Courier New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           40     8   48    16    56   24    64   32   39     7   47    15    55   23    63   31   38     6   46    14    54   22    62   30   37     5   45    13    53   21    61   29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36     4   44    12    52   20    60   28            35     3   43    11    51   19    59   27  34     2   42    10    50   18    58   26  33     1   41     9    49   17    57   2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likę visus minėtus žingsnius gaus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0 0011 0100 0010 0011 0010 0011 0100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00 1010 0100 1100 1101 1001 1001 01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CF1-201B-4AF1-870B-F509FB37E4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001010 01001100 11011001 10010101 01000011 01000010 00110010 001101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00101 11101000 00010011 01010100 00001111 00001010 10110100 000001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ešioliktainiam formate tai duos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E813540F0AB40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g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23456789ABCDEF: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us užšfruotas kai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5E813540F0AB40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ešifravimas vykdomas kaip atvirkščias procesas šifravim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245F-7343-4C0C-8BE0-8296DE51BA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tak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prieš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DES / 3D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prasčiausias nulaužimo metodas yra “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ute-forc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 ieškant tinkamo rakto. Tai reikalauja išbandyt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5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akt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feren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cinė  kriptoanalizė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ose atakose bandoma nustatyti koreliacinį ryšį tarp funkcijo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ES algoritmo f-jos f įėjimo ir išėjim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duomenų. Toks metodas reikalauj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4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andymų, kas yra mažiau ne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rute forc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tipo atak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Tiesin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t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al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zė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ose atakose ieškoma koreliacijos tarp rakto ir šfratoriaus įėjimo/išėjimo.  Ši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eto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 reikalau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andymų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pras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 būti nulaužiamas per pakankamai trumpą laiką ir todėl nebelaikomas standar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akų prieš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epastebėta. Kadangi rakto ilgis pakankamai didelis, tai sunku naudoti ir “bruce-force” tipo atakas su esamais kompiuteriniais pajėgum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or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pakankamai saugus, tačia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IS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pakeitus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DE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aip šifravimo standar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61CB-00DE-432D-B120-FFA719E41E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schema, kuri remiasi DES ir yra naudojama slaptos informacijos (pavyzdžiui slaptažodžių ), siunčiamų tinklu iš klientų programų serveriniams procesams ar demonams šifravimu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088B-6652-4248-B8BE-8FB62D84B2C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Šifravimo svar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omų ir perduodamų Interneto tinkla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ų turiny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dažnai yra labai svar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erduodami duomenys dažnai būna surišti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inansinė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peracijom, pirkimais – pardavimais, atsiskaitymais, bilietų, viešbučių rezervacija ir kita vei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markiai išaugusi duomenų perdavimų apimtis, svarba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nfidencialu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elia reikalavimus apsisaugojimo nuo neautorizuoto šių duomenų naudoj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pripažįstama, kad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ų šifravimas yra ta priemonė, kuri leidžia apsaugoti duomenis juos saugant ar perduodant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aigi pakankamai stiprus šifravimas gali būti naudojamas duomenų konfidencialumui, autentiškumui , vientisumui užtikri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AE7-6E20-4B5A-9C76-6D7A9A499D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DEA – naudoja 128 bitų raktą, atsparesnis nulaužim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lipjack – tai naujas algoritmas, operuoja 80 bitų rak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Blow fish gali naudoti raktus nuo 32 iki 448 bitų il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089-3A73-43E3-97DD-19D39C769EB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uoja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64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tų blokus, naudojant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128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tų rak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s pats algoritmas taikomas tiek šifruojant, tiek dešifruoj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pakankamai naujas algoritmas (naudojamas keletą metų), dar nenulauž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kiekvienu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16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tų subbloku vykdomi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8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ciklai tokių operacijų kaip XOR, sumavimas (moduliu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^16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, daugyba (moduliu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^16+1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lgoritmas lėtesnis nei DES, bet greitesnis už 3DES algoritm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kaitoma, kad tai geriausias simetrinis algorit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igubas IDEA (triple-IDEA) tinka išrankiausi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506-18FF-4A79-B3B3-C78FF9ABCE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kipj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lgoritmas sukurtas NSA 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tional Security Agency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lgoritmas klasifikuojamas kaip slap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Žinoma tiek, kad yra simetrinis, naudoja 80 bi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SA naudoja šį algoritmą savų pranešimų 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433-CB91-4C23-9750-38796AAADA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Nauji šifravimo standartai ir algoritm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ST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skelbė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aują standartą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ES (Advanced Encryption Standard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2001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siūlyta daug kandidat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jndael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algoritma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ripažintas nugalėtoju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eletas geriausių algoritmų yr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jndael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kurt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John Daemen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be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Vincent Rijmen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audoja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raktų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ilg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cc"/>
                </a:solidFill>
                <a:latin typeface="Times New Roman"/>
              </a:rPr>
              <a:t>128 / 192 / 256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ok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dydis gali būt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33cc"/>
                </a:solidFill>
                <a:latin typeface="Times New Roman"/>
              </a:rPr>
              <a:t>128 / 192 / 256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Yra visapusiškas ir lengvai panaudojam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mart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ortelė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abar jis laikoma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C6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siūlyt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SA Labs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Jis gali būti lengv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arametriz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ojamas priėmimui raktų ilgių ik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04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grindinis privalumas prieš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DE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greitis. Jis daug greitesnis ne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3DE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įdiegiant jį tiek programiškai, tiek technologiška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lowfish / Twofish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kurta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ruce Schneier.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wofish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buvo tarp finalistų į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E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kandidatus ir jis remias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lowfish algoritm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. Gali naudoti raktus ik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448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Reikalauja mažai atminties šifravimui atlikti ir yra greitas. Tačiau šifravimo struktūra yra labai sudėtinga ir sunku ją analizuo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7F7-84FC-4242-9CDD-2F58BAE9911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utinio šifravimo algoritm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utinio tipo algoritmai vienu laiko momentu šifruoj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ą b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ą plaintex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blokinio šifravimo atveju imamas tam tikras bitų skaičius – 6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ai ir jie šifruojami kaip atskiras viene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generuoj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atsitiktin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omenų srautas ir jis kombinuojamas su realiais duomenimis. Pats žinomiausiai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lgorit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srautinis šifratorius, naudojant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inta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rakto ilgį. Jo operacijos yra orientuotos į baitus.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Algoritmas pagrįstas atsitiktinių perstatymų panaudoj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3FE-1EC5-492C-86A8-1B7B4E957B2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eno baito šifravimas reikalauj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8-16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mašininių operacij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4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naudoj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ilų šifrav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okiuose produktuose kai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SecurPC (RSA SecurPC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utilita, kuri šifruoj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sk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il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iek laptopuose, tiek personaliniuose kompiuteriuose). Kiekvien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il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yra šifruojamas naudojan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C4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 atsitiktinai sugeneruot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12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itų rak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ktas užšifruoj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artotojo slaptą rak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kuris yra užšifruojamas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ktą, išvestą iš vartotojo fraz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is taip pat naudojamas saugioms komunikacijoms užtikrinti –kaip kad ateinančio bei išeinančio srauto srauto iš saugių web saitų šifravimas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prot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8EA6-B659-44FD-ABEA-70A95B78F29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uminės simetrinių alg. charakteristik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1523880"/>
          <a:ext cx="7772400" cy="4571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ugu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itis 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86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kto ilg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Že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I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ai 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pja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483-0520-4CA5-B7B4-07EF1331EFB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gi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ilgis apsprendžia skaičių galimų rakto kombinacijų, kurias turėtų išbandyti įsilaužėjas parinkdamas raktą (32 skilčių raktui  reiktų pabandyti 4 milijardus kombinacijų)- jis auga eksponentiškai didėjant rakto ilgiu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šifravime naudojami raktai iki 1024 bit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C586-C99C-41B0-B499-2F621A9AE6B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suderin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suderinimas dažnai būna silpniausia grandimi šifravim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siog prieš seansą perduoti raktą yra nesaugu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ėl bandoma tai padaryti kitais būd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dencialumo apsauga naudojant simetrinį šifravimą gana paprastai realizuojama mažuose tinkluos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ngi slaptą raktą valdo abi ryšio pusės, tai darosi negalimu būti tikram tuo ką daro kita 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FF8-ED7A-4971-9BD9-124ECA8838D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79246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 X9.17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standartas aprašantis raktų valdymą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ancial Institution Key Management (Wholesale) standar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nusako kaip finansinės institucijos turi perduoti šifravimo raktus. Tai susiję su simetrinio šifravimo rakt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Finansinėms institucijoms reikia keisti daugumą šifravimo raktų kasdien ar kas sesiją. Netinka perdavimas kurjer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išskiriami 3 raktų tip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ukščiausio lygio “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KM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is perduodamas rankiniu bū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aktu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šifruojantys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EKs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ie perduodami “on-line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Žemiausio lygio –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uomen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Ds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duodami “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lin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uomenų raktai naudojami pagrindinei masei inf. šifruoti, keičiami kas sesiją arba kasdien. Nauji duomenų raktai perduodami vartotojams užšifruoti – naudojami raktus šifruojantys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aktus šifruojantys raktai yra šifruojami su “master” tipo raktu, keičiami periodiškai. “master” tipo raktai tiesiogiai neperduodami – naudojamas patikimas perdavi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121A-F453-44F2-ADD1-B8EA148F477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šifravimas ir atakos į šifravimo siste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riptoanalizė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šifruotos informacijos dešifravimo menas nežinant tikslaus rakto. Yra daug įvairios techniko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hertext-only attack: Tai atvejas, kai atakuotojas nežino nieko apie pranešimo turinį ir turi dirbti tik su šifruotu tekst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-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ntext attack: Atakuotojas žino arba gali įspėti kai kurias užšifruoto teksto dali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D8D5-A13A-4758-9059-9A7480D640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etrinis šifrav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komi du šifravimo –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o raktai; kiekvienas raktas vykd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ciją tik viena krypti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s iš raktų –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š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yra padaromas prieinamu visiems norintiems, o kitas –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us ( slaptas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laikomas paslapty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e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ai yra matematiškai priklausomi vienas nuo kito, tačiau nei vienas iš jų negali būti matematiškai nustatytas žinant kitą, per prieinamą laiką (ši savybė yra labai svarbi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72D2-63F8-4DBC-A74F-F9BDA6FF0F7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s raktai naudojami iš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ši raktai naudojami už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Šifrav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Atviras tekstas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Šifruotas tek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Viešas rak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šifrav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Šifruotas tekst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Atviras tek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 rak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419720" y="4876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48769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Raktų  panaudo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200400"/>
            <a:ext cx="3809880" cy="0"/>
          </a:xfrm>
          <a:prstGeom prst="line">
            <a:avLst/>
          </a:prstGeom>
          <a:ln w="2556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419720" y="3123720"/>
            <a:ext cx="0" cy="3049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96D-7BB5-4722-B4E7-804A819FABB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SA – tai viešo-rakto šifravimo sistema, sukurta 1977m. Naudojama tiek šifravimui, tiek autentifikacij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plačiausiai šiandien naudojama viešo- rakto sistema, todėl dažnai vadinama standarti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DAA8-BF2F-43B8-AD19-683C76B33CB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 algorit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renkami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Q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ankamai didel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24-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irmin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da randami E bei 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ie parenkami parenkan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s bus naudojama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čiavimui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)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P-1)*(Q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lim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inkti mažo, nes RSA kodavimo algoritmas ir pagrįstas tuo, kad asmuo, bandantis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a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nežino šio skaiči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d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čiau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 dalik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ai b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ikšm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da būtų šio skaičiaus daliny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E turi būti nelyginis, didesnis už 1,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P-1)(Q-1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neturi bendrų pirminių daugikli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Viešas raktas bu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,PQ)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Slaptas raktas bu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1F5-1DC0-4107-BC9B-2D0A1FD04BA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 pavyzd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 = 61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 = 53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Q = 32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 = 17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 = 275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Viešas raktas bu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,PQ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Slaptas raktas bu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o funkcija: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šifruot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T) = (T^E) mod PQ   = (T^17) mod 3233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šifravimas: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fruoti(C) = (C^D) mod PQ = (C^2753) mod 323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šifruot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123) = (123^17) mod 3233=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= 337587917446653715596592958817679803 mod 3233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= 855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fruoti 855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= (855^2753) mod 3233     = 12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790-5E57-40B5-8276-1B4327213A6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SA algoritmas pagrįst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ija daugyb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veiksm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aktiniuose pritaikymuose priimta im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esn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laipsnio rodikliu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ieša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rakte nei privačiam rakte, taigi šifravimas būna greitesnis nei dešifrav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SA g.b. įdiegi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ogramiš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rb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ikroschem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S algoritmas (realizuotas programiškai) yra 100 kartų greitesnis nei 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SA algoritmas atsparus nulaužim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D4A1-B98A-4CBE-B253-A005C488104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iti algorit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Diffie-Helma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– tai viešo rakto algoritmas naudojamas pasikeitimui raktais. Skaitomas saugiu, jei imami pakankamai ilgi raktai ir tinkami generator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DS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tai JAV vyriausybinis skaitmeninio parašo standartas. Algoritmas panašus į Diffie-Helman, tačiau jo projektas neatskleidžia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ti: ElGamal, LUC, Elliptic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F8D-09C0-46C7-BF81-57BBDFCA9BD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Asimetrinių algoritmų charakteristik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81080"/>
                <a:gridCol w="19051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u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it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kto ilg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i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ta (1024 – saugu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ie-Hell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ėtesnis nei 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ta (1028 – saugu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že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bit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393-8EAF-4C6F-B1A5-1FCB9A66310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fidencialumas, vientisumas, autentišku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ktų panaudojimas padeda išspręsti informacijos konfidencialumo proble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jos vientisumas ir autentiškumas yra garantuojamas tuo, kad užkodavus informaciją sav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vač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u, kurio niekas nežino, ją galima atkoduot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š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u, kuris yra prieinamas visiems dalyviams, ir įsitikinti, kad informacija tikrai buvo pasiųsta to žmogaus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š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o tikėtas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950-8295-4403-8EDE-A3D3A0EC3AE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bridinės procedūr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bridinėse procedūrose naudojamos tiek simetrinės, tiek asimetrinės procedūr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binuojami abiejų metodų privalumai:simetrinio šifravimo greitis ir asimetrinio šifravimo saug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nešimas yra užšifruojamas simetrišku šifravi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jos raktas yra asimetriškai užkoduojamas su gav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šu raktu ir užkoduotas sesijos raktas pasiunčiamas kartu su pranešim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7A9-B2EB-4869-A1F5-2FCCDCFA8E5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duomenų transformacija į tokią formą, kuri padarytų praktiškai neįmanomu tų duomenų perskaitymą be atitinkamų žinių(rak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o tikslas yra užtikrinti duomenų privatumą, t.y. jos paslėpimą nuo tų, kuriems ji nėra skirt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et ir tuo atvej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kai jie gali prieiti prie šifruotų duomen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Iššifravima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 atvirkščias procesas – tai šifruotų duomenų transformacija į pirminę for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a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rtu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ndžia duomenų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kav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v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lemas. Paprastai tam buvo naudojami antspaudai bei parašai. Tai netinka kompiuterinių tinklų atvej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mi raktai bei šifravimo algoritma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BCC-4CA1-4A3C-B151-EC2536FC1F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kaitmeniniai paraš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šo rakto šifravimas naudojamas ir skaitmeniniuose parašu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pasirašy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Atviras teksta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pasirašytas laišk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rivat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us rak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pasirašytas laiš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Atviras tek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šas rak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3048120"/>
            <a:ext cx="2133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480060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81480" y="4800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09880" y="30481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34F-E52C-47FC-B891-974FD36ECD2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menini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š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s</a:t>
            </a:r>
            <a:br>
              <a:rPr sz="4000"/>
            </a:b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gital signature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nešimų šifravimas privačiu raktu (private-key) yra elektroninis analogas ranka rašomam parašui – todėl vadinamas skaitmeniniu paraš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meninis parašas – tai yra duomenų blokas, kuris yra sukuriamas naudojant slaptą (privatų) raktą. Viešas raktas gali būti panaudotas patikrinimui, ar parašas iš tiesų buvo sukurtas naudojant atitinkamą slaptą rakt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arant skaitmeninį parašą siunčiamam  pranešimui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taikomas hash algoritmas ir suskaičiuojama hash funkc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kšmė 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dige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Šita gauta reikšmė yra užšifruojama naudojant privatų raktą. Rezultate gautas šifruotas blokas ir yra paraš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1E15-4DE7-4EF3-B8C9-38DC1D57EC1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Perdavimas nesaugiu kanalu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i paiųs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b  priv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aneš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ice’s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vieša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ice’s privat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u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ob’s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vieša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ob’s privat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u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C5F-A7DD-4396-8733-9EB1BFDB06BB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895480" y="457200"/>
            <a:ext cx="6019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Bob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na get toge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0960" y="671400"/>
            <a:ext cx="263520" cy="542880"/>
          </a:xfrm>
          <a:custGeom>
            <a:avLst/>
            <a:gdLst/>
            <a:ahLst/>
            <a:rect l="l" t="t" r="r" b="b"/>
            <a:pathLst>
              <a:path w="166" h="342">
                <a:moveTo>
                  <a:pt x="56" y="32"/>
                </a:moveTo>
                <a:lnTo>
                  <a:pt x="86" y="8"/>
                </a:lnTo>
                <a:lnTo>
                  <a:pt x="122" y="0"/>
                </a:lnTo>
                <a:lnTo>
                  <a:pt x="147" y="1"/>
                </a:lnTo>
                <a:lnTo>
                  <a:pt x="152" y="22"/>
                </a:lnTo>
                <a:lnTo>
                  <a:pt x="150" y="48"/>
                </a:lnTo>
                <a:lnTo>
                  <a:pt x="122" y="80"/>
                </a:lnTo>
                <a:lnTo>
                  <a:pt x="104" y="127"/>
                </a:lnTo>
                <a:lnTo>
                  <a:pt x="103" y="175"/>
                </a:lnTo>
                <a:lnTo>
                  <a:pt x="116" y="219"/>
                </a:lnTo>
                <a:lnTo>
                  <a:pt x="133" y="259"/>
                </a:lnTo>
                <a:lnTo>
                  <a:pt x="165" y="293"/>
                </a:lnTo>
                <a:lnTo>
                  <a:pt x="165" y="304"/>
                </a:lnTo>
                <a:lnTo>
                  <a:pt x="160" y="328"/>
                </a:lnTo>
                <a:lnTo>
                  <a:pt x="137" y="339"/>
                </a:lnTo>
                <a:lnTo>
                  <a:pt x="112" y="341"/>
                </a:lnTo>
                <a:lnTo>
                  <a:pt x="69" y="332"/>
                </a:lnTo>
                <a:lnTo>
                  <a:pt x="35" y="304"/>
                </a:lnTo>
                <a:lnTo>
                  <a:pt x="18" y="255"/>
                </a:lnTo>
                <a:lnTo>
                  <a:pt x="5" y="223"/>
                </a:lnTo>
                <a:lnTo>
                  <a:pt x="0" y="182"/>
                </a:lnTo>
                <a:lnTo>
                  <a:pt x="4" y="127"/>
                </a:lnTo>
                <a:lnTo>
                  <a:pt x="18" y="81"/>
                </a:lnTo>
                <a:lnTo>
                  <a:pt x="35" y="51"/>
                </a:lnTo>
                <a:lnTo>
                  <a:pt x="56" y="3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33480" y="668160"/>
            <a:ext cx="417600" cy="373320"/>
          </a:xfrm>
          <a:custGeom>
            <a:avLst/>
            <a:gdLst/>
            <a:ahLst/>
            <a:rect l="l" t="t" r="r" b="b"/>
            <a:pathLst>
              <a:path w="263" h="235">
                <a:moveTo>
                  <a:pt x="0" y="16"/>
                </a:moveTo>
                <a:lnTo>
                  <a:pt x="8" y="0"/>
                </a:lnTo>
                <a:lnTo>
                  <a:pt x="25" y="0"/>
                </a:lnTo>
                <a:lnTo>
                  <a:pt x="46" y="17"/>
                </a:lnTo>
                <a:lnTo>
                  <a:pt x="61" y="61"/>
                </a:lnTo>
                <a:lnTo>
                  <a:pt x="72" y="112"/>
                </a:lnTo>
                <a:lnTo>
                  <a:pt x="81" y="166"/>
                </a:lnTo>
                <a:lnTo>
                  <a:pt x="108" y="206"/>
                </a:lnTo>
                <a:lnTo>
                  <a:pt x="108" y="207"/>
                </a:lnTo>
                <a:lnTo>
                  <a:pt x="108" y="215"/>
                </a:lnTo>
                <a:lnTo>
                  <a:pt x="145" y="210"/>
                </a:lnTo>
                <a:lnTo>
                  <a:pt x="184" y="189"/>
                </a:lnTo>
                <a:lnTo>
                  <a:pt x="201" y="170"/>
                </a:lnTo>
                <a:lnTo>
                  <a:pt x="232" y="116"/>
                </a:lnTo>
                <a:lnTo>
                  <a:pt x="232" y="96"/>
                </a:lnTo>
                <a:lnTo>
                  <a:pt x="220" y="79"/>
                </a:lnTo>
                <a:lnTo>
                  <a:pt x="207" y="53"/>
                </a:lnTo>
                <a:lnTo>
                  <a:pt x="203" y="43"/>
                </a:lnTo>
                <a:lnTo>
                  <a:pt x="218" y="38"/>
                </a:lnTo>
                <a:lnTo>
                  <a:pt x="237" y="39"/>
                </a:lnTo>
                <a:lnTo>
                  <a:pt x="249" y="49"/>
                </a:lnTo>
                <a:lnTo>
                  <a:pt x="262" y="71"/>
                </a:lnTo>
                <a:lnTo>
                  <a:pt x="255" y="111"/>
                </a:lnTo>
                <a:lnTo>
                  <a:pt x="249" y="133"/>
                </a:lnTo>
                <a:lnTo>
                  <a:pt x="220" y="178"/>
                </a:lnTo>
                <a:lnTo>
                  <a:pt x="195" y="211"/>
                </a:lnTo>
                <a:lnTo>
                  <a:pt x="147" y="226"/>
                </a:lnTo>
                <a:lnTo>
                  <a:pt x="108" y="234"/>
                </a:lnTo>
                <a:lnTo>
                  <a:pt x="78" y="221"/>
                </a:lnTo>
                <a:lnTo>
                  <a:pt x="64" y="178"/>
                </a:lnTo>
                <a:lnTo>
                  <a:pt x="48" y="126"/>
                </a:lnTo>
                <a:lnTo>
                  <a:pt x="34" y="87"/>
                </a:lnTo>
                <a:lnTo>
                  <a:pt x="18" y="65"/>
                </a:lnTo>
                <a:lnTo>
                  <a:pt x="0" y="43"/>
                </a:lnTo>
                <a:lnTo>
                  <a:pt x="0" y="16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025640" y="668160"/>
            <a:ext cx="385560" cy="325440"/>
            <a:chOff x="1025640" y="668160"/>
            <a:chExt cx="385560" cy="325440"/>
          </a:xfrm>
        </p:grpSpPr>
        <p:sp>
          <p:nvSpPr>
            <p:cNvPr id="159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2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677880"/>
              <a:ext cx="155520" cy="117360"/>
            </a:xfrm>
            <a:custGeom>
              <a:avLst/>
              <a:gdLst/>
              <a:ahLst/>
              <a:rect l="l" t="t" r="r" b="b"/>
              <a:pathLst>
                <a:path w="98" h="74">
                  <a:moveTo>
                    <a:pt x="0" y="69"/>
                  </a:moveTo>
                  <a:lnTo>
                    <a:pt x="26" y="73"/>
                  </a:lnTo>
                  <a:lnTo>
                    <a:pt x="47" y="66"/>
                  </a:lnTo>
                  <a:lnTo>
                    <a:pt x="61" y="59"/>
                  </a:lnTo>
                  <a:lnTo>
                    <a:pt x="79" y="48"/>
                  </a:lnTo>
                  <a:lnTo>
                    <a:pt x="91" y="36"/>
                  </a:lnTo>
                  <a:lnTo>
                    <a:pt x="97" y="15"/>
                  </a:lnTo>
                  <a:lnTo>
                    <a:pt x="97" y="3"/>
                  </a:lnTo>
                  <a:lnTo>
                    <a:pt x="9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09480" y="660240"/>
            <a:ext cx="603360" cy="382680"/>
          </a:xfrm>
          <a:custGeom>
            <a:avLst/>
            <a:gdLst/>
            <a:ahLst/>
            <a:rect l="l" t="t" r="r" b="b"/>
            <a:pathLst>
              <a:path w="380" h="241">
                <a:moveTo>
                  <a:pt x="134" y="10"/>
                </a:moveTo>
                <a:lnTo>
                  <a:pt x="166" y="0"/>
                </a:lnTo>
                <a:lnTo>
                  <a:pt x="184" y="10"/>
                </a:lnTo>
                <a:lnTo>
                  <a:pt x="184" y="36"/>
                </a:lnTo>
                <a:lnTo>
                  <a:pt x="155" y="64"/>
                </a:lnTo>
                <a:lnTo>
                  <a:pt x="106" y="79"/>
                </a:lnTo>
                <a:lnTo>
                  <a:pt x="68" y="105"/>
                </a:lnTo>
                <a:lnTo>
                  <a:pt x="43" y="137"/>
                </a:lnTo>
                <a:lnTo>
                  <a:pt x="30" y="162"/>
                </a:lnTo>
                <a:lnTo>
                  <a:pt x="30" y="184"/>
                </a:lnTo>
                <a:lnTo>
                  <a:pt x="46" y="208"/>
                </a:lnTo>
                <a:lnTo>
                  <a:pt x="84" y="219"/>
                </a:lnTo>
                <a:lnTo>
                  <a:pt x="116" y="221"/>
                </a:lnTo>
                <a:lnTo>
                  <a:pt x="164" y="219"/>
                </a:lnTo>
                <a:lnTo>
                  <a:pt x="224" y="204"/>
                </a:lnTo>
                <a:lnTo>
                  <a:pt x="262" y="174"/>
                </a:lnTo>
                <a:lnTo>
                  <a:pt x="287" y="149"/>
                </a:lnTo>
                <a:lnTo>
                  <a:pt x="280" y="126"/>
                </a:lnTo>
                <a:lnTo>
                  <a:pt x="282" y="112"/>
                </a:lnTo>
                <a:lnTo>
                  <a:pt x="309" y="120"/>
                </a:lnTo>
                <a:lnTo>
                  <a:pt x="336" y="120"/>
                </a:lnTo>
                <a:lnTo>
                  <a:pt x="356" y="105"/>
                </a:lnTo>
                <a:lnTo>
                  <a:pt x="369" y="94"/>
                </a:lnTo>
                <a:lnTo>
                  <a:pt x="378" y="97"/>
                </a:lnTo>
                <a:lnTo>
                  <a:pt x="379" y="105"/>
                </a:lnTo>
                <a:lnTo>
                  <a:pt x="370" y="126"/>
                </a:lnTo>
                <a:lnTo>
                  <a:pt x="370" y="146"/>
                </a:lnTo>
                <a:lnTo>
                  <a:pt x="360" y="160"/>
                </a:lnTo>
                <a:lnTo>
                  <a:pt x="336" y="171"/>
                </a:lnTo>
                <a:lnTo>
                  <a:pt x="314" y="171"/>
                </a:lnTo>
                <a:lnTo>
                  <a:pt x="291" y="174"/>
                </a:lnTo>
                <a:lnTo>
                  <a:pt x="245" y="207"/>
                </a:lnTo>
                <a:lnTo>
                  <a:pt x="211" y="224"/>
                </a:lnTo>
                <a:lnTo>
                  <a:pt x="157" y="237"/>
                </a:lnTo>
                <a:lnTo>
                  <a:pt x="102" y="240"/>
                </a:lnTo>
                <a:lnTo>
                  <a:pt x="60" y="232"/>
                </a:lnTo>
                <a:lnTo>
                  <a:pt x="29" y="222"/>
                </a:lnTo>
                <a:lnTo>
                  <a:pt x="8" y="203"/>
                </a:lnTo>
                <a:lnTo>
                  <a:pt x="0" y="181"/>
                </a:lnTo>
                <a:lnTo>
                  <a:pt x="0" y="148"/>
                </a:lnTo>
                <a:lnTo>
                  <a:pt x="13" y="126"/>
                </a:lnTo>
                <a:lnTo>
                  <a:pt x="29" y="105"/>
                </a:lnTo>
                <a:lnTo>
                  <a:pt x="50" y="80"/>
                </a:lnTo>
                <a:lnTo>
                  <a:pt x="82" y="60"/>
                </a:lnTo>
                <a:lnTo>
                  <a:pt x="102" y="39"/>
                </a:lnTo>
                <a:lnTo>
                  <a:pt x="116" y="22"/>
                </a:lnTo>
                <a:lnTo>
                  <a:pt x="134" y="1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36720" y="1138320"/>
            <a:ext cx="274680" cy="544320"/>
          </a:xfrm>
          <a:custGeom>
            <a:avLst/>
            <a:gdLst/>
            <a:ahLst/>
            <a:rect l="l" t="t" r="r" b="b"/>
            <a:pathLst>
              <a:path w="173" h="343">
                <a:moveTo>
                  <a:pt x="13" y="0"/>
                </a:moveTo>
                <a:lnTo>
                  <a:pt x="43" y="15"/>
                </a:lnTo>
                <a:lnTo>
                  <a:pt x="74" y="56"/>
                </a:lnTo>
                <a:lnTo>
                  <a:pt x="94" y="86"/>
                </a:lnTo>
                <a:lnTo>
                  <a:pt x="108" y="120"/>
                </a:lnTo>
                <a:lnTo>
                  <a:pt x="124" y="153"/>
                </a:lnTo>
                <a:lnTo>
                  <a:pt x="137" y="192"/>
                </a:lnTo>
                <a:lnTo>
                  <a:pt x="137" y="219"/>
                </a:lnTo>
                <a:lnTo>
                  <a:pt x="117" y="241"/>
                </a:lnTo>
                <a:lnTo>
                  <a:pt x="103" y="262"/>
                </a:lnTo>
                <a:lnTo>
                  <a:pt x="81" y="280"/>
                </a:lnTo>
                <a:lnTo>
                  <a:pt x="72" y="295"/>
                </a:lnTo>
                <a:lnTo>
                  <a:pt x="83" y="305"/>
                </a:lnTo>
                <a:lnTo>
                  <a:pt x="98" y="306"/>
                </a:lnTo>
                <a:lnTo>
                  <a:pt x="134" y="310"/>
                </a:lnTo>
                <a:lnTo>
                  <a:pt x="159" y="320"/>
                </a:lnTo>
                <a:lnTo>
                  <a:pt x="172" y="328"/>
                </a:lnTo>
                <a:lnTo>
                  <a:pt x="163" y="339"/>
                </a:lnTo>
                <a:lnTo>
                  <a:pt x="142" y="342"/>
                </a:lnTo>
                <a:lnTo>
                  <a:pt x="112" y="332"/>
                </a:lnTo>
                <a:lnTo>
                  <a:pt x="95" y="323"/>
                </a:lnTo>
                <a:lnTo>
                  <a:pt x="59" y="316"/>
                </a:lnTo>
                <a:lnTo>
                  <a:pt x="50" y="314"/>
                </a:lnTo>
                <a:lnTo>
                  <a:pt x="46" y="302"/>
                </a:lnTo>
                <a:lnTo>
                  <a:pt x="52" y="287"/>
                </a:lnTo>
                <a:lnTo>
                  <a:pt x="81" y="259"/>
                </a:lnTo>
                <a:lnTo>
                  <a:pt x="95" y="241"/>
                </a:lnTo>
                <a:lnTo>
                  <a:pt x="112" y="207"/>
                </a:lnTo>
                <a:lnTo>
                  <a:pt x="117" y="190"/>
                </a:lnTo>
                <a:lnTo>
                  <a:pt x="100" y="146"/>
                </a:lnTo>
                <a:lnTo>
                  <a:pt x="68" y="101"/>
                </a:lnTo>
                <a:lnTo>
                  <a:pt x="37" y="72"/>
                </a:lnTo>
                <a:lnTo>
                  <a:pt x="22" y="49"/>
                </a:lnTo>
                <a:lnTo>
                  <a:pt x="4" y="36"/>
                </a:lnTo>
                <a:lnTo>
                  <a:pt x="0" y="17"/>
                </a:lnTo>
                <a:lnTo>
                  <a:pt x="13" y="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4120" y="1136520"/>
            <a:ext cx="247680" cy="507960"/>
          </a:xfrm>
          <a:custGeom>
            <a:avLst/>
            <a:gdLst/>
            <a:ahLst/>
            <a:rect l="l" t="t" r="r" b="b"/>
            <a:pathLst>
              <a:path w="156" h="320">
                <a:moveTo>
                  <a:pt x="85" y="30"/>
                </a:moveTo>
                <a:lnTo>
                  <a:pt x="116" y="3"/>
                </a:lnTo>
                <a:lnTo>
                  <a:pt x="152" y="0"/>
                </a:lnTo>
                <a:lnTo>
                  <a:pt x="155" y="23"/>
                </a:lnTo>
                <a:lnTo>
                  <a:pt x="134" y="39"/>
                </a:lnTo>
                <a:lnTo>
                  <a:pt x="105" y="52"/>
                </a:lnTo>
                <a:lnTo>
                  <a:pt x="81" y="74"/>
                </a:lnTo>
                <a:lnTo>
                  <a:pt x="77" y="103"/>
                </a:lnTo>
                <a:lnTo>
                  <a:pt x="81" y="146"/>
                </a:lnTo>
                <a:lnTo>
                  <a:pt x="94" y="220"/>
                </a:lnTo>
                <a:lnTo>
                  <a:pt x="108" y="266"/>
                </a:lnTo>
                <a:lnTo>
                  <a:pt x="124" y="299"/>
                </a:lnTo>
                <a:lnTo>
                  <a:pt x="121" y="315"/>
                </a:lnTo>
                <a:lnTo>
                  <a:pt x="105" y="317"/>
                </a:lnTo>
                <a:lnTo>
                  <a:pt x="74" y="310"/>
                </a:lnTo>
                <a:lnTo>
                  <a:pt x="40" y="310"/>
                </a:lnTo>
                <a:lnTo>
                  <a:pt x="21" y="319"/>
                </a:lnTo>
                <a:lnTo>
                  <a:pt x="4" y="315"/>
                </a:lnTo>
                <a:lnTo>
                  <a:pt x="0" y="297"/>
                </a:lnTo>
                <a:lnTo>
                  <a:pt x="17" y="293"/>
                </a:lnTo>
                <a:lnTo>
                  <a:pt x="51" y="293"/>
                </a:lnTo>
                <a:lnTo>
                  <a:pt x="102" y="303"/>
                </a:lnTo>
                <a:lnTo>
                  <a:pt x="105" y="299"/>
                </a:lnTo>
                <a:lnTo>
                  <a:pt x="100" y="284"/>
                </a:lnTo>
                <a:lnTo>
                  <a:pt x="81" y="230"/>
                </a:lnTo>
                <a:lnTo>
                  <a:pt x="73" y="186"/>
                </a:lnTo>
                <a:lnTo>
                  <a:pt x="60" y="132"/>
                </a:lnTo>
                <a:lnTo>
                  <a:pt x="60" y="94"/>
                </a:lnTo>
                <a:lnTo>
                  <a:pt x="61" y="65"/>
                </a:lnTo>
                <a:lnTo>
                  <a:pt x="68" y="44"/>
                </a:lnTo>
                <a:lnTo>
                  <a:pt x="85" y="3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96760" y="380880"/>
            <a:ext cx="290520" cy="273240"/>
          </a:xfrm>
          <a:custGeom>
            <a:avLst/>
            <a:gdLst/>
            <a:ahLst/>
            <a:rect l="l" t="t" r="r" b="b"/>
            <a:pathLst>
              <a:path w="183" h="172">
                <a:moveTo>
                  <a:pt x="0" y="152"/>
                </a:moveTo>
                <a:lnTo>
                  <a:pt x="0" y="114"/>
                </a:lnTo>
                <a:lnTo>
                  <a:pt x="8" y="72"/>
                </a:lnTo>
                <a:lnTo>
                  <a:pt x="29" y="38"/>
                </a:lnTo>
                <a:lnTo>
                  <a:pt x="57" y="17"/>
                </a:lnTo>
                <a:lnTo>
                  <a:pt x="87" y="1"/>
                </a:lnTo>
                <a:lnTo>
                  <a:pt x="113" y="0"/>
                </a:lnTo>
                <a:lnTo>
                  <a:pt x="141" y="5"/>
                </a:lnTo>
                <a:lnTo>
                  <a:pt x="155" y="20"/>
                </a:lnTo>
                <a:lnTo>
                  <a:pt x="163" y="38"/>
                </a:lnTo>
                <a:lnTo>
                  <a:pt x="160" y="58"/>
                </a:lnTo>
                <a:lnTo>
                  <a:pt x="156" y="80"/>
                </a:lnTo>
                <a:lnTo>
                  <a:pt x="141" y="98"/>
                </a:lnTo>
                <a:lnTo>
                  <a:pt x="182" y="140"/>
                </a:lnTo>
                <a:lnTo>
                  <a:pt x="176" y="151"/>
                </a:lnTo>
                <a:lnTo>
                  <a:pt x="130" y="118"/>
                </a:lnTo>
                <a:lnTo>
                  <a:pt x="104" y="143"/>
                </a:lnTo>
                <a:lnTo>
                  <a:pt x="76" y="162"/>
                </a:lnTo>
                <a:lnTo>
                  <a:pt x="48" y="171"/>
                </a:lnTo>
                <a:lnTo>
                  <a:pt x="25" y="171"/>
                </a:lnTo>
                <a:lnTo>
                  <a:pt x="8" y="163"/>
                </a:lnTo>
                <a:lnTo>
                  <a:pt x="0" y="15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27520" y="685800"/>
            <a:ext cx="264960" cy="565200"/>
          </a:xfrm>
          <a:custGeom>
            <a:avLst/>
            <a:gdLst/>
            <a:ahLst/>
            <a:rect l="l" t="t" r="r" b="b"/>
            <a:pathLst>
              <a:path w="167" h="356">
                <a:moveTo>
                  <a:pt x="109" y="34"/>
                </a:moveTo>
                <a:lnTo>
                  <a:pt x="79" y="8"/>
                </a:lnTo>
                <a:lnTo>
                  <a:pt x="43" y="0"/>
                </a:lnTo>
                <a:lnTo>
                  <a:pt x="17" y="1"/>
                </a:lnTo>
                <a:lnTo>
                  <a:pt x="12" y="22"/>
                </a:lnTo>
                <a:lnTo>
                  <a:pt x="14" y="51"/>
                </a:lnTo>
                <a:lnTo>
                  <a:pt x="43" y="84"/>
                </a:lnTo>
                <a:lnTo>
                  <a:pt x="60" y="133"/>
                </a:lnTo>
                <a:lnTo>
                  <a:pt x="62" y="182"/>
                </a:lnTo>
                <a:lnTo>
                  <a:pt x="49" y="228"/>
                </a:lnTo>
                <a:lnTo>
                  <a:pt x="31" y="270"/>
                </a:lnTo>
                <a:lnTo>
                  <a:pt x="0" y="305"/>
                </a:lnTo>
                <a:lnTo>
                  <a:pt x="0" y="317"/>
                </a:lnTo>
                <a:lnTo>
                  <a:pt x="4" y="342"/>
                </a:lnTo>
                <a:lnTo>
                  <a:pt x="27" y="353"/>
                </a:lnTo>
                <a:lnTo>
                  <a:pt x="53" y="355"/>
                </a:lnTo>
                <a:lnTo>
                  <a:pt x="96" y="346"/>
                </a:lnTo>
                <a:lnTo>
                  <a:pt x="130" y="317"/>
                </a:lnTo>
                <a:lnTo>
                  <a:pt x="147" y="266"/>
                </a:lnTo>
                <a:lnTo>
                  <a:pt x="160" y="233"/>
                </a:lnTo>
                <a:lnTo>
                  <a:pt x="166" y="190"/>
                </a:lnTo>
                <a:lnTo>
                  <a:pt x="161" y="133"/>
                </a:lnTo>
                <a:lnTo>
                  <a:pt x="147" y="85"/>
                </a:lnTo>
                <a:lnTo>
                  <a:pt x="130" y="53"/>
                </a:lnTo>
                <a:lnTo>
                  <a:pt x="109" y="34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679320"/>
            <a:ext cx="419040" cy="390600"/>
          </a:xfrm>
          <a:custGeom>
            <a:avLst/>
            <a:gdLst/>
            <a:ahLst/>
            <a:rect l="l" t="t" r="r" b="b"/>
            <a:pathLst>
              <a:path w="264" h="246">
                <a:moveTo>
                  <a:pt x="263" y="17"/>
                </a:moveTo>
                <a:lnTo>
                  <a:pt x="254" y="0"/>
                </a:lnTo>
                <a:lnTo>
                  <a:pt x="237" y="0"/>
                </a:lnTo>
                <a:lnTo>
                  <a:pt x="215" y="19"/>
                </a:lnTo>
                <a:lnTo>
                  <a:pt x="201" y="65"/>
                </a:lnTo>
                <a:lnTo>
                  <a:pt x="189" y="119"/>
                </a:lnTo>
                <a:lnTo>
                  <a:pt x="181" y="174"/>
                </a:lnTo>
                <a:lnTo>
                  <a:pt x="154" y="217"/>
                </a:lnTo>
                <a:lnTo>
                  <a:pt x="154" y="218"/>
                </a:lnTo>
                <a:lnTo>
                  <a:pt x="154" y="226"/>
                </a:lnTo>
                <a:lnTo>
                  <a:pt x="116" y="220"/>
                </a:lnTo>
                <a:lnTo>
                  <a:pt x="77" y="198"/>
                </a:lnTo>
                <a:lnTo>
                  <a:pt x="60" y="179"/>
                </a:lnTo>
                <a:lnTo>
                  <a:pt x="30" y="122"/>
                </a:lnTo>
                <a:lnTo>
                  <a:pt x="30" y="101"/>
                </a:lnTo>
                <a:lnTo>
                  <a:pt x="41" y="82"/>
                </a:lnTo>
                <a:lnTo>
                  <a:pt x="54" y="56"/>
                </a:lnTo>
                <a:lnTo>
                  <a:pt x="58" y="46"/>
                </a:lnTo>
                <a:lnTo>
                  <a:pt x="43" y="41"/>
                </a:lnTo>
                <a:lnTo>
                  <a:pt x="24" y="42"/>
                </a:lnTo>
                <a:lnTo>
                  <a:pt x="12" y="52"/>
                </a:lnTo>
                <a:lnTo>
                  <a:pt x="0" y="75"/>
                </a:lnTo>
                <a:lnTo>
                  <a:pt x="7" y="117"/>
                </a:lnTo>
                <a:lnTo>
                  <a:pt x="12" y="140"/>
                </a:lnTo>
                <a:lnTo>
                  <a:pt x="41" y="188"/>
                </a:lnTo>
                <a:lnTo>
                  <a:pt x="67" y="222"/>
                </a:lnTo>
                <a:lnTo>
                  <a:pt x="114" y="237"/>
                </a:lnTo>
                <a:lnTo>
                  <a:pt x="154" y="245"/>
                </a:lnTo>
                <a:lnTo>
                  <a:pt x="184" y="232"/>
                </a:lnTo>
                <a:lnTo>
                  <a:pt x="198" y="188"/>
                </a:lnTo>
                <a:lnTo>
                  <a:pt x="214" y="132"/>
                </a:lnTo>
                <a:lnTo>
                  <a:pt x="227" y="91"/>
                </a:lnTo>
                <a:lnTo>
                  <a:pt x="244" y="69"/>
                </a:lnTo>
                <a:lnTo>
                  <a:pt x="261" y="46"/>
                </a:lnTo>
                <a:lnTo>
                  <a:pt x="263" y="17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532240" y="679320"/>
            <a:ext cx="382320" cy="341280"/>
            <a:chOff x="2532240" y="679320"/>
            <a:chExt cx="382320" cy="341280"/>
          </a:xfrm>
        </p:grpSpPr>
        <p:sp>
          <p:nvSpPr>
            <p:cNvPr id="169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  <a:lnTo>
                    <a:pt x="236" y="7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57600" y="690480"/>
              <a:ext cx="153720" cy="12240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96" y="72"/>
                  </a:moveTo>
                  <a:lnTo>
                    <a:pt x="69" y="76"/>
                  </a:lnTo>
                  <a:lnTo>
                    <a:pt x="49" y="69"/>
                  </a:lnTo>
                  <a:lnTo>
                    <a:pt x="34" y="61"/>
                  </a:lnTo>
                  <a:lnTo>
                    <a:pt x="17" y="51"/>
                  </a:lnTo>
                  <a:lnTo>
                    <a:pt x="5" y="38"/>
                  </a:lnTo>
                  <a:lnTo>
                    <a:pt x="0" y="16"/>
                  </a:lnTo>
                  <a:lnTo>
                    <a:pt x="0" y="3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727360" y="671400"/>
            <a:ext cx="603360" cy="401760"/>
          </a:xfrm>
          <a:custGeom>
            <a:avLst/>
            <a:gdLst/>
            <a:ahLst/>
            <a:rect l="l" t="t" r="r" b="b"/>
            <a:pathLst>
              <a:path w="380" h="253">
                <a:moveTo>
                  <a:pt x="245" y="10"/>
                </a:moveTo>
                <a:lnTo>
                  <a:pt x="212" y="0"/>
                </a:lnTo>
                <a:lnTo>
                  <a:pt x="195" y="12"/>
                </a:lnTo>
                <a:lnTo>
                  <a:pt x="195" y="38"/>
                </a:lnTo>
                <a:lnTo>
                  <a:pt x="224" y="67"/>
                </a:lnTo>
                <a:lnTo>
                  <a:pt x="272" y="83"/>
                </a:lnTo>
                <a:lnTo>
                  <a:pt x="311" y="111"/>
                </a:lnTo>
                <a:lnTo>
                  <a:pt x="335" y="144"/>
                </a:lnTo>
                <a:lnTo>
                  <a:pt x="349" y="172"/>
                </a:lnTo>
                <a:lnTo>
                  <a:pt x="349" y="194"/>
                </a:lnTo>
                <a:lnTo>
                  <a:pt x="332" y="218"/>
                </a:lnTo>
                <a:lnTo>
                  <a:pt x="294" y="230"/>
                </a:lnTo>
                <a:lnTo>
                  <a:pt x="262" y="232"/>
                </a:lnTo>
                <a:lnTo>
                  <a:pt x="215" y="230"/>
                </a:lnTo>
                <a:lnTo>
                  <a:pt x="154" y="215"/>
                </a:lnTo>
                <a:lnTo>
                  <a:pt x="116" y="182"/>
                </a:lnTo>
                <a:lnTo>
                  <a:pt x="91" y="158"/>
                </a:lnTo>
                <a:lnTo>
                  <a:pt x="99" y="133"/>
                </a:lnTo>
                <a:lnTo>
                  <a:pt x="96" y="118"/>
                </a:lnTo>
                <a:lnTo>
                  <a:pt x="70" y="126"/>
                </a:lnTo>
                <a:lnTo>
                  <a:pt x="43" y="126"/>
                </a:lnTo>
                <a:lnTo>
                  <a:pt x="22" y="111"/>
                </a:lnTo>
                <a:lnTo>
                  <a:pt x="10" y="99"/>
                </a:lnTo>
                <a:lnTo>
                  <a:pt x="1" y="102"/>
                </a:lnTo>
                <a:lnTo>
                  <a:pt x="0" y="110"/>
                </a:lnTo>
                <a:lnTo>
                  <a:pt x="8" y="133"/>
                </a:lnTo>
                <a:lnTo>
                  <a:pt x="8" y="153"/>
                </a:lnTo>
                <a:lnTo>
                  <a:pt x="18" y="168"/>
                </a:lnTo>
                <a:lnTo>
                  <a:pt x="43" y="180"/>
                </a:lnTo>
                <a:lnTo>
                  <a:pt x="64" y="180"/>
                </a:lnTo>
                <a:lnTo>
                  <a:pt x="87" y="182"/>
                </a:lnTo>
                <a:lnTo>
                  <a:pt x="133" y="217"/>
                </a:lnTo>
                <a:lnTo>
                  <a:pt x="168" y="236"/>
                </a:lnTo>
                <a:lnTo>
                  <a:pt x="221" y="249"/>
                </a:lnTo>
                <a:lnTo>
                  <a:pt x="276" y="252"/>
                </a:lnTo>
                <a:lnTo>
                  <a:pt x="318" y="244"/>
                </a:lnTo>
                <a:lnTo>
                  <a:pt x="349" y="234"/>
                </a:lnTo>
                <a:lnTo>
                  <a:pt x="371" y="213"/>
                </a:lnTo>
                <a:lnTo>
                  <a:pt x="379" y="191"/>
                </a:lnTo>
                <a:lnTo>
                  <a:pt x="379" y="156"/>
                </a:lnTo>
                <a:lnTo>
                  <a:pt x="366" y="133"/>
                </a:lnTo>
                <a:lnTo>
                  <a:pt x="349" y="110"/>
                </a:lnTo>
                <a:lnTo>
                  <a:pt x="328" y="84"/>
                </a:lnTo>
                <a:lnTo>
                  <a:pt x="297" y="64"/>
                </a:lnTo>
                <a:lnTo>
                  <a:pt x="276" y="42"/>
                </a:lnTo>
                <a:lnTo>
                  <a:pt x="262" y="23"/>
                </a:lnTo>
                <a:lnTo>
                  <a:pt x="245" y="1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32040" y="1171440"/>
            <a:ext cx="273240" cy="568440"/>
          </a:xfrm>
          <a:custGeom>
            <a:avLst/>
            <a:gdLst/>
            <a:ahLst/>
            <a:rect l="l" t="t" r="r" b="b"/>
            <a:pathLst>
              <a:path w="172" h="358">
                <a:moveTo>
                  <a:pt x="157" y="0"/>
                </a:moveTo>
                <a:lnTo>
                  <a:pt x="127" y="15"/>
                </a:lnTo>
                <a:lnTo>
                  <a:pt x="97" y="59"/>
                </a:lnTo>
                <a:lnTo>
                  <a:pt x="77" y="90"/>
                </a:lnTo>
                <a:lnTo>
                  <a:pt x="62" y="125"/>
                </a:lnTo>
                <a:lnTo>
                  <a:pt x="47" y="160"/>
                </a:lnTo>
                <a:lnTo>
                  <a:pt x="34" y="200"/>
                </a:lnTo>
                <a:lnTo>
                  <a:pt x="34" y="228"/>
                </a:lnTo>
                <a:lnTo>
                  <a:pt x="54" y="251"/>
                </a:lnTo>
                <a:lnTo>
                  <a:pt x="67" y="274"/>
                </a:lnTo>
                <a:lnTo>
                  <a:pt x="89" y="292"/>
                </a:lnTo>
                <a:lnTo>
                  <a:pt x="98" y="308"/>
                </a:lnTo>
                <a:lnTo>
                  <a:pt x="88" y="319"/>
                </a:lnTo>
                <a:lnTo>
                  <a:pt x="73" y="320"/>
                </a:lnTo>
                <a:lnTo>
                  <a:pt x="37" y="324"/>
                </a:lnTo>
                <a:lnTo>
                  <a:pt x="12" y="334"/>
                </a:lnTo>
                <a:lnTo>
                  <a:pt x="0" y="343"/>
                </a:lnTo>
                <a:lnTo>
                  <a:pt x="8" y="354"/>
                </a:lnTo>
                <a:lnTo>
                  <a:pt x="29" y="357"/>
                </a:lnTo>
                <a:lnTo>
                  <a:pt x="58" y="346"/>
                </a:lnTo>
                <a:lnTo>
                  <a:pt x="75" y="338"/>
                </a:lnTo>
                <a:lnTo>
                  <a:pt x="112" y="330"/>
                </a:lnTo>
                <a:lnTo>
                  <a:pt x="120" y="327"/>
                </a:lnTo>
                <a:lnTo>
                  <a:pt x="124" y="316"/>
                </a:lnTo>
                <a:lnTo>
                  <a:pt x="119" y="300"/>
                </a:lnTo>
                <a:lnTo>
                  <a:pt x="89" y="270"/>
                </a:lnTo>
                <a:lnTo>
                  <a:pt x="75" y="251"/>
                </a:lnTo>
                <a:lnTo>
                  <a:pt x="58" y="215"/>
                </a:lnTo>
                <a:lnTo>
                  <a:pt x="54" y="198"/>
                </a:lnTo>
                <a:lnTo>
                  <a:pt x="70" y="152"/>
                </a:lnTo>
                <a:lnTo>
                  <a:pt x="103" y="105"/>
                </a:lnTo>
                <a:lnTo>
                  <a:pt x="133" y="74"/>
                </a:lnTo>
                <a:lnTo>
                  <a:pt x="149" y="51"/>
                </a:lnTo>
                <a:lnTo>
                  <a:pt x="166" y="37"/>
                </a:lnTo>
                <a:lnTo>
                  <a:pt x="171" y="17"/>
                </a:lnTo>
                <a:lnTo>
                  <a:pt x="157" y="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38400" y="1166760"/>
            <a:ext cx="247680" cy="531720"/>
          </a:xfrm>
          <a:custGeom>
            <a:avLst/>
            <a:gdLst/>
            <a:ahLst/>
            <a:rect l="l" t="t" r="r" b="b"/>
            <a:pathLst>
              <a:path w="156" h="335">
                <a:moveTo>
                  <a:pt x="68" y="32"/>
                </a:moveTo>
                <a:lnTo>
                  <a:pt x="37" y="4"/>
                </a:lnTo>
                <a:lnTo>
                  <a:pt x="2" y="0"/>
                </a:lnTo>
                <a:lnTo>
                  <a:pt x="0" y="24"/>
                </a:lnTo>
                <a:lnTo>
                  <a:pt x="19" y="42"/>
                </a:lnTo>
                <a:lnTo>
                  <a:pt x="49" y="55"/>
                </a:lnTo>
                <a:lnTo>
                  <a:pt x="73" y="77"/>
                </a:lnTo>
                <a:lnTo>
                  <a:pt x="77" y="108"/>
                </a:lnTo>
                <a:lnTo>
                  <a:pt x="73" y="153"/>
                </a:lnTo>
                <a:lnTo>
                  <a:pt x="60" y="230"/>
                </a:lnTo>
                <a:lnTo>
                  <a:pt x="45" y="278"/>
                </a:lnTo>
                <a:lnTo>
                  <a:pt x="29" y="313"/>
                </a:lnTo>
                <a:lnTo>
                  <a:pt x="32" y="329"/>
                </a:lnTo>
                <a:lnTo>
                  <a:pt x="49" y="332"/>
                </a:lnTo>
                <a:lnTo>
                  <a:pt x="80" y="324"/>
                </a:lnTo>
                <a:lnTo>
                  <a:pt x="114" y="324"/>
                </a:lnTo>
                <a:lnTo>
                  <a:pt x="133" y="334"/>
                </a:lnTo>
                <a:lnTo>
                  <a:pt x="151" y="329"/>
                </a:lnTo>
                <a:lnTo>
                  <a:pt x="155" y="310"/>
                </a:lnTo>
                <a:lnTo>
                  <a:pt x="137" y="306"/>
                </a:lnTo>
                <a:lnTo>
                  <a:pt x="102" y="306"/>
                </a:lnTo>
                <a:lnTo>
                  <a:pt x="51" y="316"/>
                </a:lnTo>
                <a:lnTo>
                  <a:pt x="49" y="313"/>
                </a:lnTo>
                <a:lnTo>
                  <a:pt x="54" y="297"/>
                </a:lnTo>
                <a:lnTo>
                  <a:pt x="73" y="240"/>
                </a:lnTo>
                <a:lnTo>
                  <a:pt x="81" y="195"/>
                </a:lnTo>
                <a:lnTo>
                  <a:pt x="94" y="139"/>
                </a:lnTo>
                <a:lnTo>
                  <a:pt x="94" y="99"/>
                </a:lnTo>
                <a:lnTo>
                  <a:pt x="93" y="69"/>
                </a:lnTo>
                <a:lnTo>
                  <a:pt x="86" y="47"/>
                </a:lnTo>
                <a:lnTo>
                  <a:pt x="68" y="32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54360" y="380880"/>
            <a:ext cx="291960" cy="285840"/>
          </a:xfrm>
          <a:custGeom>
            <a:avLst/>
            <a:gdLst/>
            <a:ahLst/>
            <a:rect l="l" t="t" r="r" b="b"/>
            <a:pathLst>
              <a:path w="184" h="180">
                <a:moveTo>
                  <a:pt x="183" y="160"/>
                </a:moveTo>
                <a:lnTo>
                  <a:pt x="183" y="120"/>
                </a:lnTo>
                <a:lnTo>
                  <a:pt x="174" y="75"/>
                </a:lnTo>
                <a:lnTo>
                  <a:pt x="153" y="40"/>
                </a:lnTo>
                <a:lnTo>
                  <a:pt x="125" y="18"/>
                </a:lnTo>
                <a:lnTo>
                  <a:pt x="94" y="1"/>
                </a:lnTo>
                <a:lnTo>
                  <a:pt x="69" y="0"/>
                </a:lnTo>
                <a:lnTo>
                  <a:pt x="40" y="6"/>
                </a:lnTo>
                <a:lnTo>
                  <a:pt x="27" y="21"/>
                </a:lnTo>
                <a:lnTo>
                  <a:pt x="18" y="40"/>
                </a:lnTo>
                <a:lnTo>
                  <a:pt x="21" y="60"/>
                </a:lnTo>
                <a:lnTo>
                  <a:pt x="25" y="83"/>
                </a:lnTo>
                <a:lnTo>
                  <a:pt x="40" y="102"/>
                </a:lnTo>
                <a:lnTo>
                  <a:pt x="0" y="147"/>
                </a:lnTo>
                <a:lnTo>
                  <a:pt x="5" y="158"/>
                </a:lnTo>
                <a:lnTo>
                  <a:pt x="51" y="123"/>
                </a:lnTo>
                <a:lnTo>
                  <a:pt x="77" y="151"/>
                </a:lnTo>
                <a:lnTo>
                  <a:pt x="105" y="170"/>
                </a:lnTo>
                <a:lnTo>
                  <a:pt x="134" y="179"/>
                </a:lnTo>
                <a:lnTo>
                  <a:pt x="157" y="179"/>
                </a:lnTo>
                <a:lnTo>
                  <a:pt x="174" y="170"/>
                </a:lnTo>
                <a:lnTo>
                  <a:pt x="183" y="16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91960" y="-471600"/>
            <a:ext cx="1581840" cy="177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07" y="17580"/>
                </a:moveTo>
                <a:arcTo wR="10800" hR="10800" stAng="2333012" swAng="6294804"/>
                <a:lnTo>
                  <a:pt x="10800" y="10800"/>
                </a:lnTo>
                <a:close/>
              </a:path>
              <a:path fill="none" w="21600" h="21600">
                <a:moveTo>
                  <a:pt x="19207" y="17580"/>
                </a:moveTo>
                <a:arcTo wR="10800" hR="10800" stAng="2333012" swAng="629480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7840" y="2311560"/>
            <a:ext cx="3225600" cy="86328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87920" y="2311560"/>
            <a:ext cx="3378240" cy="86328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520" y="4025880"/>
            <a:ext cx="327816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73880" y="4030560"/>
            <a:ext cx="342072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274320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419720"/>
            <a:ext cx="1981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88080" y="-846000"/>
            <a:ext cx="1380240" cy="176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11" y="17574"/>
                </a:moveTo>
                <a:arcTo wR="10800" hR="10800" stAng="2330835" swAng="6299493"/>
                <a:lnTo>
                  <a:pt x="10800" y="10800"/>
                </a:lnTo>
                <a:close/>
              </a:path>
              <a:path fill="none" w="21600" h="21600">
                <a:moveTo>
                  <a:pt x="19211" y="17574"/>
                </a:moveTo>
                <a:arcTo wR="10800" hR="10800" stAng="2330835" swAng="6299493"/>
              </a:path>
            </a:pathLst>
          </a:custGeom>
          <a:noFill/>
          <a:ln cap="rnd" w="25560">
            <a:solidFill>
              <a:srgbClr val="000000"/>
            </a:solidFill>
            <a:custDash>
              <a:ds d="499000" sp="20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A16F-0EBF-4535-AF80-B5C4F8087CB3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K Al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place or mi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0960" y="671400"/>
            <a:ext cx="263520" cy="542880"/>
          </a:xfrm>
          <a:custGeom>
            <a:avLst/>
            <a:gdLst/>
            <a:ahLst/>
            <a:rect l="l" t="t" r="r" b="b"/>
            <a:pathLst>
              <a:path w="166" h="342">
                <a:moveTo>
                  <a:pt x="56" y="32"/>
                </a:moveTo>
                <a:lnTo>
                  <a:pt x="86" y="8"/>
                </a:lnTo>
                <a:lnTo>
                  <a:pt x="122" y="0"/>
                </a:lnTo>
                <a:lnTo>
                  <a:pt x="147" y="1"/>
                </a:lnTo>
                <a:lnTo>
                  <a:pt x="152" y="22"/>
                </a:lnTo>
                <a:lnTo>
                  <a:pt x="150" y="48"/>
                </a:lnTo>
                <a:lnTo>
                  <a:pt x="122" y="80"/>
                </a:lnTo>
                <a:lnTo>
                  <a:pt x="104" y="127"/>
                </a:lnTo>
                <a:lnTo>
                  <a:pt x="103" y="175"/>
                </a:lnTo>
                <a:lnTo>
                  <a:pt x="116" y="219"/>
                </a:lnTo>
                <a:lnTo>
                  <a:pt x="133" y="259"/>
                </a:lnTo>
                <a:lnTo>
                  <a:pt x="165" y="293"/>
                </a:lnTo>
                <a:lnTo>
                  <a:pt x="165" y="304"/>
                </a:lnTo>
                <a:lnTo>
                  <a:pt x="160" y="328"/>
                </a:lnTo>
                <a:lnTo>
                  <a:pt x="137" y="339"/>
                </a:lnTo>
                <a:lnTo>
                  <a:pt x="112" y="341"/>
                </a:lnTo>
                <a:lnTo>
                  <a:pt x="69" y="332"/>
                </a:lnTo>
                <a:lnTo>
                  <a:pt x="35" y="304"/>
                </a:lnTo>
                <a:lnTo>
                  <a:pt x="18" y="255"/>
                </a:lnTo>
                <a:lnTo>
                  <a:pt x="5" y="223"/>
                </a:lnTo>
                <a:lnTo>
                  <a:pt x="0" y="182"/>
                </a:lnTo>
                <a:lnTo>
                  <a:pt x="4" y="127"/>
                </a:lnTo>
                <a:lnTo>
                  <a:pt x="18" y="81"/>
                </a:lnTo>
                <a:lnTo>
                  <a:pt x="35" y="51"/>
                </a:lnTo>
                <a:lnTo>
                  <a:pt x="56" y="3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33480" y="668160"/>
            <a:ext cx="417600" cy="373320"/>
          </a:xfrm>
          <a:custGeom>
            <a:avLst/>
            <a:gdLst/>
            <a:ahLst/>
            <a:rect l="l" t="t" r="r" b="b"/>
            <a:pathLst>
              <a:path w="263" h="235">
                <a:moveTo>
                  <a:pt x="0" y="16"/>
                </a:moveTo>
                <a:lnTo>
                  <a:pt x="8" y="0"/>
                </a:lnTo>
                <a:lnTo>
                  <a:pt x="25" y="0"/>
                </a:lnTo>
                <a:lnTo>
                  <a:pt x="46" y="17"/>
                </a:lnTo>
                <a:lnTo>
                  <a:pt x="61" y="61"/>
                </a:lnTo>
                <a:lnTo>
                  <a:pt x="72" y="112"/>
                </a:lnTo>
                <a:lnTo>
                  <a:pt x="81" y="166"/>
                </a:lnTo>
                <a:lnTo>
                  <a:pt x="108" y="206"/>
                </a:lnTo>
                <a:lnTo>
                  <a:pt x="108" y="207"/>
                </a:lnTo>
                <a:lnTo>
                  <a:pt x="108" y="215"/>
                </a:lnTo>
                <a:lnTo>
                  <a:pt x="145" y="210"/>
                </a:lnTo>
                <a:lnTo>
                  <a:pt x="184" y="189"/>
                </a:lnTo>
                <a:lnTo>
                  <a:pt x="201" y="170"/>
                </a:lnTo>
                <a:lnTo>
                  <a:pt x="232" y="116"/>
                </a:lnTo>
                <a:lnTo>
                  <a:pt x="232" y="96"/>
                </a:lnTo>
                <a:lnTo>
                  <a:pt x="220" y="79"/>
                </a:lnTo>
                <a:lnTo>
                  <a:pt x="207" y="53"/>
                </a:lnTo>
                <a:lnTo>
                  <a:pt x="203" y="43"/>
                </a:lnTo>
                <a:lnTo>
                  <a:pt x="218" y="38"/>
                </a:lnTo>
                <a:lnTo>
                  <a:pt x="237" y="39"/>
                </a:lnTo>
                <a:lnTo>
                  <a:pt x="249" y="49"/>
                </a:lnTo>
                <a:lnTo>
                  <a:pt x="262" y="71"/>
                </a:lnTo>
                <a:lnTo>
                  <a:pt x="255" y="111"/>
                </a:lnTo>
                <a:lnTo>
                  <a:pt x="249" y="133"/>
                </a:lnTo>
                <a:lnTo>
                  <a:pt x="220" y="178"/>
                </a:lnTo>
                <a:lnTo>
                  <a:pt x="195" y="211"/>
                </a:lnTo>
                <a:lnTo>
                  <a:pt x="147" y="226"/>
                </a:lnTo>
                <a:lnTo>
                  <a:pt x="108" y="234"/>
                </a:lnTo>
                <a:lnTo>
                  <a:pt x="78" y="221"/>
                </a:lnTo>
                <a:lnTo>
                  <a:pt x="64" y="178"/>
                </a:lnTo>
                <a:lnTo>
                  <a:pt x="48" y="126"/>
                </a:lnTo>
                <a:lnTo>
                  <a:pt x="34" y="87"/>
                </a:lnTo>
                <a:lnTo>
                  <a:pt x="18" y="65"/>
                </a:lnTo>
                <a:lnTo>
                  <a:pt x="0" y="43"/>
                </a:lnTo>
                <a:lnTo>
                  <a:pt x="0" y="16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025640" y="668160"/>
            <a:ext cx="385560" cy="325440"/>
            <a:chOff x="1025640" y="668160"/>
            <a:chExt cx="385560" cy="325440"/>
          </a:xfrm>
        </p:grpSpPr>
        <p:sp>
          <p:nvSpPr>
            <p:cNvPr id="190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2" y="72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30320" y="677880"/>
              <a:ext cx="155520" cy="117360"/>
            </a:xfrm>
            <a:custGeom>
              <a:avLst/>
              <a:gdLst/>
              <a:ahLst/>
              <a:rect l="l" t="t" r="r" b="b"/>
              <a:pathLst>
                <a:path w="98" h="74">
                  <a:moveTo>
                    <a:pt x="0" y="69"/>
                  </a:moveTo>
                  <a:lnTo>
                    <a:pt x="26" y="73"/>
                  </a:lnTo>
                  <a:lnTo>
                    <a:pt x="47" y="66"/>
                  </a:lnTo>
                  <a:lnTo>
                    <a:pt x="61" y="59"/>
                  </a:lnTo>
                  <a:lnTo>
                    <a:pt x="79" y="48"/>
                  </a:lnTo>
                  <a:lnTo>
                    <a:pt x="91" y="36"/>
                  </a:lnTo>
                  <a:lnTo>
                    <a:pt x="97" y="15"/>
                  </a:lnTo>
                  <a:lnTo>
                    <a:pt x="97" y="3"/>
                  </a:lnTo>
                  <a:lnTo>
                    <a:pt x="95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09480" y="660240"/>
            <a:ext cx="603360" cy="382680"/>
          </a:xfrm>
          <a:custGeom>
            <a:avLst/>
            <a:gdLst/>
            <a:ahLst/>
            <a:rect l="l" t="t" r="r" b="b"/>
            <a:pathLst>
              <a:path w="380" h="241">
                <a:moveTo>
                  <a:pt x="134" y="10"/>
                </a:moveTo>
                <a:lnTo>
                  <a:pt x="166" y="0"/>
                </a:lnTo>
                <a:lnTo>
                  <a:pt x="184" y="10"/>
                </a:lnTo>
                <a:lnTo>
                  <a:pt x="184" y="36"/>
                </a:lnTo>
                <a:lnTo>
                  <a:pt x="155" y="64"/>
                </a:lnTo>
                <a:lnTo>
                  <a:pt x="106" y="79"/>
                </a:lnTo>
                <a:lnTo>
                  <a:pt x="68" y="105"/>
                </a:lnTo>
                <a:lnTo>
                  <a:pt x="43" y="137"/>
                </a:lnTo>
                <a:lnTo>
                  <a:pt x="30" y="162"/>
                </a:lnTo>
                <a:lnTo>
                  <a:pt x="30" y="184"/>
                </a:lnTo>
                <a:lnTo>
                  <a:pt x="46" y="208"/>
                </a:lnTo>
                <a:lnTo>
                  <a:pt x="84" y="219"/>
                </a:lnTo>
                <a:lnTo>
                  <a:pt x="116" y="221"/>
                </a:lnTo>
                <a:lnTo>
                  <a:pt x="164" y="219"/>
                </a:lnTo>
                <a:lnTo>
                  <a:pt x="224" y="204"/>
                </a:lnTo>
                <a:lnTo>
                  <a:pt x="262" y="174"/>
                </a:lnTo>
                <a:lnTo>
                  <a:pt x="287" y="149"/>
                </a:lnTo>
                <a:lnTo>
                  <a:pt x="280" y="126"/>
                </a:lnTo>
                <a:lnTo>
                  <a:pt x="282" y="112"/>
                </a:lnTo>
                <a:lnTo>
                  <a:pt x="309" y="120"/>
                </a:lnTo>
                <a:lnTo>
                  <a:pt x="336" y="120"/>
                </a:lnTo>
                <a:lnTo>
                  <a:pt x="356" y="105"/>
                </a:lnTo>
                <a:lnTo>
                  <a:pt x="369" y="94"/>
                </a:lnTo>
                <a:lnTo>
                  <a:pt x="378" y="97"/>
                </a:lnTo>
                <a:lnTo>
                  <a:pt x="379" y="105"/>
                </a:lnTo>
                <a:lnTo>
                  <a:pt x="370" y="126"/>
                </a:lnTo>
                <a:lnTo>
                  <a:pt x="370" y="146"/>
                </a:lnTo>
                <a:lnTo>
                  <a:pt x="360" y="160"/>
                </a:lnTo>
                <a:lnTo>
                  <a:pt x="336" y="171"/>
                </a:lnTo>
                <a:lnTo>
                  <a:pt x="314" y="171"/>
                </a:lnTo>
                <a:lnTo>
                  <a:pt x="291" y="174"/>
                </a:lnTo>
                <a:lnTo>
                  <a:pt x="245" y="207"/>
                </a:lnTo>
                <a:lnTo>
                  <a:pt x="211" y="224"/>
                </a:lnTo>
                <a:lnTo>
                  <a:pt x="157" y="237"/>
                </a:lnTo>
                <a:lnTo>
                  <a:pt x="102" y="240"/>
                </a:lnTo>
                <a:lnTo>
                  <a:pt x="60" y="232"/>
                </a:lnTo>
                <a:lnTo>
                  <a:pt x="29" y="222"/>
                </a:lnTo>
                <a:lnTo>
                  <a:pt x="8" y="203"/>
                </a:lnTo>
                <a:lnTo>
                  <a:pt x="0" y="181"/>
                </a:lnTo>
                <a:lnTo>
                  <a:pt x="0" y="148"/>
                </a:lnTo>
                <a:lnTo>
                  <a:pt x="13" y="126"/>
                </a:lnTo>
                <a:lnTo>
                  <a:pt x="29" y="105"/>
                </a:lnTo>
                <a:lnTo>
                  <a:pt x="50" y="80"/>
                </a:lnTo>
                <a:lnTo>
                  <a:pt x="82" y="60"/>
                </a:lnTo>
                <a:lnTo>
                  <a:pt x="102" y="39"/>
                </a:lnTo>
                <a:lnTo>
                  <a:pt x="116" y="22"/>
                </a:lnTo>
                <a:lnTo>
                  <a:pt x="134" y="1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36720" y="1138320"/>
            <a:ext cx="274680" cy="544320"/>
          </a:xfrm>
          <a:custGeom>
            <a:avLst/>
            <a:gdLst/>
            <a:ahLst/>
            <a:rect l="l" t="t" r="r" b="b"/>
            <a:pathLst>
              <a:path w="173" h="343">
                <a:moveTo>
                  <a:pt x="13" y="0"/>
                </a:moveTo>
                <a:lnTo>
                  <a:pt x="43" y="15"/>
                </a:lnTo>
                <a:lnTo>
                  <a:pt x="74" y="56"/>
                </a:lnTo>
                <a:lnTo>
                  <a:pt x="94" y="86"/>
                </a:lnTo>
                <a:lnTo>
                  <a:pt x="108" y="120"/>
                </a:lnTo>
                <a:lnTo>
                  <a:pt x="124" y="153"/>
                </a:lnTo>
                <a:lnTo>
                  <a:pt x="137" y="192"/>
                </a:lnTo>
                <a:lnTo>
                  <a:pt x="137" y="219"/>
                </a:lnTo>
                <a:lnTo>
                  <a:pt x="117" y="241"/>
                </a:lnTo>
                <a:lnTo>
                  <a:pt x="103" y="262"/>
                </a:lnTo>
                <a:lnTo>
                  <a:pt x="81" y="280"/>
                </a:lnTo>
                <a:lnTo>
                  <a:pt x="72" y="295"/>
                </a:lnTo>
                <a:lnTo>
                  <a:pt x="83" y="305"/>
                </a:lnTo>
                <a:lnTo>
                  <a:pt x="98" y="306"/>
                </a:lnTo>
                <a:lnTo>
                  <a:pt x="134" y="310"/>
                </a:lnTo>
                <a:lnTo>
                  <a:pt x="159" y="320"/>
                </a:lnTo>
                <a:lnTo>
                  <a:pt x="172" y="328"/>
                </a:lnTo>
                <a:lnTo>
                  <a:pt x="163" y="339"/>
                </a:lnTo>
                <a:lnTo>
                  <a:pt x="142" y="342"/>
                </a:lnTo>
                <a:lnTo>
                  <a:pt x="112" y="332"/>
                </a:lnTo>
                <a:lnTo>
                  <a:pt x="95" y="323"/>
                </a:lnTo>
                <a:lnTo>
                  <a:pt x="59" y="316"/>
                </a:lnTo>
                <a:lnTo>
                  <a:pt x="50" y="314"/>
                </a:lnTo>
                <a:lnTo>
                  <a:pt x="46" y="302"/>
                </a:lnTo>
                <a:lnTo>
                  <a:pt x="52" y="287"/>
                </a:lnTo>
                <a:lnTo>
                  <a:pt x="81" y="259"/>
                </a:lnTo>
                <a:lnTo>
                  <a:pt x="95" y="241"/>
                </a:lnTo>
                <a:lnTo>
                  <a:pt x="112" y="207"/>
                </a:lnTo>
                <a:lnTo>
                  <a:pt x="117" y="190"/>
                </a:lnTo>
                <a:lnTo>
                  <a:pt x="100" y="146"/>
                </a:lnTo>
                <a:lnTo>
                  <a:pt x="68" y="101"/>
                </a:lnTo>
                <a:lnTo>
                  <a:pt x="37" y="72"/>
                </a:lnTo>
                <a:lnTo>
                  <a:pt x="22" y="49"/>
                </a:lnTo>
                <a:lnTo>
                  <a:pt x="4" y="36"/>
                </a:lnTo>
                <a:lnTo>
                  <a:pt x="0" y="17"/>
                </a:lnTo>
                <a:lnTo>
                  <a:pt x="13" y="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4120" y="1136520"/>
            <a:ext cx="247680" cy="507960"/>
          </a:xfrm>
          <a:custGeom>
            <a:avLst/>
            <a:gdLst/>
            <a:ahLst/>
            <a:rect l="l" t="t" r="r" b="b"/>
            <a:pathLst>
              <a:path w="156" h="320">
                <a:moveTo>
                  <a:pt x="85" y="30"/>
                </a:moveTo>
                <a:lnTo>
                  <a:pt x="116" y="3"/>
                </a:lnTo>
                <a:lnTo>
                  <a:pt x="152" y="0"/>
                </a:lnTo>
                <a:lnTo>
                  <a:pt x="155" y="23"/>
                </a:lnTo>
                <a:lnTo>
                  <a:pt x="134" y="39"/>
                </a:lnTo>
                <a:lnTo>
                  <a:pt x="105" y="52"/>
                </a:lnTo>
                <a:lnTo>
                  <a:pt x="81" y="74"/>
                </a:lnTo>
                <a:lnTo>
                  <a:pt x="77" y="103"/>
                </a:lnTo>
                <a:lnTo>
                  <a:pt x="81" y="146"/>
                </a:lnTo>
                <a:lnTo>
                  <a:pt x="94" y="220"/>
                </a:lnTo>
                <a:lnTo>
                  <a:pt x="108" y="266"/>
                </a:lnTo>
                <a:lnTo>
                  <a:pt x="124" y="299"/>
                </a:lnTo>
                <a:lnTo>
                  <a:pt x="121" y="315"/>
                </a:lnTo>
                <a:lnTo>
                  <a:pt x="105" y="317"/>
                </a:lnTo>
                <a:lnTo>
                  <a:pt x="74" y="310"/>
                </a:lnTo>
                <a:lnTo>
                  <a:pt x="40" y="310"/>
                </a:lnTo>
                <a:lnTo>
                  <a:pt x="21" y="319"/>
                </a:lnTo>
                <a:lnTo>
                  <a:pt x="4" y="315"/>
                </a:lnTo>
                <a:lnTo>
                  <a:pt x="0" y="297"/>
                </a:lnTo>
                <a:lnTo>
                  <a:pt x="17" y="293"/>
                </a:lnTo>
                <a:lnTo>
                  <a:pt x="51" y="293"/>
                </a:lnTo>
                <a:lnTo>
                  <a:pt x="102" y="303"/>
                </a:lnTo>
                <a:lnTo>
                  <a:pt x="105" y="299"/>
                </a:lnTo>
                <a:lnTo>
                  <a:pt x="100" y="284"/>
                </a:lnTo>
                <a:lnTo>
                  <a:pt x="81" y="230"/>
                </a:lnTo>
                <a:lnTo>
                  <a:pt x="73" y="186"/>
                </a:lnTo>
                <a:lnTo>
                  <a:pt x="60" y="132"/>
                </a:lnTo>
                <a:lnTo>
                  <a:pt x="60" y="94"/>
                </a:lnTo>
                <a:lnTo>
                  <a:pt x="61" y="65"/>
                </a:lnTo>
                <a:lnTo>
                  <a:pt x="68" y="44"/>
                </a:lnTo>
                <a:lnTo>
                  <a:pt x="85" y="3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6760" y="380880"/>
            <a:ext cx="290520" cy="273240"/>
          </a:xfrm>
          <a:custGeom>
            <a:avLst/>
            <a:gdLst/>
            <a:ahLst/>
            <a:rect l="l" t="t" r="r" b="b"/>
            <a:pathLst>
              <a:path w="183" h="172">
                <a:moveTo>
                  <a:pt x="0" y="152"/>
                </a:moveTo>
                <a:lnTo>
                  <a:pt x="0" y="114"/>
                </a:lnTo>
                <a:lnTo>
                  <a:pt x="8" y="72"/>
                </a:lnTo>
                <a:lnTo>
                  <a:pt x="29" y="38"/>
                </a:lnTo>
                <a:lnTo>
                  <a:pt x="57" y="17"/>
                </a:lnTo>
                <a:lnTo>
                  <a:pt x="87" y="1"/>
                </a:lnTo>
                <a:lnTo>
                  <a:pt x="113" y="0"/>
                </a:lnTo>
                <a:lnTo>
                  <a:pt x="141" y="5"/>
                </a:lnTo>
                <a:lnTo>
                  <a:pt x="155" y="20"/>
                </a:lnTo>
                <a:lnTo>
                  <a:pt x="163" y="38"/>
                </a:lnTo>
                <a:lnTo>
                  <a:pt x="160" y="58"/>
                </a:lnTo>
                <a:lnTo>
                  <a:pt x="156" y="80"/>
                </a:lnTo>
                <a:lnTo>
                  <a:pt x="141" y="98"/>
                </a:lnTo>
                <a:lnTo>
                  <a:pt x="182" y="140"/>
                </a:lnTo>
                <a:lnTo>
                  <a:pt x="176" y="151"/>
                </a:lnTo>
                <a:lnTo>
                  <a:pt x="130" y="118"/>
                </a:lnTo>
                <a:lnTo>
                  <a:pt x="104" y="143"/>
                </a:lnTo>
                <a:lnTo>
                  <a:pt x="76" y="162"/>
                </a:lnTo>
                <a:lnTo>
                  <a:pt x="48" y="171"/>
                </a:lnTo>
                <a:lnTo>
                  <a:pt x="25" y="171"/>
                </a:lnTo>
                <a:lnTo>
                  <a:pt x="8" y="163"/>
                </a:lnTo>
                <a:lnTo>
                  <a:pt x="0" y="15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27520" y="685800"/>
            <a:ext cx="264960" cy="565200"/>
          </a:xfrm>
          <a:custGeom>
            <a:avLst/>
            <a:gdLst/>
            <a:ahLst/>
            <a:rect l="l" t="t" r="r" b="b"/>
            <a:pathLst>
              <a:path w="167" h="356">
                <a:moveTo>
                  <a:pt x="109" y="34"/>
                </a:moveTo>
                <a:lnTo>
                  <a:pt x="79" y="8"/>
                </a:lnTo>
                <a:lnTo>
                  <a:pt x="43" y="0"/>
                </a:lnTo>
                <a:lnTo>
                  <a:pt x="17" y="1"/>
                </a:lnTo>
                <a:lnTo>
                  <a:pt x="12" y="22"/>
                </a:lnTo>
                <a:lnTo>
                  <a:pt x="14" y="51"/>
                </a:lnTo>
                <a:lnTo>
                  <a:pt x="43" y="84"/>
                </a:lnTo>
                <a:lnTo>
                  <a:pt x="60" y="133"/>
                </a:lnTo>
                <a:lnTo>
                  <a:pt x="62" y="182"/>
                </a:lnTo>
                <a:lnTo>
                  <a:pt x="49" y="228"/>
                </a:lnTo>
                <a:lnTo>
                  <a:pt x="31" y="270"/>
                </a:lnTo>
                <a:lnTo>
                  <a:pt x="0" y="305"/>
                </a:lnTo>
                <a:lnTo>
                  <a:pt x="0" y="317"/>
                </a:lnTo>
                <a:lnTo>
                  <a:pt x="4" y="342"/>
                </a:lnTo>
                <a:lnTo>
                  <a:pt x="27" y="353"/>
                </a:lnTo>
                <a:lnTo>
                  <a:pt x="53" y="355"/>
                </a:lnTo>
                <a:lnTo>
                  <a:pt x="96" y="346"/>
                </a:lnTo>
                <a:lnTo>
                  <a:pt x="130" y="317"/>
                </a:lnTo>
                <a:lnTo>
                  <a:pt x="147" y="266"/>
                </a:lnTo>
                <a:lnTo>
                  <a:pt x="160" y="233"/>
                </a:lnTo>
                <a:lnTo>
                  <a:pt x="166" y="190"/>
                </a:lnTo>
                <a:lnTo>
                  <a:pt x="161" y="133"/>
                </a:lnTo>
                <a:lnTo>
                  <a:pt x="147" y="85"/>
                </a:lnTo>
                <a:lnTo>
                  <a:pt x="130" y="53"/>
                </a:lnTo>
                <a:lnTo>
                  <a:pt x="109" y="34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679320"/>
            <a:ext cx="419040" cy="390600"/>
          </a:xfrm>
          <a:custGeom>
            <a:avLst/>
            <a:gdLst/>
            <a:ahLst/>
            <a:rect l="l" t="t" r="r" b="b"/>
            <a:pathLst>
              <a:path w="264" h="246">
                <a:moveTo>
                  <a:pt x="263" y="17"/>
                </a:moveTo>
                <a:lnTo>
                  <a:pt x="254" y="0"/>
                </a:lnTo>
                <a:lnTo>
                  <a:pt x="237" y="0"/>
                </a:lnTo>
                <a:lnTo>
                  <a:pt x="215" y="19"/>
                </a:lnTo>
                <a:lnTo>
                  <a:pt x="201" y="65"/>
                </a:lnTo>
                <a:lnTo>
                  <a:pt x="189" y="119"/>
                </a:lnTo>
                <a:lnTo>
                  <a:pt x="181" y="174"/>
                </a:lnTo>
                <a:lnTo>
                  <a:pt x="154" y="217"/>
                </a:lnTo>
                <a:lnTo>
                  <a:pt x="154" y="218"/>
                </a:lnTo>
                <a:lnTo>
                  <a:pt x="154" y="226"/>
                </a:lnTo>
                <a:lnTo>
                  <a:pt x="116" y="220"/>
                </a:lnTo>
                <a:lnTo>
                  <a:pt x="77" y="198"/>
                </a:lnTo>
                <a:lnTo>
                  <a:pt x="60" y="179"/>
                </a:lnTo>
                <a:lnTo>
                  <a:pt x="30" y="122"/>
                </a:lnTo>
                <a:lnTo>
                  <a:pt x="30" y="101"/>
                </a:lnTo>
                <a:lnTo>
                  <a:pt x="41" y="82"/>
                </a:lnTo>
                <a:lnTo>
                  <a:pt x="54" y="56"/>
                </a:lnTo>
                <a:lnTo>
                  <a:pt x="58" y="46"/>
                </a:lnTo>
                <a:lnTo>
                  <a:pt x="43" y="41"/>
                </a:lnTo>
                <a:lnTo>
                  <a:pt x="24" y="42"/>
                </a:lnTo>
                <a:lnTo>
                  <a:pt x="12" y="52"/>
                </a:lnTo>
                <a:lnTo>
                  <a:pt x="0" y="75"/>
                </a:lnTo>
                <a:lnTo>
                  <a:pt x="7" y="117"/>
                </a:lnTo>
                <a:lnTo>
                  <a:pt x="12" y="140"/>
                </a:lnTo>
                <a:lnTo>
                  <a:pt x="41" y="188"/>
                </a:lnTo>
                <a:lnTo>
                  <a:pt x="67" y="222"/>
                </a:lnTo>
                <a:lnTo>
                  <a:pt x="114" y="237"/>
                </a:lnTo>
                <a:lnTo>
                  <a:pt x="154" y="245"/>
                </a:lnTo>
                <a:lnTo>
                  <a:pt x="184" y="232"/>
                </a:lnTo>
                <a:lnTo>
                  <a:pt x="198" y="188"/>
                </a:lnTo>
                <a:lnTo>
                  <a:pt x="214" y="132"/>
                </a:lnTo>
                <a:lnTo>
                  <a:pt x="227" y="91"/>
                </a:lnTo>
                <a:lnTo>
                  <a:pt x="244" y="69"/>
                </a:lnTo>
                <a:lnTo>
                  <a:pt x="261" y="46"/>
                </a:lnTo>
                <a:lnTo>
                  <a:pt x="263" y="17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532240" y="679320"/>
            <a:ext cx="382320" cy="341280"/>
            <a:chOff x="2532240" y="679320"/>
            <a:chExt cx="382320" cy="341280"/>
          </a:xfrm>
        </p:grpSpPr>
        <p:sp>
          <p:nvSpPr>
            <p:cNvPr id="200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  <a:lnTo>
                    <a:pt x="236" y="7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57600" y="690480"/>
              <a:ext cx="153720" cy="12240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96" y="72"/>
                  </a:moveTo>
                  <a:lnTo>
                    <a:pt x="69" y="76"/>
                  </a:lnTo>
                  <a:lnTo>
                    <a:pt x="49" y="69"/>
                  </a:lnTo>
                  <a:lnTo>
                    <a:pt x="34" y="61"/>
                  </a:lnTo>
                  <a:lnTo>
                    <a:pt x="17" y="51"/>
                  </a:lnTo>
                  <a:lnTo>
                    <a:pt x="5" y="38"/>
                  </a:lnTo>
                  <a:lnTo>
                    <a:pt x="0" y="16"/>
                  </a:lnTo>
                  <a:lnTo>
                    <a:pt x="0" y="3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727360" y="671400"/>
            <a:ext cx="603360" cy="401760"/>
          </a:xfrm>
          <a:custGeom>
            <a:avLst/>
            <a:gdLst/>
            <a:ahLst/>
            <a:rect l="l" t="t" r="r" b="b"/>
            <a:pathLst>
              <a:path w="380" h="253">
                <a:moveTo>
                  <a:pt x="245" y="10"/>
                </a:moveTo>
                <a:lnTo>
                  <a:pt x="212" y="0"/>
                </a:lnTo>
                <a:lnTo>
                  <a:pt x="195" y="12"/>
                </a:lnTo>
                <a:lnTo>
                  <a:pt x="195" y="38"/>
                </a:lnTo>
                <a:lnTo>
                  <a:pt x="224" y="67"/>
                </a:lnTo>
                <a:lnTo>
                  <a:pt x="272" y="83"/>
                </a:lnTo>
                <a:lnTo>
                  <a:pt x="311" y="111"/>
                </a:lnTo>
                <a:lnTo>
                  <a:pt x="335" y="144"/>
                </a:lnTo>
                <a:lnTo>
                  <a:pt x="349" y="172"/>
                </a:lnTo>
                <a:lnTo>
                  <a:pt x="349" y="194"/>
                </a:lnTo>
                <a:lnTo>
                  <a:pt x="332" y="218"/>
                </a:lnTo>
                <a:lnTo>
                  <a:pt x="294" y="230"/>
                </a:lnTo>
                <a:lnTo>
                  <a:pt x="262" y="232"/>
                </a:lnTo>
                <a:lnTo>
                  <a:pt x="215" y="230"/>
                </a:lnTo>
                <a:lnTo>
                  <a:pt x="154" y="215"/>
                </a:lnTo>
                <a:lnTo>
                  <a:pt x="116" y="182"/>
                </a:lnTo>
                <a:lnTo>
                  <a:pt x="91" y="158"/>
                </a:lnTo>
                <a:lnTo>
                  <a:pt x="99" y="133"/>
                </a:lnTo>
                <a:lnTo>
                  <a:pt x="96" y="118"/>
                </a:lnTo>
                <a:lnTo>
                  <a:pt x="70" y="126"/>
                </a:lnTo>
                <a:lnTo>
                  <a:pt x="43" y="126"/>
                </a:lnTo>
                <a:lnTo>
                  <a:pt x="22" y="111"/>
                </a:lnTo>
                <a:lnTo>
                  <a:pt x="10" y="99"/>
                </a:lnTo>
                <a:lnTo>
                  <a:pt x="1" y="102"/>
                </a:lnTo>
                <a:lnTo>
                  <a:pt x="0" y="110"/>
                </a:lnTo>
                <a:lnTo>
                  <a:pt x="8" y="133"/>
                </a:lnTo>
                <a:lnTo>
                  <a:pt x="8" y="153"/>
                </a:lnTo>
                <a:lnTo>
                  <a:pt x="18" y="168"/>
                </a:lnTo>
                <a:lnTo>
                  <a:pt x="43" y="180"/>
                </a:lnTo>
                <a:lnTo>
                  <a:pt x="64" y="180"/>
                </a:lnTo>
                <a:lnTo>
                  <a:pt x="87" y="182"/>
                </a:lnTo>
                <a:lnTo>
                  <a:pt x="133" y="217"/>
                </a:lnTo>
                <a:lnTo>
                  <a:pt x="168" y="236"/>
                </a:lnTo>
                <a:lnTo>
                  <a:pt x="221" y="249"/>
                </a:lnTo>
                <a:lnTo>
                  <a:pt x="276" y="252"/>
                </a:lnTo>
                <a:lnTo>
                  <a:pt x="318" y="244"/>
                </a:lnTo>
                <a:lnTo>
                  <a:pt x="349" y="234"/>
                </a:lnTo>
                <a:lnTo>
                  <a:pt x="371" y="213"/>
                </a:lnTo>
                <a:lnTo>
                  <a:pt x="379" y="191"/>
                </a:lnTo>
                <a:lnTo>
                  <a:pt x="379" y="156"/>
                </a:lnTo>
                <a:lnTo>
                  <a:pt x="366" y="133"/>
                </a:lnTo>
                <a:lnTo>
                  <a:pt x="349" y="110"/>
                </a:lnTo>
                <a:lnTo>
                  <a:pt x="328" y="84"/>
                </a:lnTo>
                <a:lnTo>
                  <a:pt x="297" y="64"/>
                </a:lnTo>
                <a:lnTo>
                  <a:pt x="276" y="42"/>
                </a:lnTo>
                <a:lnTo>
                  <a:pt x="262" y="23"/>
                </a:lnTo>
                <a:lnTo>
                  <a:pt x="245" y="1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32040" y="1171440"/>
            <a:ext cx="273240" cy="568440"/>
          </a:xfrm>
          <a:custGeom>
            <a:avLst/>
            <a:gdLst/>
            <a:ahLst/>
            <a:rect l="l" t="t" r="r" b="b"/>
            <a:pathLst>
              <a:path w="172" h="358">
                <a:moveTo>
                  <a:pt x="157" y="0"/>
                </a:moveTo>
                <a:lnTo>
                  <a:pt x="127" y="15"/>
                </a:lnTo>
                <a:lnTo>
                  <a:pt x="97" y="59"/>
                </a:lnTo>
                <a:lnTo>
                  <a:pt x="77" y="90"/>
                </a:lnTo>
                <a:lnTo>
                  <a:pt x="62" y="125"/>
                </a:lnTo>
                <a:lnTo>
                  <a:pt x="47" y="160"/>
                </a:lnTo>
                <a:lnTo>
                  <a:pt x="34" y="200"/>
                </a:lnTo>
                <a:lnTo>
                  <a:pt x="34" y="228"/>
                </a:lnTo>
                <a:lnTo>
                  <a:pt x="54" y="251"/>
                </a:lnTo>
                <a:lnTo>
                  <a:pt x="67" y="274"/>
                </a:lnTo>
                <a:lnTo>
                  <a:pt x="89" y="292"/>
                </a:lnTo>
                <a:lnTo>
                  <a:pt x="98" y="308"/>
                </a:lnTo>
                <a:lnTo>
                  <a:pt x="88" y="319"/>
                </a:lnTo>
                <a:lnTo>
                  <a:pt x="73" y="320"/>
                </a:lnTo>
                <a:lnTo>
                  <a:pt x="37" y="324"/>
                </a:lnTo>
                <a:lnTo>
                  <a:pt x="12" y="334"/>
                </a:lnTo>
                <a:lnTo>
                  <a:pt x="0" y="343"/>
                </a:lnTo>
                <a:lnTo>
                  <a:pt x="8" y="354"/>
                </a:lnTo>
                <a:lnTo>
                  <a:pt x="29" y="357"/>
                </a:lnTo>
                <a:lnTo>
                  <a:pt x="58" y="346"/>
                </a:lnTo>
                <a:lnTo>
                  <a:pt x="75" y="338"/>
                </a:lnTo>
                <a:lnTo>
                  <a:pt x="112" y="330"/>
                </a:lnTo>
                <a:lnTo>
                  <a:pt x="120" y="327"/>
                </a:lnTo>
                <a:lnTo>
                  <a:pt x="124" y="316"/>
                </a:lnTo>
                <a:lnTo>
                  <a:pt x="119" y="300"/>
                </a:lnTo>
                <a:lnTo>
                  <a:pt x="89" y="270"/>
                </a:lnTo>
                <a:lnTo>
                  <a:pt x="75" y="251"/>
                </a:lnTo>
                <a:lnTo>
                  <a:pt x="58" y="215"/>
                </a:lnTo>
                <a:lnTo>
                  <a:pt x="54" y="198"/>
                </a:lnTo>
                <a:lnTo>
                  <a:pt x="70" y="152"/>
                </a:lnTo>
                <a:lnTo>
                  <a:pt x="103" y="105"/>
                </a:lnTo>
                <a:lnTo>
                  <a:pt x="133" y="74"/>
                </a:lnTo>
                <a:lnTo>
                  <a:pt x="149" y="51"/>
                </a:lnTo>
                <a:lnTo>
                  <a:pt x="166" y="37"/>
                </a:lnTo>
                <a:lnTo>
                  <a:pt x="171" y="17"/>
                </a:lnTo>
                <a:lnTo>
                  <a:pt x="157" y="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8400" y="1166760"/>
            <a:ext cx="247680" cy="531720"/>
          </a:xfrm>
          <a:custGeom>
            <a:avLst/>
            <a:gdLst/>
            <a:ahLst/>
            <a:rect l="l" t="t" r="r" b="b"/>
            <a:pathLst>
              <a:path w="156" h="335">
                <a:moveTo>
                  <a:pt x="68" y="32"/>
                </a:moveTo>
                <a:lnTo>
                  <a:pt x="37" y="4"/>
                </a:lnTo>
                <a:lnTo>
                  <a:pt x="2" y="0"/>
                </a:lnTo>
                <a:lnTo>
                  <a:pt x="0" y="24"/>
                </a:lnTo>
                <a:lnTo>
                  <a:pt x="19" y="42"/>
                </a:lnTo>
                <a:lnTo>
                  <a:pt x="49" y="55"/>
                </a:lnTo>
                <a:lnTo>
                  <a:pt x="73" y="77"/>
                </a:lnTo>
                <a:lnTo>
                  <a:pt x="77" y="108"/>
                </a:lnTo>
                <a:lnTo>
                  <a:pt x="73" y="153"/>
                </a:lnTo>
                <a:lnTo>
                  <a:pt x="60" y="230"/>
                </a:lnTo>
                <a:lnTo>
                  <a:pt x="45" y="278"/>
                </a:lnTo>
                <a:lnTo>
                  <a:pt x="29" y="313"/>
                </a:lnTo>
                <a:lnTo>
                  <a:pt x="32" y="329"/>
                </a:lnTo>
                <a:lnTo>
                  <a:pt x="49" y="332"/>
                </a:lnTo>
                <a:lnTo>
                  <a:pt x="80" y="324"/>
                </a:lnTo>
                <a:lnTo>
                  <a:pt x="114" y="324"/>
                </a:lnTo>
                <a:lnTo>
                  <a:pt x="133" y="334"/>
                </a:lnTo>
                <a:lnTo>
                  <a:pt x="151" y="329"/>
                </a:lnTo>
                <a:lnTo>
                  <a:pt x="155" y="310"/>
                </a:lnTo>
                <a:lnTo>
                  <a:pt x="137" y="306"/>
                </a:lnTo>
                <a:lnTo>
                  <a:pt x="102" y="306"/>
                </a:lnTo>
                <a:lnTo>
                  <a:pt x="51" y="316"/>
                </a:lnTo>
                <a:lnTo>
                  <a:pt x="49" y="313"/>
                </a:lnTo>
                <a:lnTo>
                  <a:pt x="54" y="297"/>
                </a:lnTo>
                <a:lnTo>
                  <a:pt x="73" y="240"/>
                </a:lnTo>
                <a:lnTo>
                  <a:pt x="81" y="195"/>
                </a:lnTo>
                <a:lnTo>
                  <a:pt x="94" y="139"/>
                </a:lnTo>
                <a:lnTo>
                  <a:pt x="94" y="99"/>
                </a:lnTo>
                <a:lnTo>
                  <a:pt x="93" y="69"/>
                </a:lnTo>
                <a:lnTo>
                  <a:pt x="86" y="47"/>
                </a:lnTo>
                <a:lnTo>
                  <a:pt x="68" y="32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54360" y="380880"/>
            <a:ext cx="291960" cy="285840"/>
          </a:xfrm>
          <a:custGeom>
            <a:avLst/>
            <a:gdLst/>
            <a:ahLst/>
            <a:rect l="l" t="t" r="r" b="b"/>
            <a:pathLst>
              <a:path w="184" h="180">
                <a:moveTo>
                  <a:pt x="183" y="160"/>
                </a:moveTo>
                <a:lnTo>
                  <a:pt x="183" y="120"/>
                </a:lnTo>
                <a:lnTo>
                  <a:pt x="174" y="75"/>
                </a:lnTo>
                <a:lnTo>
                  <a:pt x="153" y="40"/>
                </a:lnTo>
                <a:lnTo>
                  <a:pt x="125" y="18"/>
                </a:lnTo>
                <a:lnTo>
                  <a:pt x="94" y="1"/>
                </a:lnTo>
                <a:lnTo>
                  <a:pt x="69" y="0"/>
                </a:lnTo>
                <a:lnTo>
                  <a:pt x="40" y="6"/>
                </a:lnTo>
                <a:lnTo>
                  <a:pt x="27" y="21"/>
                </a:lnTo>
                <a:lnTo>
                  <a:pt x="18" y="40"/>
                </a:lnTo>
                <a:lnTo>
                  <a:pt x="21" y="60"/>
                </a:lnTo>
                <a:lnTo>
                  <a:pt x="25" y="83"/>
                </a:lnTo>
                <a:lnTo>
                  <a:pt x="40" y="102"/>
                </a:lnTo>
                <a:lnTo>
                  <a:pt x="0" y="147"/>
                </a:lnTo>
                <a:lnTo>
                  <a:pt x="5" y="158"/>
                </a:lnTo>
                <a:lnTo>
                  <a:pt x="51" y="123"/>
                </a:lnTo>
                <a:lnTo>
                  <a:pt x="77" y="151"/>
                </a:lnTo>
                <a:lnTo>
                  <a:pt x="105" y="170"/>
                </a:lnTo>
                <a:lnTo>
                  <a:pt x="134" y="179"/>
                </a:lnTo>
                <a:lnTo>
                  <a:pt x="157" y="179"/>
                </a:lnTo>
                <a:lnTo>
                  <a:pt x="174" y="170"/>
                </a:lnTo>
                <a:lnTo>
                  <a:pt x="183" y="16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91960" y="-471600"/>
            <a:ext cx="1581840" cy="177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07" y="17580"/>
                </a:moveTo>
                <a:arcTo wR="10800" hR="10800" stAng="2333012" swAng="6294804"/>
                <a:lnTo>
                  <a:pt x="10800" y="10800"/>
                </a:lnTo>
                <a:close/>
              </a:path>
              <a:path fill="none" w="21600" h="21600">
                <a:moveTo>
                  <a:pt x="19207" y="17580"/>
                </a:moveTo>
                <a:arcTo wR="10800" hR="10800" stAng="2333012" swAng="629480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7840" y="2311560"/>
            <a:ext cx="3225600" cy="86328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87920" y="2311560"/>
            <a:ext cx="3378240" cy="86328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200" y="4027320"/>
            <a:ext cx="340524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73880" y="4030560"/>
            <a:ext cx="342072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274320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7652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4419720"/>
            <a:ext cx="19814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88080" y="-846000"/>
            <a:ext cx="1380240" cy="176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11" y="17574"/>
                </a:moveTo>
                <a:arcTo wR="10800" hR="10800" stAng="2330835" swAng="6299493"/>
                <a:lnTo>
                  <a:pt x="10800" y="10800"/>
                </a:lnTo>
                <a:close/>
              </a:path>
              <a:path fill="none" w="21600" h="21600">
                <a:moveTo>
                  <a:pt x="19211" y="17574"/>
                </a:moveTo>
                <a:arcTo wR="10800" hR="10800" stAng="2330835" swAng="6299493"/>
              </a:path>
            </a:pathLst>
          </a:custGeom>
          <a:noFill/>
          <a:ln cap="rnd" w="25560">
            <a:solidFill>
              <a:srgbClr val="000000"/>
            </a:solidFill>
            <a:custDash>
              <a:ds d="499000" sp="201000"/>
            </a:custDash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7FA-D11C-4077-9E84-582203D6382D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b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ekas negali perskaity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atsiųsto praneši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čiau bet kas gali jį atsiųs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 ku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 žinoti, kad pranešimą tikrai atsiunt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 pasiguosti tik tuo, kad ti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ic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ės perskaityti jo atsaky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CC2-553C-4FDD-B0D6-176D83C5ECE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gali pasirašyti savo pranešimą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 sukurti savo skaitmeninį parašą ir patvirtinti tai, kad tikrai ji pasiuntė praneš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rba tai gali atlikti tas, kuris žino jos privatų rakt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rašu gali būti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sage diges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”-pranešimo santrauka, užšifruota naudoj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119-EC82-42DF-8F9E-9A527B10CB3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Dig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taip pat vadinam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hash function”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r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one-way transformation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atliekama bet kokio ilgio pranešimo transformacija ir gaunama fiksuoto ilgio eilut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ekiama, kad būtų sunku atspėti pradinį pranešimą, kuris duoda šią turimą “message digest”- pranešimo santraukos reikšm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spėti visad yra gal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ACE-920E-43B5-B297-9BB3B4842C8C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paraš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eikia savo pradinį pranešimą, pritaiko ja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h fu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ciją ir užšifruoja gautą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ssage dig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pranešimo santrauk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da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iššifruoti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g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naudodama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suskaičiuoti pranešimo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g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šie du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gest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yr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k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žino, k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untė praneši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FA3-CAEC-48D3-8166-711BA761BC34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1520" y="1701720"/>
            <a:ext cx="3225960" cy="86364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11960" y="1701720"/>
            <a:ext cx="3377880" cy="86364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3040" y="3452760"/>
            <a:ext cx="319896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sirašo naudod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65800" y="3476520"/>
            <a:ext cx="4394160" cy="69840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tikrina parašą s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213372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00200" y="25909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62920" y="25909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6920" y="5033880"/>
            <a:ext cx="335448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Užšifruoja naudod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30680" y="5045040"/>
            <a:ext cx="3367080" cy="69840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ja 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5410080"/>
            <a:ext cx="18302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41911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2920" y="41911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ataisyta 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90D-3AF3-49BA-9025-0079D107095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prendžiamos probl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avimas – tai įsitikinimas, kad partneris tikrai yra tuo, kuo prisist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nfidencialumas – tai jautrios informacijos apsau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ntisumas – garantija, kad persiunčiant duomenys nebuvo pakeis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eatsižadėjimas –tai įrodymas, kad informacija tikrai atėjo iš to siuntėj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5EA9-11E2-4340-B4C9-48F938AF58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am naudoti santrauk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paprasčiausiai užšifruoti savo vardą ir j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iššifruoti naudoda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dėl to nepakank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situacija, ka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igia, kad ji pasiuntė pranešim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įrodyti, kad tik kažkas s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aktu galėjo atsiųsti praneši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F443-1F8C-4203-93A4-A64222F29BB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ita galima situ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rki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vo pranešimą iš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rtu su skaitmeniniu paraš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0" i="1" lang="lt-LT" sz="2800" spc="-1" strike="noStrike">
                <a:solidFill>
                  <a:srgbClr val="00cc99"/>
                </a:solidFill>
                <a:latin typeface="Times New Roman"/>
              </a:rPr>
              <a:t>sutik mane SC šiąnakt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unčia šį pranešim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o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p, kad tai atrodytų tarsi būtų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raneš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terpia skaitmenin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rašą, kurį Alice jam atsiunt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patenkinta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ųstu pranešim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4E9-09EA-48C8-826B-FEF63B20811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endim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sad pradėkite laišką kreipini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r Bil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skaičiuokite pranešimo santrauką ir ją užšifruokite naudodami priva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ir kitų būd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8FB-3003-44BF-99BF-2E657D61405B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technologijos vartoto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 praneša savo viešą raktą vieni kitiem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gi gavėjas gali būti tikras, kad šis viešas raktas iš tikrųjų priklauso siuntėj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lema sprendžiama naudojant skaitmeninį RSA sertifikat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as – tai viešas raktas vartotojo, pasirašytas naudojant skaitmeninį parašą kažkurio tai patikimo asme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F927-393E-4D25-92CE-CD568DEA511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umo infrastruktūr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šas raktas galioja tik tada, kai raktas bei jo surišimas su dalyviu yra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tvirtintas (autentifikuotas) pasitikėjimo verto centrinio autoriteto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s procesas yra vadinamas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rtifikavi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ertification), pasitikėjimo vertas autoritetas – sertifikavimo autoritetu ( certification autority CA), sertifikato raktas yra talpinamas ant atitinkamo dalyvio sertifika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2FA-DFE3-4CED-A19D-03B8335A748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audojam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žio tipo CA jungtis, kur žemesnio lygio komunikavimo dalyvius apjungia pasitikėjimo vertas aukštesnio hierarchijos lygio pasitikėjimo autorite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 deda skaitmeninį parašą ant  paketo, kurį sudaro: dalyvio viešas raktas, unikalus numeris, kurį suteikia CA, galiojimo periodas ir dalyvio vardas</a:t>
            </a:r>
            <a:r>
              <a:rPr b="0" lang="lt-LT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s duomenų paketas kartu su CA skaitmeniniu parašu yra vadinamas sertifikatu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22A0-5FED-4A82-BB92-F36DEC8945D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rašo tikrin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int pasiųsti pranešimą su skaitmeniniu parašu kuriam nors saugios infrastruktūros dalyviui, turi bū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eneruoj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šas, priklausantis šiam pranešimui,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pija turi būti persiunčiama kartu su pranešimu ir paraš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krini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erifikacija) žymi parašo tikrinimo procesą. Tam reikalingas viešas raktas, todėl viešas raktas yra sertifikato dalimi.  Gavėjas pirmiausiai patikrina, ar siuntėjas iš tikrųjų pasirašė, o po to tikrina ar sertifikatas yra original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ertifika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ojimo periodas yra nusakomas CA ir yra įtraukiamas į sertifikatą.  Jei sertifikatas panaudojamas blogam jo galiojimo metu, tai jis praranda pasitikėji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yra įtraukiamas į nepatikimų sąraš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8758-4396-49B1-943F-20042F9F58A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rtifik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teiki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 būti vykdo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em būda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totojas gal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s generuo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u raktą ir raktinį žodį ir prašyti CA sertifikavimo arba CA generuoja šią porą vartotoju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raktus generuoja CA, tai jie gali būti ir laikomi pas C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galima esant pilnam pasitikėjimui tarp vartotojo ir CA, kadangi CA turi priėjimą prie vartotojo privačių rakt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vartotojas pats generuoja raktus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is siunčia savo viešą raktą, vadinamą  sertifikato prototipu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prototype sertificate)  atitinkamam CA.  CA pasirašo prototipą ir siunčia sertifikatą atgal vartotoju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4AB-32AE-41F9-B103-7DCE3E3F9EA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509 – Standartas ir skirtingi vardai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šo rakto sertifikavimas baigiamas sertifikatu.  Tokio sertifikato struktūra yra apibrėžiama ISO – X.509 standart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Be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ieš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rakt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subject public key), sertifikate taip pat nurodomas CA vardas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galiojimo periodas (validity), turėtojo vardas ir unikalus skaičius, kurį suteikia išduodanti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serial number)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rtingi vardai yra sukomponuojami iš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lių, kurios žymi organizaciją, šalį bei kitus komponen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0813-13F9-430C-92E7-1D70927EE3B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 funkcij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 naudojamos skaitmeninei pranešim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antrauko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šmei suskaičiuoti (message digest). Hash funkcija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audžia pranešimo bitus iki fiksuoto dydžio hash reikšm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agal gautą hash funkcijos reikšmę sunku nustatyti koks pranešimas davė tokią reikšm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 f-jos reikšmė dažnai yra iš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8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 daugiau bitų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2E4-9C1E-4313-A8CC-01A03191B56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 šifrav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55649b"/>
                </a:solidFill>
                <a:latin typeface="Times New Roman"/>
              </a:rPr>
              <a:t>Šifravimas ir iššifravimas paprastai reikalauja tam tikros </a:t>
            </a:r>
            <a:r>
              <a:rPr b="1" lang="lt-LT" sz="2400" spc="-1" strike="noStrike">
                <a:solidFill>
                  <a:srgbClr val="55649b"/>
                </a:solidFill>
                <a:latin typeface="Times New Roman"/>
              </a:rPr>
              <a:t>slaptos informacijos</a:t>
            </a:r>
            <a:r>
              <a:rPr b="0" lang="lt-LT" sz="2400" spc="-1" strike="noStrike">
                <a:solidFill>
                  <a:srgbClr val="55649b"/>
                </a:solidFill>
                <a:latin typeface="Times New Roman"/>
              </a:rPr>
              <a:t> panaudojimo, ji vadinama šifro rak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ikini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vyzdys yra istorinis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zario šifr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ekstas buvo šifruojamas naudojant raidžių perstumimą, vietoje A – D, vietoje B – E ir t.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 atveju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o rakt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rnavo skaičius, rodantis per kelias raides reikia daryti perstumimą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o procedūra laikoma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i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i yra sunku (per praktiškai priimtiną laiką) nepaisant to kad žinai šifravimo algoritmą nežinant šifro rakto iššifruoti užšifruotą praneš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C3E-F33A-4AF6-A1A6-92AAA36D30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D5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–(Message Digest Algorithm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saugus hash algoritmas, sukurtas RSA Data Security,Inc. Bet kokio ilgio baitų eilutę verčia 128 bitų reikš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plačiai naudojamas, yra laikomas pagrįstai saug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rmtakai – algoritmai MD2, M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HA – duoda 160 bitų hash reikšmę . SHS struktūriškai panašus į MD4,MD5, yra 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nis ne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D5, tačiau sauges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1620-DF92-4D3B-B8C7-49371E24B25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P –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ty Good Privac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P naudoja šifravimo sistemą IDE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 atvirų raktų sistemą RS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 programa gali duoti 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ų e-mailui tai , ko jis anksčiau neturėjo – konfidencialum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EB0-1411-4A37-BF96-1A88C014B91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veikia PGP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j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tis šia programa, ji sugeneruoja du raktus, kurie priklauso tik jums.  Vienas iš PGP raktų yra </a:t>
            </a:r>
            <a:r>
              <a:rPr b="0" i="1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lap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is lieka jūsų kompiuteryje. Antras rakt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tvir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jį jūs perduodate savo respondentui. Atviras raktas gana ilgas (kelios eilutės simbolių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eikia jokio slapto kanalo perdavimui rakto, ar patikimo kurjerio. Atvirą raktą gali matyti vis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09A8-8DCD-40A0-9718-3E6149A4395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, kas bus užšifruota atviru raktu, galė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uoti tik turintis slaptą raktą – tai yra žmogus, kuriam skirtas pranešim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s raktas pats laikomas šifruotam pavidale ir niekad nepalieka kompiuteri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ilgis 128 bitai, t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ų kombinacijų kiekis 2</a:t>
            </a:r>
            <a:r>
              <a:rPr b="0" lang="lt-L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28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20F-9798-46DE-99F1-529EAA50946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1106640" y="1481040"/>
            <a:ext cx="6930720" cy="3780000"/>
            <a:chOff x="1106640" y="1481040"/>
            <a:chExt cx="6930720" cy="3780000"/>
          </a:xfrm>
        </p:grpSpPr>
        <p:sp>
          <p:nvSpPr>
            <p:cNvPr id="267" name=""/>
            <p:cNvSpPr/>
            <p:nvPr/>
          </p:nvSpPr>
          <p:spPr>
            <a:xfrm>
              <a:off x="1106640" y="1481040"/>
              <a:ext cx="454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06640" y="1481040"/>
              <a:ext cx="6930720" cy="37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9" name="file2782571_datorjoki2" descr=""/>
          <p:cNvPicPr/>
          <p:nvPr/>
        </p:nvPicPr>
        <p:blipFill>
          <a:blip r:embed="rId1"/>
          <a:stretch/>
        </p:blipFill>
        <p:spPr>
          <a:xfrm>
            <a:off x="2359080" y="1527120"/>
            <a:ext cx="4325760" cy="441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893-8D19-4B6A-AC65-C6BC2AA6084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– a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naudojamos dvi šifravimo sistemo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ė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etrinė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ės šifravimo sistemos naudoja tą patį raktą (slaptą raktą) tiek duomenų užšifravimui, tiek jų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ės šifravimo sistem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yra naujesnės, 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šą rakt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slaptą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etrinio šifravimo sistemos dar vad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 viešo rakto šifravimo sistemom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386-6394-47DD-B555-5BF65664C1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s pats raktas tiek informacijos šifravimui, tiek de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aktas turi būti žinomas abiem komunikuojančiom pusė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Šifravimas taikomas dėl “nedraugiškos” duomenų perdavimo aplinkos (kitaip – kam šifruoti?) – problema – šifro rakto perdavi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6FCF-159A-48D8-9291-88574F7C0A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8:10:40Z</dcterms:created>
  <dc:creator>Kristina</dc:creator>
  <dc:description/>
  <dc:language>en-US</dc:language>
  <cp:lastModifiedBy>Kristina</cp:lastModifiedBy>
  <dcterms:modified xsi:type="dcterms:W3CDTF">2004-11-17T09:55:36Z</dcterms:modified>
  <cp:revision>33</cp:revision>
  <dc:subject/>
  <dc:title>9 paskaita</dc:title>
</cp:coreProperties>
</file>