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24F-35E0-41B3-A914-2E17C287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05E-D4C3-4B11-A871-D45880CD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072-183B-4188-B110-E9C0C9F2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717-A08D-4A1D-8662-1A08A871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3F7D-5748-4802-BF72-F985291F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A795-538A-467B-A414-3926D020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E5E9-BF89-46CD-9936-EC01B484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FD4E-4FE7-44B0-B537-2D33054C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6394-7435-4551-A902-829CE033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BF8D-FEF0-480A-B478-27D8D4CD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616C-9D96-4854-8A00-67E22F7E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C84-7162-4121-934D-90B86FB4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5033-542E-49B6-B3FC-AA9BA3E1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2815-F9C0-4E7E-8B19-5E32C63D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52A9-5E5C-4579-A1D2-0FDB910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7690-2A37-457B-AA43-61F2C7DD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183C-28B3-4017-AA40-C239B2B9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AC0-ECBE-413C-80F2-DAD1DABB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0CB-11C3-46A5-84E7-43ECE902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527-CEAD-4F71-81E0-F8BEF9F1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86F-58B0-4557-A289-1499F3D1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7F6-AD28-4E2A-BFA0-EF3C696D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26C-236A-4BF0-9320-48727A0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1C9-0353-4349-9976-9E7EA2C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reivi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ų konstravimo metodai ir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programin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vydas Rancov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kalauro dar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1500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dovas: prof. V. Plu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artotojo s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ąsa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72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i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nkta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il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aguo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dy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-splain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gal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2-141" descr=""/>
          <p:cNvPicPr/>
          <p:nvPr/>
        </p:nvPicPr>
        <p:blipFill>
          <a:blip r:embed="rId1"/>
          <a:stretch/>
        </p:blipFill>
        <p:spPr>
          <a:xfrm>
            <a:off x="646200" y="2149560"/>
            <a:ext cx="5678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gramos galimybė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Leidžia konstruoti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Bezje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 –os eilės, racionaliąsias,  papildytas, apskritimus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pse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udojant 3-os eilės Bezje krei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odant Sąsaj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arp 3-iosios eilės Bezje ir B-splainų kreivi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-splainų kreives.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Patogi pagalbos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Tetavi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-splainų kreivių ir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os eilės Bezje kreivių konstravimo teisingumo testavi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Ta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4 –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os eilės Bezje kreivių konstravim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atvaizduoti Krieves, Liestines, Taškus, Indeksus bei svoriu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a" descr=""/>
          <p:cNvPicPr/>
          <p:nvPr/>
        </p:nvPicPr>
        <p:blipFill>
          <a:blip r:embed="rId1"/>
          <a:stretch/>
        </p:blipFill>
        <p:spPr>
          <a:xfrm>
            <a:off x="533520" y="2084400"/>
            <a:ext cx="5562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acionaliųjų 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cionalioji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         eilės Bezje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kiekvienam kontroliniui taškui nustatyti atitinkamą svorį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0600" y="130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tete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39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-splainų 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7120" y="3200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- iosios eilės         B-splainų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mama" descr=""/>
          <p:cNvPicPr/>
          <p:nvPr/>
        </p:nvPicPr>
        <p:blipFill>
          <a:blip r:embed="rId1"/>
          <a:stretch/>
        </p:blipFill>
        <p:spPr>
          <a:xfrm>
            <a:off x="304920" y="1940040"/>
            <a:ext cx="58435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cbcbcb"/>
                </a:solidFill>
                <a:latin typeface="Times New Roman"/>
              </a:rPr>
              <a:t>Aparatūriniai ir sisteminiai resursai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BM PC, Intel 166 MHz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Windows95, Windows95, Windows 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udota programin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C++ 5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 Help Workshop 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Word9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arbe išnagrinėti tolydžiųjų kreivių konstravimo metodai, naudojant n-tos eilės (n&lt;34) Bezje polinomus, 3 –iosios eilės racionaliąsias Bezje kreives bei B-splainu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Išnagrinėti metodai bei sukurta programinė įranga bus naudojama dėstant “Skaičiavimo metodai 2” kursą ir padės studentams geriau įsisavinti bei įsivaizduoti kreivių konstravim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Darbo tiksla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nagrinėti norimos formos tolydžiųjų kreivių konstravimo metodus, naudojant Bezje polinomus, 3–ios eilės racionaliąsias Bezje kreives bei B-splain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kurti patogią programinę įrangą skirtą tokių kreivių konstravimu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oduktas bus naudojamas dėstant “Skaičiavimo metodai 2” kursą ir padės studentams geriau įsisavinti bei įsivaizduoti kreivių konstravim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Bezje polinom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4724280"/>
                <a:ext cx="3124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urime aibę taškų :                                                      Šie taškai, dar vadinami Bezjė tašk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124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ada n – tosios eilės Bezjė polinomas, kurį nusako taškai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 parametrine forma apibrėžiamas taip:                                           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  , kur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2057400"/>
                <a:ext cx="297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81280" y="3581280"/>
                <a:ext cx="1917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38680" y="500688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cbcbcb"/>
                </a:solidFill>
                <a:latin typeface="Times New Roman"/>
              </a:rPr>
              <a:t>Bezje 3-iosios eilės polinomų kreivė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52480" y="2209680"/>
            <a:ext cx="6477120" cy="4114800"/>
            <a:chOff x="1752480" y="2209680"/>
            <a:chExt cx="6477120" cy="4114800"/>
          </a:xfrm>
        </p:grpSpPr>
        <p:graphicFrame>
          <p:nvGraphicFramePr>
            <p:cNvPr id="103" name=""/>
            <p:cNvGraphicFramePr/>
            <p:nvPr/>
          </p:nvGraphicFramePr>
          <p:xfrm>
            <a:off x="1752480" y="2209680"/>
            <a:ext cx="2819520" cy="175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209680"/>
                      <a:ext cx="281952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72000" y="2209680"/>
            <a:ext cx="365760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3657600" cy="17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"/>
            <p:cNvGrpSpPr/>
            <p:nvPr/>
          </p:nvGrpSpPr>
          <p:grpSpPr>
            <a:xfrm>
              <a:off x="1752480" y="3962520"/>
              <a:ext cx="6477120" cy="2361960"/>
              <a:chOff x="1752480" y="3962520"/>
              <a:chExt cx="6477120" cy="2361960"/>
            </a:xfrm>
          </p:grpSpPr>
          <p:graphicFrame>
            <p:nvGraphicFramePr>
              <p:cNvPr id="108" name=""/>
              <p:cNvGraphicFramePr/>
              <p:nvPr/>
            </p:nvGraphicFramePr>
            <p:xfrm>
              <a:off x="4495680" y="3962520"/>
              <a:ext cx="3733920" cy="23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373392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1752480" y="3962520"/>
              <a:ext cx="2743200" cy="2361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52480" y="3962520"/>
                        <a:ext cx="274320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Racionalio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n-ojo laipsnio Bezje kreivė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užrašoma taip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1752480"/>
                <a:ext cx="38098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33520" y="358128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ai       vadin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iniais taškais, o skaičiai     - atitinkamų kontrolinių taškų svori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3720" y="3581280"/>
                <a:ext cx="446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09680" y="403848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90920"/>
          <a:ext cx="777240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Splainas –tai tolydžioji iki p-osios eilės išvestinės imtinai funkcija, sudaryta iš kokios nors funkcijos dalių. Istoriškai splainai buvo pradėti konstruoti iš n-tiosios eilės polinomo dalių. Todėl čia splainai, suvokiami kaip funkcijos, sudarytos iš polinomo dalių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prasčiausias ir seniausiai naudojamas splaino pavyzdys yra laužtė. Tai pirmosios eilės splainas, kuriam 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Jei splainas sudarytas, pavyzdžiui, iš kubinio polinomo dalių, tai jis vadinamas kubiniu splainu ir  jam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91520" y="5105520"/>
                <a:ext cx="144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1.2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505320" cy="2260800"/>
          </a:xfrm>
          <a:prstGeom prst="rect">
            <a:avLst/>
          </a:prstGeom>
          <a:ln w="0">
            <a:noFill/>
          </a:ln>
        </p:spPr>
      </p:pic>
      <p:pic>
        <p:nvPicPr>
          <p:cNvPr id="126" name="2.26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365760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0" y="1981080"/>
          <a:ext cx="34290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3429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4.26" descr=""/>
          <p:cNvPicPr/>
          <p:nvPr/>
        </p:nvPicPr>
        <p:blipFill>
          <a:blip r:embed="rId5"/>
          <a:stretch/>
        </p:blipFill>
        <p:spPr>
          <a:xfrm>
            <a:off x="4724280" y="4267080"/>
            <a:ext cx="32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laino užrašymo for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ra keturios splainų užrašymo formos, iš kurių tik dvi naudojamos praktiniuose skaičiavimuose, tai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kviename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nurodoma polinomo išraiška, t.y. dalimis polinominė form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plainas užrašomas tiesine B-splainų kombinacija.</a:t>
            </a: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57600" y="3276720"/>
                <a:ext cx="129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2:29:34Z</dcterms:created>
  <dc:creator>Sigitas Drąsutis</dc:creator>
  <dc:description/>
  <dc:language>en-US</dc:language>
  <cp:lastModifiedBy>alvydas</cp:lastModifiedBy>
  <dcterms:modified xsi:type="dcterms:W3CDTF">1999-06-16T08:26:29Z</dcterms:modified>
  <cp:revision>11</cp:revision>
  <dc:subject/>
  <dc:title>Medžiaga ActiveX laboratorinių darbų pravedimui</dc:title>
</cp:coreProperties>
</file>