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D4B-D044-4266-A190-A43977ED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28D-857E-4309-92DA-B2B394E8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17F-8286-453A-AC5F-00BFF9D6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F6A-890D-487A-B365-B053232A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9BF2-F62C-4A31-B91F-C8D21DFD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576A-5366-4A6B-A593-12328DA5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EF23-86BE-4939-A6BD-62B11F6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F4E3-751C-4339-9D9F-866EC625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50F3-802C-421F-9DF5-0DFD1DF7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5CCC-F2AE-4BB3-8A05-5A0C5E66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BC8D-85D5-4E84-9474-034F04D8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171-FD03-4967-84B5-F0F53ADC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BE3E-9A11-4525-A973-06C2A60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F282-8553-45F8-B359-823FECC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569C-6EB1-4D15-8350-93A84CC7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243E-41F8-4541-A6BF-C26B40D1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F9D2-BEB5-4FF1-98B7-E6BA284A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EF1-DC8F-4564-9966-F306B496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0EC-18E3-4BCA-B7E8-C99910D1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BDB-A2F9-44CE-ABA9-4934A210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3B5-8A49-4154-ABCD-AC0E00FD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B8B-ED9A-4118-B5D9-3047ACAC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F53-6F82-4AA0-AA41-2084F77B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852-9F5C-41BB-AF92-F99AA01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62BA-33A8-4B14-ADC2-27BD32B1B9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69C2-8F25-4C6C-B3CE-18E335D1BF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000000"/>
                </a:solidFill>
                <a:latin typeface="Verdana"/>
              </a:rPr>
              <a:t>Vadybos teori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FABB-F737-4CCF-997A-1A5FFE42B36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Teorija „Z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technikos: sprendimų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Dinamiškų santykių požiūris į vadybos moksl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uotinės kokybės vadybos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B4A-12E2-4773-A1A8-8FEEB20EDD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okyčių ir inovacijų valdy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Naujos sąlygos valdymui: vadybos mokslo ateiti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521-CB34-4C29-9D67-619BC5DDB2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EGZAMINAS (13-26 temo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Egzamin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akartotinas atsiskaitymas skiriamas pagal numatytą egzaminų perlaikymo savaitės tvarkaraštį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5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EC2-C82C-4D04-9A2F-23112498FF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</a:rPr>
              <a:t>Individualūs užduočių pristatymai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liekami pasirinktomis temomis, suderintomis su dalyko dėstytoj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PowerPoint formate, pateikiant pristatymo skaidres, atspausdintas po dvi A4 formato lapuos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auditorijoje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o trukmė 10-15 mi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įtaka galutiniam pažymiui - 10 pro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CFD-AC58-4D8E-BC3D-D415A7A960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ų darbas (grupinė užduoti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šomas pasirinktinai pagal dėstytojo pateiktas temas, suderinus jas su dėstytoj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tinio pobūdžio studija, kurioje turi dominuoti analitinis stilius, išreiškiantis autorių nuomonę į tyrinėjamą tematiką bei kitų autorių atliktus pastebėjimus ir tyrim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grupėse po 3-4 student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mas raštu iki 14 studijų savaitės (iki gegužės 07d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16 savaitę vyks namų darbų pristatymai, parengti PowerPoint formate. Pristatymo trukmė 10-15m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atliekamas tokiu būdu: (50 proc. darbas pateiktas raštu ir 50 proc. – pristatymas. Konsultacijos teikiamos pratybų met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ED9-F7C8-43C5-9CE3-67A4BDB725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Atsiskaity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2057400"/>
            <a:ext cx="8762760" cy="3987720"/>
            <a:chOff x="228600" y="2057400"/>
            <a:chExt cx="8762760" cy="3987720"/>
          </a:xfrm>
        </p:grpSpPr>
        <p:grpSp>
          <p:nvGrpSpPr>
            <p:cNvPr id="114" name=""/>
            <p:cNvGrpSpPr/>
            <p:nvPr/>
          </p:nvGrpSpPr>
          <p:grpSpPr>
            <a:xfrm>
              <a:off x="236520" y="2062080"/>
              <a:ext cx="8745840" cy="3978360"/>
              <a:chOff x="236520" y="2062080"/>
              <a:chExt cx="8745840" cy="3978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36520" y="2062080"/>
                <a:ext cx="4754880" cy="914400"/>
                <a:chOff x="236520" y="2062080"/>
                <a:chExt cx="4754880" cy="9144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52440" y="2062080"/>
                  <a:ext cx="45230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siskaitymo (užduoties) tip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6520" y="2062080"/>
                  <a:ext cx="47548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991760" y="2062080"/>
                <a:ext cx="1242720" cy="914400"/>
                <a:chOff x="4991760" y="2062080"/>
                <a:chExt cx="1242720" cy="914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107680" y="2062080"/>
                  <a:ext cx="1011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m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91760" y="2062080"/>
                  <a:ext cx="12427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34840" y="2062080"/>
                <a:ext cx="1189080" cy="914400"/>
                <a:chOff x="6234840" y="2062080"/>
                <a:chExt cx="1189080" cy="914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50760" y="2062080"/>
                  <a:ext cx="9576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 valandų, val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234840" y="2062080"/>
                  <a:ext cx="1189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424280" y="2062080"/>
                <a:ext cx="1558080" cy="914400"/>
                <a:chOff x="7424280" y="2062080"/>
                <a:chExt cx="1558080" cy="914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539840" y="2062080"/>
                  <a:ext cx="1326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Įtaka pažymiui, proc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24280" y="2062080"/>
                  <a:ext cx="1558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36520" y="2976480"/>
                <a:ext cx="4754880" cy="609480"/>
                <a:chOff x="236520" y="2976480"/>
                <a:chExt cx="4754880" cy="609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2440" y="29764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ividualūs užduočių pristatym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6520" y="29764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991760" y="2976480"/>
                <a:ext cx="1242720" cy="609480"/>
                <a:chOff x="4991760" y="2976480"/>
                <a:chExt cx="1242720" cy="609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107680" y="29764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991760" y="29764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234840" y="2976480"/>
                <a:ext cx="1189080" cy="609480"/>
                <a:chOff x="6234840" y="2976480"/>
                <a:chExt cx="1189080" cy="609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350760" y="29764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234840" y="29764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424280" y="2976480"/>
                <a:ext cx="1558080" cy="609480"/>
                <a:chOff x="7424280" y="2976480"/>
                <a:chExt cx="1558080" cy="609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539840" y="29764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424280" y="29764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36520" y="3585960"/>
                <a:ext cx="4754880" cy="609840"/>
                <a:chOff x="236520" y="3585960"/>
                <a:chExt cx="4754880" cy="609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2440" y="3585960"/>
                  <a:ext cx="45230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ų darbai (grupinės užduoty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6520" y="3585960"/>
                  <a:ext cx="47548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991760" y="3585960"/>
                <a:ext cx="1242720" cy="609840"/>
                <a:chOff x="4991760" y="3585960"/>
                <a:chExt cx="1242720" cy="609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7680" y="3585960"/>
                  <a:ext cx="1011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991760" y="3585960"/>
                  <a:ext cx="12427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234840" y="3585960"/>
                <a:ext cx="1189080" cy="609840"/>
                <a:chOff x="6234840" y="3585960"/>
                <a:chExt cx="1189080" cy="609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50760" y="3585960"/>
                  <a:ext cx="957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234840" y="3585960"/>
                  <a:ext cx="1189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424280" y="3585960"/>
                <a:ext cx="1558080" cy="609840"/>
                <a:chOff x="7424280" y="3585960"/>
                <a:chExt cx="1558080" cy="609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539840" y="3585960"/>
                  <a:ext cx="1326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24280" y="3585960"/>
                  <a:ext cx="1558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36520" y="4195800"/>
                <a:ext cx="4754880" cy="609480"/>
                <a:chOff x="236520" y="4195800"/>
                <a:chExt cx="4754880" cy="6094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2440" y="419580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rpinis egzam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6520" y="419580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991760" y="4195800"/>
                <a:ext cx="1242720" cy="609480"/>
                <a:chOff x="4991760" y="4195800"/>
                <a:chExt cx="1242720" cy="6094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107680" y="419580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91760" y="419580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234840" y="4195800"/>
                <a:ext cx="1189080" cy="609480"/>
                <a:chOff x="6234840" y="4195800"/>
                <a:chExt cx="1189080" cy="6094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350760" y="419580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234840" y="419580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424280" y="4195800"/>
                <a:ext cx="1558080" cy="609480"/>
                <a:chOff x="7424280" y="4195800"/>
                <a:chExt cx="1558080" cy="609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539840" y="419580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24280" y="419580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36520" y="4805280"/>
                <a:ext cx="4754880" cy="609480"/>
                <a:chOff x="236520" y="4805280"/>
                <a:chExt cx="475488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52440" y="48052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alutinis egzaminas</a:t>
                  </a:r>
                  <a:r>
                    <a:rPr b="0" lang="lt-LT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6520" y="48052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91760" y="4805280"/>
                <a:ext cx="1242720" cy="609480"/>
                <a:chOff x="4991760" y="4805280"/>
                <a:chExt cx="1242720" cy="609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107680" y="48052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91760" y="48052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234840" y="4805280"/>
                <a:ext cx="1189080" cy="609480"/>
                <a:chOff x="6234840" y="4805280"/>
                <a:chExt cx="1189080" cy="609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350760" y="48052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4840" y="48052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424280" y="4805280"/>
                <a:ext cx="1558080" cy="609480"/>
                <a:chOff x="7424280" y="4805280"/>
                <a:chExt cx="15580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539840" y="48052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424280" y="48052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36520" y="5414760"/>
                <a:ext cx="4754880" cy="625680"/>
                <a:chOff x="236520" y="5414760"/>
                <a:chExt cx="4754880" cy="6256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52440" y="5414760"/>
                  <a:ext cx="45230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6520" y="5414760"/>
                  <a:ext cx="47548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91760" y="5414760"/>
                <a:ext cx="1242720" cy="625680"/>
                <a:chOff x="4991760" y="5414760"/>
                <a:chExt cx="1242720" cy="625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07680" y="5414760"/>
                  <a:ext cx="1011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91760" y="5414760"/>
                  <a:ext cx="1242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34840" y="5414760"/>
                <a:ext cx="1189080" cy="625680"/>
                <a:chOff x="6234840" y="5414760"/>
                <a:chExt cx="1189080" cy="6256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350760" y="5414760"/>
                  <a:ext cx="9576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234840" y="5414760"/>
                  <a:ext cx="1189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7424280" y="5414760"/>
                <a:ext cx="1558080" cy="625680"/>
                <a:chOff x="7424280" y="5414760"/>
                <a:chExt cx="1558080" cy="6256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539840" y="5414760"/>
                  <a:ext cx="1326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24280" y="5414760"/>
                  <a:ext cx="1558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228600" y="2057400"/>
              <a:ext cx="8762760" cy="3987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706-6515-4CE1-BD63-C96E95922F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grindinė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es A.F. Stoner, R.Edward Freman, Daniel R. Gilbert, Jr. Vadyba. Kaunas, Poligrafija ir informatika, 1999. 660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vilas Zakarevičius, Vadyba: genezė, dabartis, tendencijos. Kaunas, Vytauto Didžiojo universiteta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. 225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raim Turban, Jack Meredith, Fundamentals of management science. Irwin, 1991. 1010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ius Neverauskas, Jonas Rastenis, Vadybos pagrindai. Kaunas, Technologija, 2001. 143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A. Wren, The Evolution of Management Thought, John Wiley &amp; Sons, Inc. 1994. 466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E4F-19B9-4EEF-8C93-048B801C8C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pildom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Ramon J. Aldag,Timothy M. Stearns, Management. Cincinati, South-Western Publishing, 1991. 800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G.A. Cole, Management: Theory and Practice. London, Letts, 1996. 462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Fabijonas Saulius Butkus. Organizacijos ir vadyba. Vilnius, Alma Litera, 1996. 158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Jonas Kvedaravičius. Graičiūno vieta ir reikšmė vadybos raidoje. Kn.: Organizacijų vadyba: sisteminiai tyrimai, Nr.8. Kaunas, VDU. 1998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Michael H. Mescon, Michale Albert, Franklin Khedouri. Management. New York, Harper and Row Publishers, 1992. 700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F52-65DF-429C-A5FF-F340859962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2111040"/>
            <a:ext cx="785160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pažindinti su vadybos moks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teikti teorines žinias apie vadybos mokslo raid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ugdyti įgūdžius, įgalinančius analizuoti vadybos mokslo raidos tendenci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BCD-DF89-41C7-85B7-29A343D97F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ažinti ir vertinti vadybos įtaką organizacijų ir pasaulio ekonomikos plėt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ritaikant vadybos mokslinės minties istorinę patirtį, formuoti vadybos mokslo principų vieningą suvokim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365-6D92-493B-BB4E-C7F6BC09CB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ištakos: ankstyvieji strateg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ų 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mokykla: F. Taylor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teorijos raida ir reikšmė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1A0-9124-445C-86B3-5D37DCA04C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os teorijos mokykla: H. Fayol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as Lietuvoje: V. Graičiūno indėlis į klasikinės organizacijos teorijos raid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. Weber idealaus biurokrat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sociopsichologinė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04E-A2F8-403C-A615-774A334733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Žmogiškųjų santykių teorija: Hawthorne eksperimenta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Bihevioristinė mokykla: veiklos ir elgsenos motyv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Lyderi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Grupių elgsen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8B6-F531-43C5-8EE8-6CB036474C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Tarpinis egzaminas (1-12 tem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,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siskaitym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3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96C-F748-4E42-B76D-8DB8012202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isuotinis dalyvavimas valdyme: partisipatyvinė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mokykla: kiekybinės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Integratyvaus valdymo mokyk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rofesionalaus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910-BA4E-4622-AADE-E200ECB031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derniosios vadyb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stem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tuatyv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trateginio valdymo teorij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E23-A857-4D83-A0C7-F4DDABF276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4:06Z</dcterms:modified>
  <cp:revision>17</cp:revision>
  <dc:subject/>
  <dc:title>Introduction to Management</dc:title>
</cp:coreProperties>
</file>