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2FE3-CE59-42FA-96EA-D8B2E6426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AE3C-2181-47DE-840A-3D31B795E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1D22-4998-4FCC-82A2-FBCA9EDDE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65A9-6FB1-426B-BDF8-9EBD5CBB1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74640-5D3D-4459-94AF-5781F0AEC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F8788-70C0-4AFD-8A6A-2471AAD4C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3458B-BDE9-43A7-BE99-5C2500695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6FD0A-3AEF-46CC-B855-4DB5BB51D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B7352-1D92-4BFA-AFA7-AB754C9A1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B3073-49A6-43F9-8507-42923935C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BA907-41C9-46B5-9E9B-4AB4329E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AB4C-951B-48BD-9B87-CAA3728CC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44105-057A-4086-B471-BD091B8A4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358BA-793C-4324-82A5-99870DBB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0C89B-FCC6-443D-87C4-04B2727C4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04714-CAD2-41C0-A3F3-184922D56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03CA9-1919-4E0C-9334-56BA85D73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6916-7CA5-4175-955B-BECBE9573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C388-79C6-4562-A288-DD0B96838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B03A-8CAA-4B6E-84CA-852492219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067E-50B3-41D7-B750-9FEE90F35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56C5-CD05-4F5E-933C-90736EDA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6A7B-23E6-4F22-B523-4832B1EE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BA62-3407-4A41-8086-2369B41D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D580F-9EBF-4F55-B800-35AE1D2DDF0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AD2EE-DF7D-4CA6-9C58-FDD105E2CE3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560" y="2349000"/>
            <a:ext cx="6409080" cy="29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Vadybos samprata ir kategorijo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6F64D-58B1-435D-BCBF-FCD9BE42BEA6}" type="slidenum">
              <a:t>1</a:t>
            </a:fld>
          </a:p>
        </p:txBody>
      </p:sp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Vadybos mokslo rezultat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100" spc="-1" strike="noStrike">
                <a:solidFill>
                  <a:srgbClr val="000000"/>
                </a:solidFill>
                <a:latin typeface="Tahoma"/>
              </a:rPr>
              <a:t>VALDYMO PRINCIPAI IR METODAI </a:t>
            </a:r>
            <a:endParaRPr b="0" lang="en-US" sz="4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700" spc="-1" strike="noStrike">
                <a:solidFill>
                  <a:srgbClr val="000000"/>
                </a:solidFill>
                <a:latin typeface="Tahoma"/>
              </a:rPr>
              <a:t>socialinėje organizacijoje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90E9-C2C3-41D7-8079-06574159B4B3}" type="slidenum">
              <a:t>10</a:t>
            </a:fld>
          </a:p>
        </p:txBody>
      </p:sp>
    </p:spTree>
  </p:cSld>
  <p:transition>
    <p:split dir="out" orient="vert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VADYBOS PRINCIP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agrindinės taisyklės, elgesio normos, teiginiai, kuriais(iomis) remiantis reiktų atlikti valdymo veiklą organizacijose (efektyviai ir efektingai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3C46-E49C-4398-B4AC-BF181BBB1046}" type="slidenum">
              <a:t>11</a:t>
            </a:fld>
          </a:p>
        </p:txBody>
      </p:sp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VADYBOS PRINCIPŲ KLASIFIKAVIM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agal formuluojamų taisyklių pobūdį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rašomieji (rekomendacinia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urodomieji (normatyvinia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agal apimamų (vadybos) sričių platumą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endriej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konkretū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5362-B19E-45A6-9FB7-24CDD228CAE8}" type="slidenum">
              <a:t>12</a:t>
            </a:fld>
          </a:p>
        </p:txBody>
      </p:sp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0" y="0"/>
          <a:ext cx="9144000" cy="617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3DEA-B1FD-4B14-922D-F056EAC5BB96}" type="slidenum">
              <a:t>13</a:t>
            </a:fld>
          </a:p>
        </p:txBody>
      </p:sp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Vadybos mokslo terminija – pagrindinės kategorijo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VALDYMA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Specifinė darbinės veiklos rūši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Procesas, apimantis konkrečias stadija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Tikslinė veikl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Veikla, pagrįsta ištekliai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Veikla, orientuota į rezultatą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Cikliška veikl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9D6D-679B-4738-B746-3C69DB3078FE}" type="slidenum">
              <a:t>14</a:t>
            </a:fld>
          </a:p>
        </p:txBody>
      </p:sp>
    </p:spTree>
  </p:cSld>
  <p:transition>
    <p:split dir="out" orient="vert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Vadybos mokslo terminija – pagrindinės kategorijo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SOCIALINĖ ORGANIZACIJ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Struktūrizuota žmonių grupė, siekianti bendrų tikslų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Valdymo prielaida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Atvira sistema: vidinė ir išorinė aplink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Susideda iš valdymo ir valdomosios posistemių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52C0-1C8D-41DA-A435-EAEF308213F5}" type="slidenum">
              <a:t>15</a:t>
            </a:fld>
          </a:p>
        </p:txBody>
      </p:sp>
    </p:spTree>
  </p:cSld>
  <p:transition>
    <p:split dir="out" orient="ver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Vadybos mokslo terminija – pagrindinės kategorijo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SOCIALINĖS ORGANIZACIJOS APLINK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000000"/>
                </a:solidFill>
                <a:latin typeface="Tahoma"/>
              </a:rPr>
              <a:t>TIESIOGINIO POVEIKIO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Vidiniai veiksniai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Išoriniai veiksniai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000000"/>
                </a:solidFill>
                <a:latin typeface="Tahoma"/>
              </a:rPr>
              <a:t>NETIESIOGINIO POVEIKIO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A9CC-F129-4181-B982-D6ECC079246F}" type="slidenum">
              <a:t>16</a:t>
            </a:fld>
          </a:p>
        </p:txBody>
      </p:sp>
    </p:spTree>
  </p:cSld>
  <p:transition>
    <p:split dir="out" orient="vert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Vadybos mokslo terminija – pagrindinės kategorijo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VALDYMO FUNKCIJO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Valdymo veiklos turiny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Darbo pasidalijimo valdyme rezultata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Savarankiškos valdymo veiklos dalys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Objektyvios, specializuotos valdymo veiklos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Valdymo veiklų atlikimas valdymo srityse sudaro valdymo veiklos turinį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C782-0AC0-436E-A091-940DDCA58E11}" type="slidenum">
              <a:t>17</a:t>
            </a:fld>
          </a:p>
        </p:txBody>
      </p:sp>
    </p:spTree>
  </p:cSld>
  <p:transition>
    <p:split dir="out" orient="vert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Vadybos mokslo terminija – pagrindinės kategorijo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000" spc="-1" strike="noStrike">
                <a:solidFill>
                  <a:srgbClr val="000000"/>
                </a:solidFill>
                <a:latin typeface="Tahoma"/>
              </a:rPr>
              <a:t>VALDYMO PERSONALA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000" spc="-1" strike="noStrike">
                <a:solidFill>
                  <a:srgbClr val="000000"/>
                </a:solidFill>
                <a:latin typeface="Tahoma"/>
              </a:rPr>
              <a:t>Valdymo veiklos subjektas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000" spc="-1" strike="noStrike">
                <a:solidFill>
                  <a:srgbClr val="000000"/>
                </a:solidFill>
                <a:latin typeface="Tahoma"/>
              </a:rPr>
              <a:t>Žmonės, atliekantys valdymo veiklą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5F0C-E78A-4B20-BC17-A8B7AE6FBDA6}" type="slidenum">
              <a:t>18</a:t>
            </a:fld>
          </a:p>
        </p:txBody>
      </p:sp>
    </p:spTree>
  </p:cSld>
  <p:transition>
    <p:split dir="out" orient="vert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Vadybos mokslo terminija – pagrindinės kategorijo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VALDYMO PERSONALA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VADOVAI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SPECIALISTAI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APTARNAUJANTIS PERSONALAS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5FCA-54D7-4092-AE73-71E14EE57103}" type="slidenum">
              <a:t>19</a:t>
            </a:fld>
          </a:p>
        </p:txBody>
      </p:sp>
    </p:spTree>
  </p:cSld>
  <p:transition>
    <p:split dir="out" orient="vert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Paskaitos tiksl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53880" y="2363400"/>
            <a:ext cx="7629480" cy="374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Išsiaiškinti vadybos sampratą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išsiaiškinti vadybos mokslo tikslus, objektą ir rezultat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apibrėžti vadybos mokslo terminij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0539-74A6-4260-8743-C1FE3F3E8FCB}" type="slidenum">
              <a:t>2</a:t>
            </a:fld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Vadybos mokslo terminija – pagrindinės kategorijo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VALDYMO METODAI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Valdymo veiklos</a:t>
            </a: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 atlikimo būdai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Konkretizuoja valdymo veiklą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Pagrįsti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55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200" spc="-1" strike="noStrike">
                <a:solidFill>
                  <a:srgbClr val="000000"/>
                </a:solidFill>
                <a:latin typeface="Tahoma"/>
              </a:rPr>
              <a:t>Valdymo funkcijo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55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200" spc="-1" strike="noStrike">
                <a:solidFill>
                  <a:srgbClr val="000000"/>
                </a:solidFill>
                <a:latin typeface="Tahoma"/>
              </a:rPr>
              <a:t>Valdymo sriti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55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200" spc="-1" strike="noStrike">
                <a:solidFill>
                  <a:srgbClr val="000000"/>
                </a:solidFill>
                <a:latin typeface="Tahoma"/>
              </a:rPr>
              <a:t>Vadovo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55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200" spc="-1" strike="noStrike">
                <a:solidFill>
                  <a:srgbClr val="000000"/>
                </a:solidFill>
                <a:latin typeface="Tahoma"/>
              </a:rPr>
              <a:t>Vadovavimo stiliau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Vadybos mokslo rezultata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0DC0-BB4E-4860-9848-2AD0389A2DC1}" type="slidenum">
              <a:t>20</a:t>
            </a:fld>
          </a:p>
        </p:txBody>
      </p:sp>
    </p:spTree>
  </p:cSld>
  <p:transition>
    <p:split dir="out" orient="vert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Vadybos mokslo terminija – pagrindinės kategorijo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200" spc="-1" strike="noStrike">
                <a:solidFill>
                  <a:srgbClr val="000000"/>
                </a:solidFill>
                <a:latin typeface="Tahoma"/>
              </a:rPr>
              <a:t>ORGANIZACINĖ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DYMO </a:t>
            </a:r>
            <a:r>
              <a:rPr b="1" lang="lt-LT" sz="2200" spc="-1" strike="noStrike">
                <a:solidFill>
                  <a:srgbClr val="000000"/>
                </a:solidFill>
                <a:latin typeface="Tahoma"/>
              </a:rPr>
              <a:t>STRUKTŪRA (OV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Valdymo veiklos</a:t>
            </a: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 atlikimo form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Konkretizuoja valdymo veiklą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Charakteristika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55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200" spc="-1" strike="noStrike">
                <a:solidFill>
                  <a:srgbClr val="000000"/>
                </a:solidFill>
                <a:latin typeface="Tahoma"/>
              </a:rPr>
              <a:t>Santykinai savarankiški elementai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55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200" spc="-1" strike="noStrike">
                <a:solidFill>
                  <a:srgbClr val="000000"/>
                </a:solidFill>
                <a:latin typeface="Tahoma"/>
              </a:rPr>
              <a:t>Valdymo funkcijų pasidalijima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55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200" spc="-1" strike="noStrike">
                <a:solidFill>
                  <a:srgbClr val="000000"/>
                </a:solidFill>
                <a:latin typeface="Tahoma"/>
              </a:rPr>
              <a:t>Formalių ryšių visuma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55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200" spc="-1" strike="noStrike">
                <a:solidFill>
                  <a:srgbClr val="000000"/>
                </a:solidFill>
                <a:latin typeface="Tahoma"/>
              </a:rPr>
              <a:t>Valdymo grandžių ir lygių visum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55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200" spc="-1" strike="noStrike">
                <a:solidFill>
                  <a:srgbClr val="000000"/>
                </a:solidFill>
                <a:latin typeface="Tahoma"/>
              </a:rPr>
              <a:t>Organizacijos veiklų koordinavima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3611-95C5-45D7-BF5C-27C8AC1B64BA}" type="slidenum">
              <a:t>21</a:t>
            </a:fld>
          </a:p>
        </p:txBody>
      </p:sp>
    </p:spTree>
  </p:cSld>
  <p:transition>
    <p:split dir="out" orient="vert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Klausimai diskusij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144760" y="2017440"/>
            <a:ext cx="3809880" cy="35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Kuo skiriasi “vadyba” nuo “valdymo”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Vadyba mokslas ar mena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BD04924_" descr=""/>
          <p:cNvPicPr/>
          <p:nvPr/>
        </p:nvPicPr>
        <p:blipFill>
          <a:blip r:embed="rId1"/>
          <a:stretch/>
        </p:blipFill>
        <p:spPr>
          <a:xfrm>
            <a:off x="1562040" y="2017800"/>
            <a:ext cx="3051360" cy="377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6FC1-4C7B-48EA-B0FD-A3E91F5A88B5}" type="slidenum">
              <a:t>22</a:t>
            </a:fld>
          </a:p>
        </p:txBody>
      </p:sp>
    </p:spTree>
  </p:cSld>
  <p:transition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VADYBA mokslas ar mena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Moksla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mokomasi iš vadovėlių, mokytojų ir aplinkos (IŠSILAVINIMA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Men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ritaikomas mokslas kintant sąlygoms (PATIRT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Mokslo ir meno vertė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žinių ir patirties sintezė įgalinanti prognozuoti ateities įvykiu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1C40-1119-497A-936F-3431F37F5D0F}" type="slidenum">
              <a:t>23</a:t>
            </a:fld>
          </a:p>
        </p:txBody>
      </p:sp>
    </p:spTree>
  </p:cSld>
  <p:transition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333399"/>
                </a:solidFill>
                <a:latin typeface="Arial"/>
              </a:rPr>
              <a:t>Kodėl studijuoti vadybą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Suprasti kaip organizacijos valdom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Pasirengti valdyti arba būti valdom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8" name="BD06663_" descr=""/>
          <p:cNvPicPr/>
          <p:nvPr/>
        </p:nvPicPr>
        <p:blipFill>
          <a:blip r:embed="rId1"/>
          <a:stretch/>
        </p:blipFill>
        <p:spPr>
          <a:xfrm>
            <a:off x="1182600" y="2422440"/>
            <a:ext cx="3810240" cy="3063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CBFF-DB0C-4046-BCE4-B1077E8000AF}" type="slidenum">
              <a:t>24</a:t>
            </a:fld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VADYBA</a:t>
            </a:r>
            <a:r>
              <a:rPr b="0" lang="lt-LT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 –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.A. Graičiūnas, 1935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m.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mokslinė vadybos ir visuminė valdymo veiklos samprat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6C31-4EAF-49FB-B374-0E8044452379}" type="slidenum">
              <a:t>3</a:t>
            </a:fld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6868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Keturios “</a:t>
            </a:r>
            <a:r>
              <a:rPr b="1" lang="lt-LT" sz="4000" spc="-1" strike="noStrike">
                <a:solidFill>
                  <a:srgbClr val="333399"/>
                </a:solidFill>
                <a:latin typeface="Tahoma"/>
              </a:rPr>
              <a:t>vadybos</a:t>
            </a:r>
            <a:r>
              <a:rPr b="0" lang="lt-LT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” </a:t>
            </a: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(management) </a:t>
            </a:r>
            <a:r>
              <a:rPr b="0" lang="lt-LT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sampratos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853452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1) 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Organizacijos nariai, kurie priima esminius sprendimus susijusius su organizacijos veikla. (Šiuo atveju priimtina tik Amerikos vadybinėje kalboj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2) 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Žinios, sukauptos mokslinių tyrimų ir praktinių stebėjimų metu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BC59-CC5D-417B-8689-A975EA23CF70}" type="slidenum">
              <a:t>4</a:t>
            </a:fld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6868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Keturios “</a:t>
            </a:r>
            <a:r>
              <a:rPr b="1" lang="lt-LT" sz="4000" spc="-1" strike="noStrike">
                <a:solidFill>
                  <a:srgbClr val="333399"/>
                </a:solidFill>
                <a:latin typeface="Tahoma"/>
              </a:rPr>
              <a:t>vadybos</a:t>
            </a:r>
            <a:r>
              <a:rPr b="0" lang="lt-LT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” </a:t>
            </a: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(management) </a:t>
            </a:r>
            <a:r>
              <a:rPr b="0" lang="lt-LT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sampratos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2209320"/>
            <a:ext cx="8686800" cy="39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3) 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Praktinis mokslinių studijų taikymas specifinių vadybinių problemų sprendimu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4) 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Organizacijos veiklų </a:t>
            </a: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planavimo, organizavimo, vadovavimo ir kontrolės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procesas sisteminiu būdu siekiant organizacijos tikslų. (</a:t>
            </a: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šaltinis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: Ramon J. Aldag, Timothy M. Stearns, Management, 1991 South Western Publishing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ai klasikinė samprata reiškianti </a:t>
            </a:r>
            <a:r>
              <a:rPr b="0" i="1" lang="lt-L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isuminę organizacijos valdymo veiklą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CB0D-ECCD-4B64-A901-CB140A8869C5}" type="slidenum">
              <a:t>5</a:t>
            </a:fld>
          </a:p>
        </p:txBody>
      </p:sp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14200"/>
            <a:ext cx="80294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vi </a:t>
            </a: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“VADYBOS”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sampratos pu</a:t>
            </a: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sė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2017800"/>
            <a:ext cx="811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apsmas vadovu priklauso nuo vadybinių žinių ir praktinių įgūdžių. …šiuo atveju galima kalbėti apie “</a:t>
            </a:r>
            <a:r>
              <a:rPr b="1" lang="lt-L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ment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” kaip apie mokslą (discipliną)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adovo veikla gali būti sistemiškai analizuojama ir klasifikuojama. …aišku, kad reikia iškirti profesinius ir mokslinius “</a:t>
            </a:r>
            <a:r>
              <a:rPr b="1" lang="lt-L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ment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” aspektu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i="1" lang="lt-L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šaltinis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Peter F. Druker An Introductory View of Management, 197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019D-700A-44BF-81CD-F21C8C3EBF6E}" type="slidenum">
              <a:t>6</a:t>
            </a:fld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Vadyb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Tahoma"/>
              </a:rPr>
              <a:t>Mokslas apie socialinių organizacijų, sistemų valdymą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Tahoma"/>
              </a:rPr>
              <a:t>Praktinių valdymo metodų ir tradicijų, būdingų kokiam nors istoriniam laikotarpiui ar šaliai, visuma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0EDA-3E63-405B-A1C8-772F4C60513D}" type="slidenum">
              <a:t>7</a:t>
            </a:fld>
          </a:p>
        </p:txBody>
      </p:sp>
    </p:spTree>
  </p:cSld>
  <p:transition>
    <p:split dir="out" orient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Vadybos mokslo tiksl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Tahoma"/>
              </a:rPr>
              <a:t>Suformuoti efektyvius valdymo metodu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Tahoma"/>
              </a:rPr>
              <a:t>Nurodyti efektingas organizacijos plėtros kryptis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Tahoma"/>
              </a:rPr>
              <a:t>Padėti organizacijoms prisitaikyti prie dinamiškai kintančios aplinkos 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A0E9-F40D-4EB8-8B83-0BD322A84E48}" type="slidenum">
              <a:t>8</a:t>
            </a:fld>
          </a:p>
        </p:txBody>
      </p:sp>
    </p:spTree>
  </p:cSld>
  <p:transition>
    <p:split dir="out" orient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Vadybos mokslo objekt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100" spc="-1" strike="noStrike">
                <a:solidFill>
                  <a:srgbClr val="000000"/>
                </a:solidFill>
                <a:latin typeface="Tahoma"/>
              </a:rPr>
              <a:t>VALDYMO VEIKLA </a:t>
            </a:r>
            <a:endParaRPr b="0" lang="en-US" sz="4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700" spc="-1" strike="noStrike">
                <a:solidFill>
                  <a:srgbClr val="000000"/>
                </a:solidFill>
                <a:latin typeface="Tahoma"/>
              </a:rPr>
              <a:t>socialinėje organizacijoje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B673-7EF5-4D70-AE3E-7B867B3B242A}" type="slidenum">
              <a:t>9</a:t>
            </a:fld>
          </a:p>
        </p:txBody>
      </p:sp>
    </p:spTree>
  </p:cSld>
  <p:transition>
    <p:split dir="out" orient="ver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2-02T06:23:40Z</dcterms:modified>
  <cp:revision>22</cp:revision>
  <dc:subject/>
  <dc:title>Introduction to Management</dc:title>
</cp:coreProperties>
</file>