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4DA-4DE5-4F9B-AB1C-2F922346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336-24D6-4126-9888-F49A19B5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17C9-D98C-41AB-8816-B50785C1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D6D-3CBE-41AB-B253-94111DC5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2F3E-8112-4314-8D9E-9455D81A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377C-48F1-47D5-B02D-2AA333E9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21C2-572A-493A-9904-56630F91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0FEF-4F50-4E64-A13F-D03ABA2F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F6FF-4402-488D-BD68-D88E136C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34DC-C70E-4CDE-BDDA-5C377B94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1D25-5D22-495D-AFDD-0DF4035D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2AB7-8BE1-460F-9AC1-CC98AA1E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A6A5-4E4B-423C-9243-75A993DD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DAC2-625B-4C89-9B13-5CEF3417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5CA6-2E7C-4345-8CB1-5CE596FA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7884-6506-44BF-9552-DA72FCA4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FA6A-D14C-4F17-A260-011941BD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A758-F241-43C6-8858-C9B9B7FF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35F-7A2B-47C1-B185-6BEC9DBF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360-6CA7-4996-A105-B661CC16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CD9-C5BB-4F0C-BE78-953187A7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384-AF6E-4B9B-807C-2025C50C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6F21-90B1-4E63-9341-220C9AA8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D05-0BD5-48D9-9091-DA69CE2F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BD5C-BC34-46EA-9B66-23F6C685C6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9A82-D397-4165-BC88-0AD95EFEC8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CA2D-BBFB-48E3-843B-FB5825AEF08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nės valdymo struktūros svarba (T. Burns, G. Stalk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36460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irmą kartą vadyboje panaudoti terminai: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mechanistin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ir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organin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valdymo struktūr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Mechanistinė valdymo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yra labiau biurokratizuota, aiškiai nustatytos padalinių funkcijų ribos, reglamentuota veikla taisyklėmis. Tokia struktūra yra “kieta” ir nelankst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Organinė valdymo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labiau grįsta žmogiškaisiais santykiais, funkcijas derinant prie kompetencijų, lanksčiai reaguojant į aplinkos pokyčius ir organizacijos poreikiu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15D-7C6B-45EE-93DA-BF839322035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kirtingi požiūriai į organizacijos  struktūr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057400"/>
            <a:ext cx="20574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819520"/>
            <a:ext cx="0" cy="3733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32767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2819520"/>
            <a:ext cx="228600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Aiš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hierarch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4038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3733920"/>
            <a:ext cx="22860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Nustaty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are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4876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572000"/>
            <a:ext cx="228600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i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5638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410080"/>
            <a:ext cx="2286000" cy="6858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komun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6553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6324480"/>
            <a:ext cx="228600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1981080"/>
            <a:ext cx="2057400" cy="60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2514600"/>
            <a:ext cx="0" cy="4114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2819520"/>
            <a:ext cx="259056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Bendradarbi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4038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3733920"/>
            <a:ext cx="259056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taik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b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im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4572000"/>
            <a:ext cx="259056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M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5410080"/>
            <a:ext cx="2514600" cy="6858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Nefor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komun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6400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6248520"/>
            <a:ext cx="25905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e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60C3-A295-481C-8A3A-CD22EC3D475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id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812960" y="167652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1600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1981080"/>
            <a:ext cx="5267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rbuotojų charakteristik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243828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šsilav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2895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276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dovavimo stil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36576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oritar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657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-autoritar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4191120"/>
            <a:ext cx="35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arjeros lūkesč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41148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4495680"/>
            <a:ext cx="16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44956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49528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5029200"/>
            <a:ext cx="22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gūdž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5334120"/>
            <a:ext cx="14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525780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575640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tir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606096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a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601992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l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8EDD-484C-49D2-B424-D82A5541D3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id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270160" y="18702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09000" y="1870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65040" y="27082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Y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75800" y="3165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19200" y="3165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388620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4308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MPLEKS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520" y="49942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917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579132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C1A-85AA-44FF-8857-2CB8D557BBB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Išor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889280" y="2174760"/>
            <a:ext cx="19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32680" y="21747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293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KLAUSOM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70520" y="33940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90600" y="3470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40384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ECHNOLOG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4572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utinin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4572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sikeičianč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5334120"/>
            <a:ext cx="46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INKOS DINAM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9680" y="5832360"/>
            <a:ext cx="10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92400" y="5756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B55E-4435-442B-9D0D-33CE4E1383F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 aplinkos įtaka organizacijos valdymui bei vadybos metodų būtinybė prisitaikant prie besikeičiančios aplinko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tskleista struktūros įtaka ir galimybės organizacijai prisitaikant prie aplinkos pokyčių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os mechanistinės ir organinės organizacijos koncepcijos bei jų įtaka organizacijos gebėjimams reaguoti į aplinkos pokyči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058-79BF-4FA3-A848-6343709B0F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ųjų vadybos teorijų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4D7-03DA-4FEE-B74F-1187751CD7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os metodų nelankstumas bei taikymo ribotumai skatino ieškoti naujų vadybos princip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olatinė situacijų kaita sąlygojo poreikį ieškoti metodų, leidžiančių valdyti organizacijos tokių pokyčių konteks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4A8-D2BC-45FD-96B2-795F6D65E3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e dažnai pasitaiko analogiškos situacijos, kurių sprendimui gali būti naudojami tipiniai sprendimų metodai. Todėl svarbu aprašyti tuos metodus, sisteminti ir skleisti, padedant efektyviai valdyti organiza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68CE-E490-4F93-8958-BC80B4D8FE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P. Lawr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J. Lorsc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R Mockl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T. Bur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G. Stalker ir kit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09C-9CB4-418D-AB95-DAFD18B00C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Situacijų analizės principai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idinės aplinkos analizė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os diferenciacijos (atskirų organizacijos struktūrinių padalinių įtakos situacijai) ir integracijos (organizacijos kaip visumos galimybės įtakoti situaciją) lygio nustaty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Išorinės aplinkos analizė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os išorės veiksnių įtakos nustatymas bei iš jos kylančių galimybių ir grėsmių įvertini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B35-59A6-4FD9-9C86-7BC7D34CA1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Diferenciacija / integracija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Diferencia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sąlygota skirtingų padalinių specializacijos, požiūrių, tikslų, struktūrų  skirtingumų. Tai veiklos skirtingumų sąlygoti veiksni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Integra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padalinių bendradarbiavimo kokybės laipsn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o diferenciacijos ir integracijos laipsnio priklauso organizacijos galimybės reaguoti į aplinkos pokyčius ir valdyti situacij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840-F680-4EDB-BFAE-3C51E70C7F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Tyrimų išvados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uo dinamiškesnė aplinka tuo didesnio diferenciacijos ir integracijos laipsnio reikia sėkmei pasiek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tabilesnė aplinka reikalauja mažesnio diferenciacijos bet vis dar aukšto integracijos laipsn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uo didesnis diferenciacijos laipsnis, tuo didesnė vidinių konfliktų grėsmė ir mažesnė jų sprendimo galimybė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Esant dideliam netikrumo laipsniui, integracija užtikrinama vidurinės grandies vadovų; esant stabiliai aplinkai, integracija užtikrinama aukščiausio lygio vadov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458-08AB-4FA0-AFA3-A0E2D6D2E0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Situatyvinio nagrinėjimo žingsniai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R. Mockl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ituacijos diagno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priežasčių nustatymas ir tikslų formulav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Priežasčių anali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įtakojančių veiksnių diferencijavimas ir įvertin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Veiksmų alternatyvų numa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galimų veiksmų būdų nustaty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Alternatyvų įvertinimas ir pasirinki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tinkamo sprendimo surad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prendimo realizavimo plano sudary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630-7040-4863-9DB5-DDDD01787C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0:19Z</dcterms:modified>
  <cp:revision>47</cp:revision>
  <dc:subject/>
  <dc:title>Introduction to Management</dc:title>
</cp:coreProperties>
</file>