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29F-8593-46DF-ACD7-7CEA56A9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CCA-B9E1-4B74-89F3-1F53AF3E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243-B90C-4773-AC84-ECB3C360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42B-3BBC-4517-9FA5-9C7DB91E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CFBC-0B6F-4BF7-95FC-79DF06F6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2D41-F8E3-4F52-B0F7-7C87F6D5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8223-039B-4B90-A50B-813628D1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8399-6987-48BD-B85B-92D318AD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49EE-CFC3-46DF-9821-CCE3AD4F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F0D1-809B-4A24-9103-76B177DC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4ABF-8C03-41E8-A193-55D499CA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314-94C9-4507-A602-29819517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0145-C55A-490E-BD16-1478A2BC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00B9-DF2D-4CDF-81BF-235D7306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8B24-8F27-4077-9662-57B414BA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CBFC-32A1-4C41-AA9E-A6E48A08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62E6-C0DF-4115-819D-1CBFCDB6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227-471E-4B2C-A533-EA3E5DE4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C698-0717-4CF2-B952-8E624DBE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D873-EDC8-42D4-8D58-55A21DC2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B12-7373-4389-8926-3E13490A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3C2-87FD-44D5-BAFC-88E469C5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C66-2AF6-4F85-9A57-9B405E48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17B-24D1-4BB5-9126-5AC070DE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8A9D-08DA-46A0-A9C0-8594FD90CF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3B77-8A9F-43A8-8800-405F01F7BE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Moderniosios vadybos teorij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620B-8039-4B85-8DC4-FF536659278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ėkmingų organizacijų teorijo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 valdymas kompleksinis, integruotas daugybės vadybos sudėtinių elementų realizavimas, siekiant organizacijos tikslų ir sėkmingos veikl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8DA-83DE-410F-86B5-1483B1ACCF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ntegruotos klasikinės vadybos teorijos ir požiūriai bei pritaikyti šiuolaikinėms organizacijų veiklos sąlygo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s kompleksinio valdymo metodų taikymas, taigi ir vadybos teorijų studijavimo, poreiki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os mokslas tapo svarbia, būtina, objektyviai neišvengiama socialinių mokslų visumos dalim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152-3F62-4151-BBBA-789A89A2286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ųjų vadybos teorijų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6820-7828-40A0-B521-873CE25419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augo organizacijų įvairovė, o tuo pačiu daugėjo ir valdymo problem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parčiai keičiasi žmonių poreikiai, taigi ir motyvavimo veiksniai, kas reikalauja naujų motyvavimo metod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ų veikla tampa ypač priklausoma nuo žinių ir informaci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08B-DE7A-4619-9FA4-5519A5273B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Teorijo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239920"/>
            <a:ext cx="7491240" cy="385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ituatyvinė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Tikslinio valdymo teorija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isteminė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Organizacinio vystymo ir strateginio valdymo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ėkmingų organizacijų teorijo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835-15FC-46BF-BAC5-318F233C94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e dažnai pasitaiko analogiškos situacijos, kurių sprendimui gali būti naudojami tipiniai sprendimų metodai. Todėl svarbu aprašyti tuos metodus, sisteminti ir skleisti, padedant efektyviai valdyti organiza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C11-4811-4383-8D60-7122087861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br>
              <a:rPr sz="3600"/>
            </a:b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(Management by Objectives MB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Sudaryti tikslų medį kiekvienam valdymo lygiui, kuriame aiškiai atsispindėtų kiekvieno padalinio ir darbuotojo tikslai, kurių įgyvendinimas leis pasiekti organizacijos tikslų. Tik tuomet organizacija veiks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553-90B2-4400-812E-DD51A13166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yra atvira socialinė sistema sudaryta iš posistemių, kurių veikla tarpusavyje susijusi. Tik kiekvienai iš posistemių veikiant nepriekaištingai ir suderintai su kitomis posistemėmis organizacija, kaip sistema gali veikti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4D5-E57A-4484-95FB-441FCFA678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Organizacinio vystymo ir strateginio valdymo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veikia nuolat besikeičiančioje aplinkoje. Tokios sąlygos verčia keisti požiūrį į valdymą, kad tai nėra periodinių ar vienkartinių veiksmų seka, tačiau nuolatinis, tęstinis procesas, orientuotas į ilgalaikę perspektyv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8B2-A309-4262-A997-C13F413689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Strategij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8560" y="2060640"/>
            <a:ext cx="6553080" cy="29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Organizacijos veiklos ir gyvavimo tolimesnėje ateityje perspektyvinis mode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662-6F53-4F41-B70C-4FE9F70A38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1:21Z</dcterms:modified>
  <cp:revision>47</cp:revision>
  <dc:subject/>
  <dc:title>Introduction to Management</dc:title>
</cp:coreProperties>
</file>