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109-8B3B-4BF5-88D5-5E2A8FFB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087-4764-40C5-9E0C-1C65877E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636-BABC-441C-A258-F9825F4C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3A9-6CDE-44A9-972F-41C0F0CF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2F3A-A913-47A6-B3DD-0180424F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B7E4-125E-4E85-9AD6-CB978DED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E9BE-05CD-49DF-8520-8CBE03D9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0827-042D-4D7B-A5A6-07E47B72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FE7B-D587-4DBE-94F0-964EA6C5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496D-7118-409D-AF7F-C40220E7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6F9C-A753-403D-8BDD-8AD4AE3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2A3-A625-42C2-A690-772F5B3F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91B4-E918-4C66-AC82-94738EE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ECCD-4FD4-4136-913B-FE2D31A1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A43D-BE67-4559-865F-A712CDDB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E212-D941-4660-B545-2E6BDCA9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22CD-1A6B-44F1-84B7-7E06251B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982-2A15-400F-827F-904DA83F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729-03DB-4CA9-8DCA-88D35445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334-3C18-4A77-9800-596CE0E2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E1E-0649-49FF-A2C5-867686D3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2DE-1C80-475E-984F-82DC8231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5BA-69EA-43E9-8387-4EA3265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215-5230-42B5-AE40-663454B7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C2BF-D291-44AD-AD5A-8E18D61E39C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3FAB-62C9-4AD7-B16C-176FF3FB37B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700" spc="-1" strike="noStrike">
                <a:solidFill>
                  <a:srgbClr val="ffffcc"/>
                </a:solidFill>
                <a:latin typeface="Arial"/>
              </a:rPr>
              <a:t>Visuotinio dalyvavimo valdyme (partisipatyvinė) teorij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718A-4A6F-4A75-BC61-54B375A0DA3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Nuopelnai vadybos mokslu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organizacijos žmonės, dalyvaudami valdymo procese labiau motyvuojami geriau atlikti savo funkcija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šryškinta, kad kiekvienas žmogus kupinas kūrybingų minčių, taigi yra neišsenkantis naujų idėjų šaltin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derinant organizacijos narių ir organizacijos interesus, derinami ir visuomeniniai interesai, kas leidžia organizacijai įsitvirtint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C4B-A86F-4585-BEA6-D73C1ECB1D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ibūdinti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suotinio dalyvavimo valdyme teorij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s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 susiformavimo prielaid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statyti pagrindinius autori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žvelgti jų nuopelnus vadybos mokslu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0FD-FE5A-42AB-9426-E1B139B322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aldymo ir 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ndim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ų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ri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ė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mo centralizacija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augant organizacijoms darėsi vis sudėtingesnė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Augo darbuotojų nepasitenkinimas motyvacine sistema ir valdymo neefektyvumu organizacijo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Naujų idėjų trūkumas skatino įtraukti vis daugiau žmonių į valdymo proces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D79-7748-4EB6-A88D-32AA4E0487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C. Ker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W. Gellerm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. Perr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T. Pars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R. Like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bjektas – 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organizacijos darbuotojų dalyvavimas užduočių formavime ir sprendimų priėmim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A86-DFA4-4295-A9CD-E0BF666E87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Dalyvavimo valdyme galimybė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C. Kerr,  W. Gellerman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organizacijos lygmenyje, į jų rengimo ir priėmimo grupes įtraukiami organizacijos padalinių (grupių) atstovai, turintys atstovavimo teisę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padalinio lygmenyje, į jų rengimo ir priėmimo procesą vadovas įtraukia padalinio darbuotojus, su kuriais konsultuojamas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2DE-781B-400C-8D35-CF7EAEA2A7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Institucionalizm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 veikia visuomeninėje aplinkoje, taigi yra visuomenės dalis arba visuomenės institucija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i svarbu įsitvirtinti visuomenėje ir būti pripažintai, kaip reikalingai institucija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Visuotinis dalyvavimas padeda geriau įsitvirtinti visuomenėje, nes atspindi platesnius žmonių ir grupių, t.y. visuomenės interesus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os ir visuomenės interesai turi būti suderint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DC2-112D-4AAB-A95A-533123B1AD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nstitucinis valdyma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K. Perrow, T. Parsons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Gamyb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gamybinio – techninio objekto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Social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socialinio objekto (žmonių)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Institucini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institucinio objekto santykyje su kitais, visuomenėje funkcionuojančiais objektais,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807-A968-47EA-B84A-C0B24E8F7E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os tikslai nustatomi grupinių svarstymų būdu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a yra atviras objektas, palaikantis ryšius su kitomis organizacijom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Sprendimai visuose organizacijos lygiuose priimami, įtraukiant jos narius. Informacijos srautai organizacijoje turi būti subalansuoti – pasiekti organizacijos narius ir išorės institucijas laiku ir tiksliai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947-29C7-4748-BA51-B359D99EC1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, tęsiny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Darbuotojai motyvuojami įvairiais būdais, ypač naudojant grupinio skatinimo metodus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isų lygių vadovai pasitiki organizacijos nariais, svarsto ir panaudoja jų teikiamus pasiūlymus ir idėj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ontrolės funkcijos organizacijoje decentralizuotos, ji vykdoma keliais lygiai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674-45D9-41D3-9D49-8944974963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52Z</dcterms:modified>
  <cp:revision>41</cp:revision>
  <dc:subject/>
  <dc:title>Introduction to Management</dc:title>
</cp:coreProperties>
</file>