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3E94-E684-4335-ADFA-8068E1C9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5DDE-1861-4580-B5FB-4F74A549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D3F7-04FE-4C7D-9D6A-31AB3DD8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990B-093A-40C1-841D-E494FA35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B9B8-307B-401E-8684-EAE4B989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88E3-ADB2-4956-9A94-ADCC5A79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7A43-93C5-466D-8BD3-B7E86350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DCA1-5366-4338-A60C-B4C78CBB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1D46-769A-4973-B2EB-CE22F113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3CD0-E9FC-4703-A7BE-C51C78AE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9319-9EB4-4483-8EA6-9D0F748A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18D5-DD5B-4E0C-BDE0-200FAA01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4DBD-23E2-4CB8-A912-7F5CE24B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BF95-C536-4593-A2C9-463FE174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D6C9-1165-4968-8C64-E77493A0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ACDE-9DE0-40A9-ACAC-CF796CF9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601A-7133-467A-8B28-1EFE81DE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05AA-DC47-4ECA-BA58-E44855F9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E0DA-E478-4269-A60F-CDB54206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123D-F589-4775-AFD1-67361EE7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435D-9077-43B7-8AD0-82086FC0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0492-2BF1-4AB2-A8C4-FE1C9A0A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4716-14AE-4D0E-A554-270B0A24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C33C-92A9-473A-8272-AD9E917A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7D60-64A6-485D-94C5-7567CE666F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879D-53DB-40C8-8A94-861E76B858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fdef6"/>
                </a:solidFill>
                <a:latin typeface="Arial"/>
              </a:rPr>
              <a:t>Grupių elgsenos teorij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6F78-4169-4C8B-B93C-9B0DEBE0D2F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ės elgsena ir vaidmu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up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ė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elgsenos 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kategorijos (Rackham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Morgan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977)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mai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(koncepcija, veik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ystymas (kitų pasiūlymų teikim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Rėmimas (narių ir jų idėj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sutik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ynyba / puol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EA2D-AF0C-489D-9E56-C4A4CEAA6A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up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ė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 elgsenos 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ategorijos (Rackham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&amp;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 Morgan,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77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Užblok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tviras elge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uvokimo tikr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ibendr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nformacijos siek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nformacijos teik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Elgesio perėm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Elgesio parėmimas (nario įtraukim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C749-2F11-4505-909E-0331D34C89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nkurencija tarp grupių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os grupėje priežast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ilpni ryšiai tarp nari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arbo klimato pokyči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utokratinis vadovavimo stil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iežtas grupės struktūr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idelis akcentas lojalum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7131-D4C6-4654-B516-EEC32A587F1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onkurencija tarp grupių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os tarp grupių priežast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itos grupės traktavimas kaip priešinin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ilpna komunikacija, pasitikėjimo sto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igiami stereotip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zoliuotas požiū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A23E-97A9-40FB-970F-AD20F2D298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nfliktų tarp grupių sprendim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katinti grupes už jų indėlį į visos organizacijos veiklą, o ne vien už individualius grupės rezultat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katinti tarpgrupinę komunikaciją ir bendradarbiavi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Įgalinti grupės narius pažinti problemas už grupės ribų ir skatinti organizacijos visumos suvoki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iekti išvengti konkurencinių tarpgrupinių situacijų (laimi-pralaimi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skatinti 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ituacijas (laimi – laim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2896-A3B3-40D4-99E0-EBF3660439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omandos ir jų formavim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lt-LT" sz="3500" spc="-1" strike="noStrike">
                <a:solidFill>
                  <a:srgbClr val="ffffff"/>
                </a:solidFill>
                <a:latin typeface="Arial"/>
              </a:rPr>
              <a:t>Gera (efektyvi) komanda – kada jos nariai gali dirbti kaip komanda, veikdami atskirai ir orientuodamiesi į veiklų papildomumą ir nuoseklumą nei į bendrą užduotį, reikalaujančią tikslumo vietos ir laiko prasme</a:t>
            </a:r>
            <a:r>
              <a:rPr b="0" lang="lt-LT" sz="3500" spc="-1" strike="noStrike">
                <a:solidFill>
                  <a:srgbClr val="ffffff"/>
                </a:solidFill>
                <a:latin typeface="Arial"/>
              </a:rPr>
              <a:t>... (Adair,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1986m.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5DD3-6364-45D8-82B7-19320E8868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mandos lyderio vaidmuo formuojant ir valdant komand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Pirminink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ontroliuojantis ir koordinuojantis, tačiau nekurian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Architekt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sprendimų ir situacijos modeliav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Inovatoriu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ūrybiškas mąstymas ir pozityvus požiūris į kitų idė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Vertin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analizuoja ir objektyviai vertina siūlymus ir idė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7A77-2531-45FD-A484-889C365B0EE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mandos lyderio vaidmuo formuojant ir valdant komand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Kompanijos darbinink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idėjų ir kompanijos bendrų planų įgyvendin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Komandos nary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omandos poreikių identifikavimas ir tenk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Išteklių ieško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išteklių ir idėjų paieška komandos išorėje siekiant komandos tiksl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Įgyvendin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orientuojasi į sėkmingą užduoties įgyvendinimą laiku ir kokybišk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EA64-FED6-4D3F-9891-2574295707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0280" y="1980720"/>
            <a:ext cx="8083440" cy="41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ibūdinti grupių elgsenos teorijų susiformavimo priela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ristatyti pagrindines grupių elgsenos formavimo ir valdymo kryptis ir pžiūr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3C53-1579-4928-8FC0-3178CA23B5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gaus poreikio priklausyti grupei išryšk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įtakos individo elgesiui svarbos suvok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veiklos svarbos organizacijos veiklai išryšk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formavimosi ir elgsenos priežasčių paieška ir principų nust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E949-8181-431C-BB89-E00E9E40DA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elgsenos teorijo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78960" y="1908000"/>
            <a:ext cx="7931160" cy="422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nių grupių formavimas ir elgsenos motyvavim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form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efektyv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apribojim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elgsena ir vaidm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a tarp grupi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mandos ir jų form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8F11-C051-425D-A688-72B78225A1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elgsenos veiksniai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yderi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yd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arn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rių motyv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nor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ividualūs vaidmen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lin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Užduoties prigim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9B22-6368-4CD8-96FA-57B33AA988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formavimas (B. Tuckman, 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1965)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3116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Formav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forming), užduoties, taisyklių, išteklių, struktūros nustaty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Konflikt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storming), emocionalus pasipriešinimas grupės taisyklė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Normalizav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norming), konfliktų sureguliavimas ir naujų taisyklų nustaty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Veikla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performing), užduočių atlikimas, sprendimų įgyvendin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Užbaig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adjourning), grupės iširimas, atlikus užduot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72EA-2062-476D-BC2A-B15583F92E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ės darnumo veiksni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panaš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izinis artimumas darbo viet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Užduoties struktū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yd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šorės pavoj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lygio perspekty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avimo stil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anašūs socialiniai faktori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ABC6-72CB-4795-9770-43CA4445F8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Grupių efektyvumo veiksni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eformali, laisva aplin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lačios diskusijos aktyviai dalyvauj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rupės užduoties suvokimas ir įsipareigoj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ariai klauso vienas k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onfliktai sprendžiami konstruktyv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prendimai priimami kolegial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dėjos reiškiamos laisvai ir atvir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Lyderiavimas paskirst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rupė analizuoja savo pažangą ir elges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6FA3-B69F-453A-98F4-29061E6190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ių apriboji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74872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Grupės dydi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mažos grupės darnesnės, užtikrina dalyvavimą, didelės grupės užtikrina didesnę talentų diversifikacij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Užduoties prigimti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techninės užduotys reikalauja homogeniškų, specifinių grupių, problemų sprendimas, kūrybiškumas reikalauja įvairialypės grupės sudė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Narystė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grupės daugialypiškumas, talentų įvairovė užtikrina grupės efektyvu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Aplinkos veiksniai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darbo aplinka, fizinis artumas ir kiti artimos aplinkos veiksniai, sąlygoja grupės efektyvu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DF48-BB35-4772-84C5-2F66BA510F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8:18Z</dcterms:modified>
  <cp:revision>45</cp:revision>
  <dc:subject/>
  <dc:title>Introduction to Management</dc:title>
</cp:coreProperties>
</file>