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103-D012-4D5A-8C70-EDE1E664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F01-082D-4F05-AC79-B0BECEFB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9E9-2A9E-4CCC-ACDB-1CE52708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E50-3D23-45D6-B5BB-37AEC4FE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E8C0-4AB5-42CA-9507-7A21E2F3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5562-C9D9-44E1-8D5B-675F112C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F54B-AFF9-42DF-B369-B9029CEB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CC86-2F9F-4498-9FF6-A17DCBAF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E1CF-0F77-4925-911C-3D54BDB7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A5E5-3CE6-4E41-AF54-A9400C1F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C52C-AEDA-4A53-A1A7-8ADE02D3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A1F-C0BE-42E4-A83E-E260C77F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D9D5-DF4F-4AB9-A442-7F3B8CA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897C-1169-41B0-BBD3-5C6BFEB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D608-F0EA-46C8-9252-9585D667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D7EC-86D6-415C-ACED-34CC7C79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6CDC-EE28-4EF6-B907-94D11D0D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C21-7C4E-459C-97C1-CC684732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EED-B170-4090-914E-B76B01C5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874-A230-40CF-AB9B-9C79425F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F91-2F17-4579-9138-2B8F45F8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17C-F6D7-4143-97D1-0B4E30E8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AA7-0D3C-4BE0-A283-FF8E1D8D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DF1-B829-46B2-B6C3-35EB2AF0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D9AB-5F43-4CEE-80D4-9A2013CCA1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59C6-F386-404D-A2F9-69803812F4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Žmogiškųjų santykių teorija: Howthorne eksperimenta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8B9D-9E35-4258-BBAB-44C37B6CC8A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: išvados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1392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Individas negali būti aktyvinamas izoliuotai- bet tik kaip grupės nar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oreikis priklausyti grupei ir būti svarbiam joje yra netgi svarbesnis nei atlygis už darbą bei fizinės darbo sąlyg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Neformalios grupės turi didžiulę įtaką darbuotojo elgesiui darbo viet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Meistrai ir vadovai turi kreipti dėmesį į socialinius poreikius ir siekti juos pakreipti formalios organizacijos labu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FE0-1DE5-4CAD-A39B-E3E930B4B1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ayo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ŽMOGUS – socialinis gyvūnas tiek darbe tiek gyvenime, todėl individo priklausomybė grupei yra ypatingai svarbi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2C2-4DD9-48B1-9E69-4A81C87316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ary Parker Foll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68-193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yrimų objektas – žmonių santykiai ir organizacinė struktūr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Valdymas – menas kurti daiktus per kitus žmo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016-1AE3-4C7D-BE43-33D7F564AD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Tyrimų objekt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aldžios ir autoriteto sąvokų analizė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Valdžia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 – objektyvi valdymo sudėtinė dal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utoritet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įgyjamas teisingai naudojantis valdž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o atsakomybės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“už ką atsakau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Grupinė 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atsakomybė už darbų derinimą su kitais, tuo pačiu atsakant už grupės darbo rezultat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CD8-F4C4-4B10-B0AA-5FAACD6F5B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Vidiniai konfliktai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onfliktų sprendimo tipa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Domin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viena pusė sugeba įveikti kit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Kompromis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daro nuolaidas ir susita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Integr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ieško konflikto priežasčių ir būdų joms pašalint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iš konfliktų priežasčių – vadovavimo būd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Grubus komandavimo būdas iššaukia psichologinį pasipriešinim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22A-821F-4D65-B15A-2161DEA55D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Organizacijos reikšmė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rupės svarba – sujungiant asmeninius gabumus į kažką didesnio (sinergij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linkos veiksnių įtaka organizacijai: politika, ekonomika, biologija ir t.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ldymo objektas ne tik organizacija bet ir organizacijos aplin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elio šiuolaikinių vadybos teorijų ir požiūrių pagrin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6A4-DE05-4D0F-9D29-A4B609BD7F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. P. Follet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Darbininkai, apgalvodami, kaip vykdyti sprendimus, dalyvauja valdyme – sprendimų realizavime. Todėl svarbu juo įtraukti ir į sprendimo priėmimo proces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3FB-D236-49B8-8FBF-6290E35E31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Žmogiškųjų santykių teorij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771200"/>
            <a:ext cx="7929360" cy="42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socialinių veiksnių įtaka darbuotojų elgsenai ir darbo našumui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neformalių santykių organizacijoje svarb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žmogaus priklausomybės grupei svarba – grupių valdy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Motyvavimo aktyviai veiklai veiksnių analizė – motyvavi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vadovų asmeninė įtaka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su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ais ir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tarp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ų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1A6-684F-4B51-B6A8-22DB152F0E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77840"/>
            <a:ext cx="808344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žmogiškųjų santykių teorijos susiformavimo prielaid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B7D-16FC-4BFF-91D5-813BA9362F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proble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C50-5C00-4CA6-A370-41C3D7EB34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Elton May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8960" y="1904760"/>
            <a:ext cx="793116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880 – 1949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arvard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dybos mokyklos p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ichologijos profesoriu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Žymiausiais žmogiškųjų santykių problemų tyrinėtojas XX amžiuj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927 – 1932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karų elektrotechniko kompanijos Howthorne gamykloje Čikago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tlik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tyrimus, tapusius vadybos mokslo klasik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Objektas – žmonių socialiniai santykiai darb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57E-87D2-4AD7-90ED-7CD303E0A5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3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Pirm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4 – 192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apšvietimo darbo vietoje įtaka darbo našum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vi darbuotojų grupės atskirtos viena nuo kitos ir nuo kitų gamyklos darbuotoj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– kontrolinė grupė – turėjo pakankamų, pastovų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ita- -eksperimentinė grupė – kintamą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biejų grupių darbo našumas padidėjo, net ir stipriai sumažinus apšvietimą eksperimentinei grupe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AC8-715B-4759-96DF-D7677E701F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ntroji stadij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1927 – 1929)</a:t>
            </a: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 – Rėlių surinkimo bandymų kambar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Objektas – fizinių darbo sąlygų įtakos darbo našumui tyr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Šešios darbininkės atskirtos nuo kitų darbuotoj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Buvo atliekama fizinių darbo sąlygų kaita: įvestos poilsio pertraukėlės ir keičiama jų trukmė, pietų pertraukos laikas ir trukmės keičiami ir p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Darbo našumas auga, nepaisant darbo sąlygos gerėjo ar blogė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Išvada – Howthorne efektas – darbininkės reagavo ne tiek į pokyčius, kiek į joms rodomą dėmesį – objektas peraugo į požiūrių ir vertybių tyrim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61A-F31F-44AD-898F-BB29CB115E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Treči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8 – 1930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uotojų požiūrių į darbo sąlygas, jų priežiūrą ir jų darbą tyrim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pklaust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000 darbuotoj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asėkoje - pagerintos darbo sąlygos, patobulinti darbo priežiūros metoda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apo aišku, kad darbuotojų santykiai bei vadovų santykis su darbuotojai yra labai svarbus veiksnys, formuojant darbuotojų požiūr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508-060F-42CD-B50F-E54174B95F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Ketvirt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32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elektros instaliacijos 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gamybos priežiūros kambar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ininkų darbo našumo tyrimas įprastomis sąlygomis, tačiau izoliuotai nuo kit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vyrų buvo perkelti dirbti į atskirą patalp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o sąlygos buvo daugiau mažiau tos pač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yrimas truko šešis mėnes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uotojai gana greitai nustatė savo bendravimo taisykles, požiūrius bei suformavo neformalią grupę, kuri siekė apsisaugoti nuo išorinės įtakos, tuo pačiu kontroliuodama vidaus tvark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7E2-54CB-4AFC-9C60-22D89BAD0C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ffffff"/>
                </a:solidFill>
                <a:latin typeface="Garamond"/>
              </a:rPr>
              <a:t>Baigiamoji stadija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(1936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im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zultat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yrimas ir i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dos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profesinio orientavimo porei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nalizuotas darbininko – meistro, ir darbininko – vadovo santy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meistro vaidmuo, analizuojant darbininkų darbo problemas ir ieškant būdų jas sprę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079-299F-41F3-8A10-5FB2693E13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29Z</dcterms:modified>
  <cp:revision>44</cp:revision>
  <dc:subject/>
  <dc:title>Introduction to Management</dc:title>
</cp:coreProperties>
</file>