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427-B430-4961-A9C3-4A0F3B10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4E6D-8832-4D40-9667-2DF73901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10C3-FF32-41C2-BDD2-3DC91137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4E0-7F44-4AE6-94B3-2E444EB7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1C4A-3836-4416-AAB1-FA69E96A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12B4-EBEC-4EDD-A1E5-8E53C2D8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5752-105A-4107-A4CB-0B0F4D60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73DB-13ED-4355-9EAD-6E35E8AB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F655-1AAF-4755-B8C0-0963A7A3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FE51-3A71-4B9B-9C0D-786A3242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D892-0278-40AE-B847-F1D24BB1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FF7-EF68-423F-B10B-53645CDE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C3E2-A827-420B-A39C-9701EDF9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2BAB-9316-49E1-AB95-68F3AEFB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27FB-4520-488F-9BF7-0CCE17EA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7B3E-CB48-4DED-95B2-91064E87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34A2-7415-47CB-9D0C-7CA39179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694B-BD95-469D-9DB7-4972CF8E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DDC7-CFB6-48D3-BC30-37DF9F35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4B8-4548-4BD1-B074-D9F2C26F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BDA-C40C-4226-9C65-A089218C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C2E8-B005-4296-850B-14522D89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3A62-1459-464A-BDDE-BF041D87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A19-3E24-499C-97B1-952F4601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4A34-32C3-4029-9112-460A18FA6C1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E48E-DCA3-45C2-8A38-4B2C286F678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dbbd71"/>
                </a:solidFill>
                <a:latin typeface="Arial"/>
              </a:rPr>
              <a:t>Klasikinės sociopsichologinės teorijos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E966-EC87-458E-B6DB-8B4E758EF45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Lyderiavimo teorij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avybių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tiliaus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tsitiktinumų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organizacijos vadovų vadovavimo žmonėms gebėjimų ir būdų analizė ir formavi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48D-A14A-4403-91D9-6F0AE7DCA1C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elgsenos teor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formavi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efektyvu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apribojim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ės elgsena ir vaidmu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onkurencija tarp grupi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omandos ir jų formavi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žmonių grupių formavimas ir elgsenos motyvavi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B1E1-BC45-4090-8542-917BC4BBAE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isuotinio dalyvavimo valdyme (partisipatyvinė) teor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C. Ker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W. Geller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. Pe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T. Pars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rganizacijos darbuotojų dalyvavimas užduočių formavime ir sprendimų priėm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32A1-5159-4576-B642-4FCBC3A517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Sociopsichologinių teorijų nuopeln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Išryškintas žmogaus vaidmuo organizacijoj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Parengti darbuotojų tarpusavio santykių pagrindai, išryškinant vadovų ir pavaldinių santyki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Suformuoti darbuotojų motyvavimo aktyviai veiklai metodai ir principa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Pradėti spręsti organizacijos ir visuomenės santykių klausima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Apjungtos klasikinių teorijų nuostatos su socialiniais ir psichologiniais principai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Išryškinta vadovų asmeninė įtaka organizacijos veiklai ir santykiams su darbuotojai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6E0-D5E0-4FF7-BF8B-E3B8084932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Sociopsichologinių teorijų ribotum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Per didelis akcentas darbuotojų tarpusavio santykiams, psichologiniams veiklos motyvams iškreipia kompleksinį vadybos objektą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Žmonių motyvuotos elgsenos ir pasitenkinimo siekis nukreiptas savotiškos laimės kūrimui yra nenatūraliai pabrėžtas. Organizacijos funkcija – nėra kurti laimę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Organizacijos funkcija – sudaryti sąlygas žmogui siekti savo laimė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E62-5300-45BF-BC45-F32CC4A8EC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bbd71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0280" y="1981080"/>
            <a:ext cx="808344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opsichologini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ų teorijų susiformavimo prielaid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3793-F8A5-4703-9C59-E3AE8970F44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bbd71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bbd71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lasikinių teorijų ribotas požiūris į žmogaus svarbą organizacijo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Organizacijų vadovų didelis dėmesys darbo organizavimui ir produktyvumo didinimui, tačiau mažas darbuotojų darbo sąlygų gerinim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arbuotojų nepasitenkinimas darbo sąlygomis ir motyvacine sistema organizacij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383-3A9C-4BBA-BC0C-F6EA1BC333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bbd71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bbd71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eitėsi žmonių darbo ir vadovamo jiems principa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parti ekonominė plėtra ir žmonių koncentravimasis miestuose (ypač JAV) lėmė poreikio pramogoms ir laisvalaikiui augim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Gamybos kompanijos išgyveno krizę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9m. Akcij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ir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gimas)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 ir klasikinių metodų ribotum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9DC-0F09-46A9-ABF2-FE85A81B61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Sociopsichologinių teorijų esmė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8960" y="1908000"/>
            <a:ext cx="7931160" cy="42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Žmonių elgesio organizacijose tyrimas ir formavim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Žmogiškojo faktoriaus svarbos išryškinim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Objektas – žmonių motyvavimas, grupių santykiai ir lyderiavima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4A8-1441-4304-B03D-17C33A14CD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Sociopsichologinės teorijo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mogiškųjų santykių teor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Bihevioristinės – veiklos ir elgsenos motyvavimo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Lyderiavimo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Grupių elgsenos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Visuotinio dalyvavimo valdyme (partisipatyvinė) teor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E944-7100-4C45-A0E8-2A1D6D828E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Žmogiškųjų santykių teor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Elton May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Mary Parker Fol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monių tarpusavio santykiai, psichologinių ir socialinių veiksnių įtaka organizacijos veiklos efektyvum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D66-1CB8-4BD6-AE72-77D058E3A3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20840" indent="-4208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Bihevioristinės – veiklos ir elgsenos motyvavimo teorijos (ankstyvesnė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braham Mas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ouglas McGregor (X ir Y teorij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Chris Argyr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F. Herzberg (Motyvavimo – higienos teorij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Rensis Like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6D0F-CB30-4274-A754-04DE3AC8C4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Bihevioristinės – veiklos ir elgsenos motyvavimo teorijos (vėlyvesnė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. H. Vroom (Vilčių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Robbins (Turto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Lock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amp;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Lathman (Tikslų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elley (Požymių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B. F. Skinner (Gebėjimų stiprinimo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rganizacijos darbuotojų veiklos aktyvinimo motyvų analizė ir skatini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5AFA-CAB7-4E47-8753-EC59EEE08E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14Z</dcterms:modified>
  <cp:revision>41</cp:revision>
  <dc:subject/>
  <dc:title>Introduction to Management</dc:title>
</cp:coreProperties>
</file>