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2919-4E3B-4EA2-85C9-862F5DCE2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FFBF-245A-40B7-AD11-4234B7EB8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C01B-E5A7-4419-9F2E-0B3EED7F2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5ADD-1289-4D52-A29F-51A7BB4A3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40D52-7D48-4087-B983-CB40D2901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06B4F-4C1F-4016-9A06-5EE274B10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A2E05-3D20-4DEB-857C-4507BA186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0A662-3B3F-49CA-99E6-CCA873356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545BC-67BC-4B67-BC87-9131D6047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FDBA9-9905-4158-92C9-6EACF9518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1DC9C-3D2B-47C0-BF0F-0B41D1B6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35FC-B4C7-4AAC-BC16-05998B173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C4122-6C37-45A6-A3D6-C610EEF2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15E0B-2700-41D6-859B-2859318B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250E7-A578-4C54-B10A-922C2312C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A11B3-DD7D-4CAB-8C45-144F15BE0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16694-988E-4D07-9895-C9E7C8738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50F1-F319-4187-8FDB-C0BDDABD0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84D6-F76F-4DE1-A64F-4B4CDB44A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CBA5-C768-4E57-BFAD-20E4BA328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37D7-004E-4C1B-91B2-DA6A66351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E23D-213A-4AD8-901C-0A46293A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2A5A-3301-44C1-904D-461C1645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5695-C6E5-41FF-AA8B-30909F6B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CB8D5-70B7-4075-B6BE-423614697E1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DB68F-ADA2-42B3-ACB3-ED36146AFF1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34544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M. Weber idealaus biurokratinio valdymo teori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462A8-5581-4946-8B3B-C08DC09B5D3F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03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333399"/>
                </a:solidFill>
                <a:latin typeface="Tahoma"/>
              </a:rPr>
              <a:t>Weber biurokratijos koncepcijos esmė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929360" cy="434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Formalizuoti ir reglamentuoti santykius tarp darbuotojų organizacijoje, suformuoti “nuasmenintą” santykių atmosferą, eliminuoti vienų prielankumą (neprielankumą) kitiems. Bet koks nukrypimas nuo reglamentų neigiamai veikia darbo efektyvumą ir rezultatu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6506-E18E-4BDC-A42D-4B58440BE0F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Biurokratijos struktūrinė charakteristik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29840" y="1699920"/>
            <a:ext cx="871380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Hierarchinė struktūra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– aiškiai apibrėžta valdžios hierarchija yra racionalaus darbuotojų elgesio kontrolės pagrind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areigybės yra sujungtos vertikaliais ryšiais, sudarančiais įsakymų liniją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Valdžia didėja su kiekvienu laipteliu aukšty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Darbų grupė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– struktūriniai padaliniai, kurie leidžia kompleksinius darbus racionaliai suskaidyti į atskiras operacij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Tai leidžia efektyviausiai panaudoti darbuotojus ir lengviau specializuoti naujai priimtu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880D-3572-4186-BBDA-9112F49D0A5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Biurokratijos struktūrinė charakteristik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29840" y="1699920"/>
            <a:ext cx="871380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Taisyklės ir procedūro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– svarbu paskirstyti taisykles ir procedūras organizacijos darbuotojams formuojant sprendimo priėmimo grandinę ir darbuotojų elgesį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Taisyklės ir procedūros garantuoja organizacijos stabilumą ir apsaugo nuo savanaudiško elgesi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Techninė kompetencija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– racionaliai apibrėžtos pareigybės leidžia parinkti geriausiai kompetentingus darbuotoju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Garantuoja personalo parinkimo objektyvumą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36AD-9838-43B5-93F7-FF99A72B984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Biurokratijos struktūrinė charakteristik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29840" y="1699920"/>
            <a:ext cx="871380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Tahoma"/>
              </a:rPr>
              <a:t>Nuosavybės atskyrimas</a:t>
            </a: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 – atskiriant savininkus nuo valdymo galima užtikrinti objektyvesnį valdymą, nepagrįstą savanaudiškais tikslai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Savininkai daugiau orientuojasi į kuo didesnį pelną, bet ne į produktyvumo didinimą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Tahoma"/>
              </a:rPr>
              <a:t>Pareiginė valdžia</a:t>
            </a: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 – būtina valdžia suteikti pareigybei, bet ne asmeniui, vengiant jos panaudojimo savanaudiškais tikslai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Asmuo, praradęs pareigas, praranda ir valdžią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Tahoma"/>
              </a:rPr>
              <a:t>Faktų fiksavimas</a:t>
            </a: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 – būtina raštu fiksuoti visus įvykius bei sprendimus ateities sprendimam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D1B4-4102-4CD4-961F-C4AEB3BF50C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Ideali organizaci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lt-LT" sz="3600" spc="-1" strike="noStrike">
                <a:solidFill>
                  <a:srgbClr val="000000"/>
                </a:solidFill>
                <a:latin typeface="Tahoma"/>
              </a:rPr>
              <a:t>Visiems laikantis nustatytų taisyklių ir procedūrų, nelieka vietos asmeniškumams, formuojasi “sveika korporacijos dvasia”, nėra sąlygų intrigoms, paskaloms ir panašiems dalykams. Tokia atmosfera sąlygoja aukštą veiklos efektyvumą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1013-7A3B-4B2F-B56D-20C434B1DC9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Weber nuopelnai vadyb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936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Pirmas kompleksiškai suformuluotas požiūris į organizacijos formaliąją struktūrą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Biurokratinės – tiksliai veikiančios organizacinės struktūros reikšmės išryškinimas organizacijos veiklos efektyvumui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Organizacinės struktūros svarbos formalių tikslų siekimui išryškinima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Organizacinė struktūra būtina ir galima bet kokioje organizacijoje, nepriklausomai nuo dydžio ir kompleksiškumo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Išryškinta koordinavimo ir kontrolės svarba 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210F-1684-4C93-81F2-E1BC0C8DBB0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Paskaitos tiksl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50640" y="2363760"/>
            <a:ext cx="7635960" cy="374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Apibūdinti biurokratinio valdymo teorijos prielaida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Apibrėžti biurokratijos samprat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ristatyti Max We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Apžvelgti jo nuopelnus vadybos mokslui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506B-D7AC-43E4-B2C9-0DF12304648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Brush Script MT"/>
              </a:rPr>
              <a:t>Prielaidos</a:t>
            </a:r>
            <a:r>
              <a:rPr b="0" lang="en-US" sz="4400" spc="-1" strike="noStrike">
                <a:solidFill>
                  <a:srgbClr val="333399"/>
                </a:solidFill>
                <a:latin typeface="Brush Script MT"/>
              </a:rPr>
              <a:t> 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Monopolinių organizacijų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gimo ir 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valdymo problem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Organizacinės valdymo struktūros sureikšminimas Fayol ir Taylor darbu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Įmonių valdymo ir veiklos organizavimo efektyvumo problem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DB58-5C32-4D94-8C07-8924C296D1F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3399"/>
                </a:solidFill>
                <a:latin typeface="Tahoma"/>
              </a:rPr>
              <a:t>Biurokratijos esmė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92120" y="2296800"/>
            <a:ext cx="7491600" cy="383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Tahoma"/>
              </a:rPr>
              <a:t>Tradicinė samprata. Biurokratija – valdymas, panaudojant biurų sistemą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Tahoma"/>
              </a:rPr>
              <a:t>Weber samprata. Biurokratija – valdymas, organizuojant grupinę veiklą, šią veiklą griežtai reglamentuojant taisyklėmis, standartais, instrukcijomis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A071-753D-448A-A6B2-60838693E27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3399"/>
                </a:solidFill>
                <a:latin typeface="Tahoma"/>
              </a:rPr>
              <a:t>Biurokratijos esmė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03280" y="1844280"/>
            <a:ext cx="7491600" cy="432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Tahoma"/>
              </a:rPr>
              <a:t>Biurokratija – “raudonoji linija”, pagrįsta daugybe neefektyvaus popierinio darbo ir nelanksčių taisyklių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Tahoma"/>
              </a:rPr>
              <a:t>Biurokratija – “valstybinis aparatas”, susijęs su vietinės ar centrinės valdžios institucijomis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Tahoma"/>
              </a:rPr>
              <a:t>Biurokratija – “organizacinė forma”, pagrįsta dominuojančiais elementais – valdžios hierarchija ir taisyklių sistema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3C93-4FEE-418B-8CB7-167A9B042F1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3399"/>
                </a:solidFill>
                <a:latin typeface="Tahoma"/>
              </a:rPr>
              <a:t>Max Weber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1864 – 1920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enas i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š vadybos teorijos pionierių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Vokiečių sociolog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kademik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ktas – 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organizacijos valdymo struktūrizavimas ir valdžios racionalizavim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D874-3952-46D1-837F-47F0F5F7EEB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0321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3399"/>
                </a:solidFill>
                <a:latin typeface="Tahoma"/>
              </a:rPr>
              <a:t>Valdžia / Gali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929360" cy="434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Gal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smens gebėjimai kitą žmogų </a:t>
            </a:r>
            <a:r>
              <a:rPr b="0" i="1" lang="lt-LT" sz="3200" spc="-1" strike="noStrike">
                <a:solidFill>
                  <a:srgbClr val="000000"/>
                </a:solidFill>
                <a:latin typeface="Tahoma"/>
              </a:rPr>
              <a:t>priversti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 elgtis tam tikru būdu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Valdž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Formali galia, įteisinta tam tikrais įstatymais ir suteikianti teisę </a:t>
            </a:r>
            <a:r>
              <a:rPr b="0" i="1" lang="lt-LT" sz="3200" spc="-1" strike="noStrike">
                <a:solidFill>
                  <a:srgbClr val="000000"/>
                </a:solidFill>
                <a:latin typeface="Tahoma"/>
              </a:rPr>
              <a:t>priversti 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kitus žmones elgtis tam tikru būdu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1FFA-8214-42A9-83A3-0C96006D472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Galios form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936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TSILYGINIM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BAUDIM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EKSPERTINĖ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PATRAUKLUM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FORMALI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2356-4FCA-45A8-A4CF-F8C749422A3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920" y="244440"/>
            <a:ext cx="7648560" cy="13096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Valdžios form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31640" y="1915920"/>
            <a:ext cx="7491240" cy="383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Tradicinė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Valdžia sąlygota tradicijų ir įsitikinimų (monarchija ir pan.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Charizmatinė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Valdžia, sąlygota pagarbos ir pasitikėjimo asmenybe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Racionali – teisinė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Valdžia, suteikta pareigybės ir apibrėžta taisyklėmis ir procedūromi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A5E4-D04B-4436-8808-2500BCB8C79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3-08T13:41:44Z</dcterms:modified>
  <cp:revision>38</cp:revision>
  <dc:subject/>
  <dc:title>Introduction to Management</dc:title>
</cp:coreProperties>
</file>