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E3D-5B2E-4CA0-85BC-C6997AA6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51B-7230-40E0-A335-58857A33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B73-D187-40C6-89DB-64FC9440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E0B-7EB9-4E6A-B87A-F3963FFB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B5C6F-9D99-412C-86F1-002F9466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CBD55-ACC7-45F9-9563-7C244EDE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81EA1-092C-4A7D-A8BD-62D4A97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80FE4-4F4C-48AF-9550-DF2196F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5E919-DDBE-4075-9C7F-D8038160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8812F-102C-400A-B55E-E971663E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971C1-77EB-4BDD-82DD-EFCD54ED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2D9-7650-4432-A2BA-F7B613D7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4664F-8FE3-4138-BA67-5FFEA6B2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65A77-4B33-4023-9EC5-C69C803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AC527-0378-4EE2-973F-F8FDF6C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7FA90-E18C-4A1D-85C4-F3FFFF0C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5A27F-8695-461A-ADD9-D9CB2DA3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35B-7BA5-408C-B871-1C81BD39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AD4-66AB-46CB-BEB4-3582CC64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219-8E84-4DA2-A086-8D7D41C4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05A-FFB4-43C9-8498-D4436F48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EB8-51FC-42EE-B38D-C2ADA09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5F1-B094-4062-962A-8E76591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BB0-53AB-4682-986A-FCE0F37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BB63-9662-4E21-855D-709AF64970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635E-BA9E-409D-B15B-1B9BAC511E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dybos mokslas Lietuvoje: </a:t>
            </a:r>
            <a:br>
              <a:rPr sz="4400"/>
            </a:b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. Graičiūno indėlis į klasikinės organizacijos teorijos raid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7EFB1-F316-4A2F-8538-6328321B34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bjektas – organizacijos vidiniai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valdymo procesą, vadovo darbo turinį ir “valdomumo normą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vidinių ryšių klasifikavi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individualū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a) – tarp vadovo ir pavaldinio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grupin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b) – tarp vadovo ir dviejų ar daugiau pavaldini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Kryžminiai ryš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c) – pavaldinių tarpusavio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9E6-5B40-4BE8-BC12-68B1A69266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ldomumo n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Jei pavaldinių skaičius – n, o visų galimų ryšių skaičius – f, ta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n (n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a + b +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+ (n – 1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dovas produktyviai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ali valdy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tiesioginių individualių ryšių (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tiesiogi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 grupinių ryšių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ptimalus pavaldinių skaiči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339-EC94-4140-BA0F-1CF93E30DF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reikšm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rganizacijos grupini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ų ir kryžminių ryšių reikšmės organizacijos valdymui išryškinim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agrindai organizacijos ryšiams apskaičiuo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rincipai valdomumo normai nustaty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atematinių skaičiavimų taikymas valdymo ryšiams analizuot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Labiausiai cituotas nacionalinis vadybos darb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69m. 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Niujorke išleistas pakartotinai “Pakartotinos ekonomikos klasikų publikacijo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30B-3C92-49D6-985B-2F0DA42733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kslin</a:t>
            </a: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ė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8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steigė Mokslinės vadybos draugij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Tikslas: “tyrinėjimais, diskusijomis, spauda ir kitomis tinkamomis priemonėmis kelti lietuvių ūkinį pajėgumą ir ekonominę gerovę, praktiškai taikant vadybos dėsniu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C47-1894-4F82-BB85-7CA70C1599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Mokslinės vadybos draugijos veik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ybos dėsnių pripažinimas ir propagavi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Nariai: kariškiai, inžinieriai, ekonomist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ai spaudo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ktualių vadybos temų pristatymas. Vien pirmaisiais veiklos metais aptar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 temų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Organizacijos prada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ąlygos mokslinei vadybai į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Ganto grafikų pritaikyma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Asmeninio darbo organizac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Funkcinė sistema organizacijoj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katinimo problema organizacijoje ir k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Uždary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0 me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622-22EF-4627-9D52-E03A33D8CB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40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34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0 - 1941m. Techninio skyriaus vir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ininkas Vietinės pramonės 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udies komis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m. Pra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ės skyriaus vedėjas Liaudies komisarų Taryboje, Tyrimų skyriaus viršininkas “Lietstatprojek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 – 1948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Ėjo 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ento pareigas VDU statyb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8 – 1951m., atleistas is universiteto, Dirbo “Kotono”, “Silvos” fabriku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1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trem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2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usižudė lageryje Olžease (Kamerovo) srityj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73B-46B0-498F-966C-1990E21B06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. Graičiūno nuopelnai vadybos moks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29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pavaldinių veiklos koordinavimą, analizuojant organizacijos vidinius ryši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ovatoriškas požiūris į matematinių modelių taikymą valdy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omumo normos” nustatymo metodinių principų apibrėž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aujų vadybos mokslo teorijų ir idėjų propagavimas Lietuvo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o metodų taikymas praktikoje Lietuvos ūky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Graičiūno veikla Lietuvoje žinoma tik nu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8m.,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spausdinus jo straipsnį lietuvišk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48A-AC47-4DE2-91C1-811C5C4520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2251080"/>
            <a:ext cx="808344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klasikinės organizacijos (administravimo) teorijos plėtrą Lietu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Vytautą Graičiūn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o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108-947C-4478-9275-62F6809FBB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irmasis pasaulinis darbo mokslinio organizavimo kongresas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, Prah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is iš Lietuvos – Lietuvos universiteto profesorius J. Šimk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Darbo organizacija”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bjektas - pagrindinės F. Taylor ir jo pasekėjų teorijos tezė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6EF-C9C0-4967-B532-5FFD2B79AF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P. Raulinaiti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Administracijos principai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2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. Fayol 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teorinės tezės iš veikalo “Bendrasis ir pramoninis valdymas”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1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Darbo organizacijos matmenys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. Taylor teorijos pagrindai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, jų pristatymas, polemika, kritik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E71-3C53-40FC-8770-419A0A66DD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. Nacevič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Teilorizmas ir fajolizmas žemės ūkyje arba žemės ūkio darbams racionalizuoti etiuda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3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klasikini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ganizacijos vadybos princip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ikymas žemės ūky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. Galvanausk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Darbas administracinėse įstaigose”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4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tarnautojų parinkimo, priėmimo, darbo organizavimo klausim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8A6-6ADC-4D0E-8318-AF478FDA84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077320" cy="123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ytautas Andrius Grai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čiū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 – 1952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imė Čikagoje, lietuvio gydytojo šeimo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 – 1917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universitete, Administracijos ir komercij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 – 1919 tarnavo JAV karo aviacij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0 – 1923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technologijos institute ir įgijo bakalauro diplom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3 – 1925 dirb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dybos patarėju keliose Čikagos ir Niujorko kompanij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873-5FAF-4244-9607-BA3AB029CE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veikla Lietuv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6m. Atvyko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 Lietuvą ir dirbo “Metalo” fabriko technikos vedė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andė organizuoti fabriko bazėje įkurti “Ford” koncerno automobilių surinkimo įmon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egavęs paramos savo idėjoms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7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Išvyko iš Lietuvos į Vakarų Europ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5D2-E20B-4BD1-80D6-65C5F5140D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ir mokslinė veikla Europ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irbo analitiku, konsultantu įvairiose kompanijose Vokietijoje, Olandijoje, Prancūzijoje, Šveicar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nalizavo ir sprendė įmonių ekonomines ir organizacines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avo ketvirtame tarptautiniame Vadybos kongrese Paryžiu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Organizacijos vidiniai ryšiai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280-230E-4F5C-A1F6-7A352D26EA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rengtas artimai bendradarbiaujant su L. Urwick, Tarptautinio valdymo instituto Ženevoje direktoriu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3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traipsnis išspausdintas Ženevos TVI biuletenyje, anglų kalba “Relationship in organiza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7m. Straipsnis 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usdintas specialiame straips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inkinyje “Administracijos mokslo ap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ga”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Niujork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inkinyje žymių to meto mokslininkų darbai:  A. Fayol, E. Mayo ir 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53C-AAA0-4D98-AF18-B67655DA94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02Z</dcterms:modified>
  <cp:revision>35</cp:revision>
  <dc:subject/>
  <dc:title>Introduction to Management</dc:title>
</cp:coreProperties>
</file>