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DCE05-189C-44F2-905B-F5E291CD1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77C10-E59F-417D-9D63-1DCBEF04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2B4CE-CE9E-409A-82C3-EADE8E529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D7D18-1516-431B-B54C-4BCC820F3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2181-5A4C-4AAA-81A0-2F33C1DF9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96AC-CEB2-453D-A579-CA61AE48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4F39-9462-4267-AFD5-B1D5429B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D4B0-45DA-46D4-8F0B-AE3B7EBD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9C4F-1F6E-4723-AF26-48A65976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09E3-1F86-4F43-BF9D-1826B67D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34C2-60C7-46E0-A35B-4DDBEEBB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4FD2B-4512-4C08-8A41-9721AE59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B414-DEA5-4C8D-9582-00479BFC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C359-D290-4741-A609-ACE33F1B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37BC-2639-4DD0-AFEF-4582444F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B683-F06B-48BA-96C0-4D4667D39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A3DC-E60D-4FC2-8D23-51668DF78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724C0-FC34-4726-BD05-1B44FC40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D2F14-31D1-433A-825B-5366A9A0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AB99D-0D47-4E5F-A80F-671D8890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0D5D2-14F7-4AD6-AD27-8F923784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7CBB2-3B12-4A92-AE84-B65AFE94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D2A49-5E5A-47E1-8F34-2234A195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35B94-660A-4FDA-A4B3-5C91334A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0DAC-5EFD-45A2-A7A5-949A68B17A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A92A-3646-4754-ACD8-327051F160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26560" y="2349000"/>
            <a:ext cx="6409080" cy="29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dfdef6"/>
                </a:solidFill>
                <a:latin typeface="Arial"/>
              </a:rPr>
              <a:t>Klasikinės organizacijos teorijos mokykla: H. Fayol vadybos principai 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A72D-A2B7-4204-83AB-F2077E52D67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Valdymas – bendrųjų valdymo funkcijų cikla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Numaty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Organiz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Komand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Derin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Kontrol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54DB5-12BE-4EF3-9DB6-427D3DCE3E2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Fayol principų vertinima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29152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Fayol išryškino organizacijos formaliosios, centralizuotos ir biurokratinės struktūros požymi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Iškelta darbuotojų ir įmonės interesų derinimo bei valstybės vaidmens svar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Sugriovė mechanistinės organizacijos suvokimą – žmogus tampa svarbia organizacijos dalimi su savo poreikiais ir būtinybe gerai jaustis organizacijoj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Pirmasis suformulavo originalius, nuosekliai išdėstytus organizacijos valdymo principus, kurių dauguma tinka ir šiuolaikinėms organizacij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78168-BD67-475B-B081-1359BC5F3DC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Chester Bernar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886-196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ompanijos Bell prezident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Tyrimų objektas – organizacijos ir individualių tikslų suderinamum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Organizacijos priklausomybės nuo asmeninių ir neformalių grupių sieki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619EA-4B45-43F9-AC10-6E8C7156E85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Abejingumo zon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Valdžios delegav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Kuo daugiau veiklų pakliūva į abejingumo zoną, tuo tolygesnė ir vieningesnė organizaci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Vadovų užduotis – ugdyti darbuotojų moralinius tiks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uotojas – pagrindinis organizacijos strateginis veiksn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Organizacija – kooperatyvi grupėmis dirbančių individų for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0BE27-EF58-4929-AA37-A289590869D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L. Gulic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ffffff"/>
                </a:solidFill>
                <a:latin typeface="Arial"/>
              </a:rPr>
              <a:t>POSDCORB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lanavimas (plann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Organizavimas (organiz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ersonalo formavimas (staff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adovavimas (direct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Koordinavimas (coordin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tskaitomybė (Report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Biudžeto sudarymas (budget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B00FF-4964-4E04-BB12-90D3BD805F3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Lyndall F. Urwic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The Elemts of Administrat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947m.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nsoliduoti valdymo principa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ksl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aliza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ordina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d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ž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Atsakomyb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Pareigybės apibrėžtu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Delegavi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Kontrol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Balans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Tęstinu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AB548-C118-4AE3-AEC0-22AFF8F118C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5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E.F.L.Brech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aldymas – socialinis procesa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įmonės operacijoms reguliuo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Organizacinė struktūra – esminis formalusis veiksny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aldymo, priežiūros ir specialistų personalo atsakomybės nustaty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tsakomybės delegavimo apibrėž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tsakomybės paskirstymo koordin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ukštos moralės palaiky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86368-0A0E-421E-B75C-5BD40DF1701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L. Gulick, L.F. Urwick, E.F.L.Brech nuopelna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truktūros – formaliosios organizacijos dalies svarbos akcent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tsakomybės ir kontrolės paskirstymo tarp pavaldinių principo sureikšmin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areigų, teisių ir atsakomybės delegavimo kategorijų suformul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truktūros formavimo principų apibrėž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52C35-E547-4EEE-AC47-8A1C583E081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Paskaitos tiksl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31720" y="1981080"/>
            <a:ext cx="8080560" cy="41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Apibūdinti klasikinės organizacijos (administravimo) teorijos atsiradimo prielai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Pristatyti Henri Fay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Apžvelgti jo nuopelnus vadybos mokslu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Apžvelgti kitus autori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Įvertinti klasikinės organizacijos teorijos privalumus ir trūkum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B2F57-80C2-4EC0-849F-2AA521D3C80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dfdef6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ndustrinė revoliu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parti verslo plė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aujų rinkų atsiradimas ir plėtra         (ypač JAV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erslo infrastruktūros plėtra (keliai, geležinkeliai, ryšiai – telegraf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aujų technologijų plė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202A6-6A54-451C-B4B2-BF403DEBA32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lasikinės organizacijos (administravimo) teorijų mokykl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1120" y="1910880"/>
            <a:ext cx="7929360" cy="42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siformavo JAV ir Europoj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Iniciatoriai – mokslininkai ir organizacijų vadova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Objektas – organizacijos, kaip visumos, veikla ir jos valdym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3D9C0-07EB-421D-B514-DF9B429FBC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lasikinės organizacijos (administravimo) teorij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1120" y="1910880"/>
            <a:ext cx="7929360" cy="42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Administravimo teor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Henri Fay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841 - 19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n</a:t>
            </a: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cūzų inžinierius – kompanijos vadova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0m. patir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Administration industrelle et generale”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16m. (General and Industrial Management 1949m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4 </a:t>
            </a: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organizacijos valdymo princip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D8DCD-FD06-47A8-B983-F8C94DAAE8D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Valdymo princip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Darbo pasidalij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 Valdž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Drausm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Komandų vienovė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Krypties vienovė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 Individualių tikslų pajungimas bendrai gerove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Atlygin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40B4D-10B9-4B0C-8A78-45A8F7AC6B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Valdymo princip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. Centralizacij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erarchij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. Tvark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1. Teisingumas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2. Personalo stabilumas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iciatyva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4. Esprit de Corps (kolektyvo dvasia)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998A9-0F6A-439B-8E35-16CE175524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ayol nuopeln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Atskyrė kategorijas “valdymo veiklos - sritys” ir “valdymo (administravimo) funkcijos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Tyrinėjo organizaciją kaip visum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Išryškino vadovų kvalifikacijos svarbą ir paneigė teiginį, kad vadovais gimstama, o ne tamp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Išryškino organizacijos struktūravimo svarb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D41C8-A106-4B25-A502-8A35A97ED3C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Įmonės valdymo srity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Techninė ir technologinė veik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Komercinė veik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Finansinė veik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Apsauginė veik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Buhalterinė veik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Valdymas - administr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1191C-3B73-4305-9FFF-2A4137A90FD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2:42Z</dcterms:modified>
  <cp:revision>30</cp:revision>
  <dc:subject/>
  <dc:title>Introduction to Management</dc:title>
</cp:coreProperties>
</file>