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F47C-7F3B-4210-BBF3-2935CB89F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2BD-64F2-4C5F-8433-3C56EE8F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382-F90D-4538-8C44-AFC76B2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B3D-58ED-4D1A-8A6B-5259AB9C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319-3316-4B9E-B0AC-7A65E799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0E48-73D8-4AED-BB8E-189BF54D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37A-D759-4DAF-8DD7-2E1006D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16CB-DFC5-4C11-BAA9-D966BFA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7711-87FD-4333-861B-B2C587E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46A8-AB59-478A-82DA-37513E88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2537-778C-42AB-BB3A-CC28A3BE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B37-32F7-4561-9C4A-0F24A22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E01-60DD-4814-8678-1824B7C6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9066-75D5-4160-BA62-4917F1C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E9D7-3E0D-4F2B-84F0-04146DC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4678-6901-4B49-A96F-EEE78305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41AD-69F0-4DF0-972D-DECC0E79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E433-3496-43DC-8346-8040A024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0A3C-FB6D-4F5E-BFF6-6169B056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2B05-78DC-4FFE-B34C-9B888347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315B-4717-42C2-B3C8-E303D0C3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41B0-CDC9-4392-97AA-7F6D915C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D539-5CE6-4612-AE32-BA569D1E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97F-981B-4C7C-BFDF-36D9B429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DE53-C95F-4986-AD68-4E9F12BC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1365-B079-4588-8AEF-5D10266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B8A6-14AA-456C-9C62-173B874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F117-7FD7-4B32-B57D-95C54B8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6401-B4F8-4163-9687-84E44EAA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06A7-2048-415D-BECB-EEA196C8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C204-62C8-4D5D-A3B7-14C32D8F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C6F4-8F54-44EB-B8E4-2F587A02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B798-CE58-4B81-ADE1-B60ADC1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0EC12-C3EE-4751-90FC-541051A9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DB4-56B7-44FC-BD89-59AC647F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2321-4FB9-45DF-A90B-DBF01DA5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CF33-92C3-4922-9E72-6DD35A68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C0D35-E774-46E4-8CEC-AD269D4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8E05-0E28-4918-B7D8-4EACF0A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870C-D896-4E64-8D25-869BB1C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4FE7-DA17-40FE-A88F-810E3F0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9957-239E-4652-ACA7-CDB7F69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462E-8331-47E0-96A3-6015B32A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60F4-57CD-44A2-A54E-F07B36EA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395-BF99-4294-A64D-8C6D326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44D-DE09-4CD1-AEFD-1DDC249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342-F989-464A-A7AA-A7B4093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BB0-F5DF-416E-A52D-00FE2311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B65-2FA5-469F-86AC-AD904350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F478-AC49-4882-9F9D-084E9296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7463-E72D-44E4-9576-DC954A9F2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62E-355E-42D1-A749-D3612AC1207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F072-BC4A-461E-8BCD-48531591FF7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teorijos raida ir reikšmė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A6BD-63DA-4840-9339-6F4F7B86576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herbli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udesių analizės standartizavimas: simbolis, operacija, spal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eracijos: tyrimas, suradimas, suvokimas, apibūdinimas, inspekt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idutinišk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žingsnių, lydimų simbolių ir spalvų, operacij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869-5F85-457C-8191-4893832CA6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o dia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tandartizuota proceso operacijų fiksavimo metod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ų analizės simbolių sistema: Gamyba, Transportavimas, Inspektavimas, Prastovos ir Sandėli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72E-622F-4622-BC46-4C9F424E30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Henry L. Gant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861-191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aylor bendražyg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ramonės įmonių konsulta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o objektas – darbininkų skatinimo sist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Naujovė – užduoties – premijos atlygi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E2E-3498-4162-B7F9-3922DF087F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Užduoties – premijos atlygio siste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inė motyvacija – darbininko skatinimas, įvykdžius užduot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iem įvykdžius, stengiasi ir k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ntrinė motyvacija – dvigubas brigadininko skatinimas, įvykdžius užduotį kiekvienam ir visiems darbinink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darbo našumas priklauso nuo vadovų veik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CBC-DD2C-467D-BB38-3A5A0FBDE5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Veiklos optimizavimas, skatina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kirtingai nei pirmtakai, sureikšmino darbininkų iniciatyvą ir atsakomybę, atlyginant už ta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šryškino vadovų vaidmenį darbininkų veiklos efektyvum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Darbininkų veiklos rezultatų viešinimas – svarbi motyvacinė priemonė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63A-E4CC-4A9E-A1AE-0EF4B55032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nto diagra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laiko grafinis plan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rezultatų grafinis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rengimų ir medžiagų panaudojimo laike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rezultatų 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kalendorinio planavimo ištak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8B7-0ABB-430A-A438-044C2D0D94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400" y="328680"/>
            <a:ext cx="8685720" cy="5905800"/>
            <a:chOff x="77400" y="328680"/>
            <a:chExt cx="8685720" cy="5905800"/>
          </a:xfrm>
        </p:grpSpPr>
        <p:sp>
          <p:nvSpPr>
            <p:cNvPr id="210" name=""/>
            <p:cNvSpPr/>
            <p:nvPr/>
          </p:nvSpPr>
          <p:spPr>
            <a:xfrm>
              <a:off x="228600" y="1066680"/>
              <a:ext cx="8534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000" y="1066680"/>
              <a:ext cx="11019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4080" y="1066680"/>
              <a:ext cx="94500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on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080" y="1878120"/>
              <a:ext cx="2824200" cy="34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Edit Manu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Sample P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raw Ar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Galley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Page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C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1533600"/>
              <a:ext cx="38124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3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1200" y="148896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1922400"/>
              <a:ext cx="1371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0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2000160"/>
              <a:ext cx="12952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54484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584440"/>
              <a:ext cx="19432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168720"/>
              <a:ext cx="15242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3206880"/>
              <a:ext cx="14400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713040"/>
              <a:ext cx="28195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3751200"/>
              <a:ext cx="26622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03568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5075280"/>
              <a:ext cx="1943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4413240"/>
              <a:ext cx="13716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1440" y="5557680"/>
              <a:ext cx="18198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Reporting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5360" y="5430960"/>
              <a:ext cx="216000" cy="1429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8040" y="5535720"/>
              <a:ext cx="213372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ual Progr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Go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5891040"/>
              <a:ext cx="228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5580000"/>
              <a:ext cx="22860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00" y="328680"/>
              <a:ext cx="595908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66"/>
                  </a:solidFill>
                  <a:latin typeface="Arial"/>
                </a:rPr>
                <a:t>A Sample Gantt Char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6248520"/>
            <a:ext cx="1981440" cy="457200"/>
            <a:chOff x="609480" y="6248520"/>
            <a:chExt cx="1981440" cy="457200"/>
          </a:xfrm>
        </p:grpSpPr>
        <p:sp>
          <p:nvSpPr>
            <p:cNvPr id="2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50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7092-DC8C-425F-BBF7-F70938D401D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Emer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vylika našumo principų “The twelve principles of Efficiency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kslinio valdymo teorijos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ostatų sistematizavimas ir kompleksiškas pate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5D6-EE08-4DFB-BACE-FD2DF6AE22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ealiai ir preciziškai suformuluoti tikslai – racionalaus veiklos valdy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nių sprendimų pagrįstumas ir optimalu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timalus gerų ir techniškai tobulų įrengimų naudojimas – našu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ujausių pasiekimų ir žinių naudojimas visose organizacijos valdymo srity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arbo drausm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991-2875-46C6-AE3B-FCD17AE717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tlikimo standart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norm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ų kvalifikacinis atitikimas ir teisingas žmonių parink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9. Darbo saugu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eisingas atlygis už darb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rezultatų apskaita ir 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dispečerizavimas – kontrolė ir koordin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F56-558C-40B9-AC1D-F1CB8E3826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3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mokslinio valdymo teorijo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skirtumus tarp skirtingų autorių teorinių apibendrinim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ustatyti pagrindines mokslinio valdymo teorijos vystymosi tendenci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mokyklos indėlį vadybos moks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CCF-3DF9-48B0-A9E1-C8FB7FDEBF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For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irio imigranto sūn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63 – 19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3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Įkūrė kompaniją “Ford Motor Compan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8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ukonstruotas pirmasis T model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602-DE00-4914-AF06-AFFBD627D0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Automobilis visi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vajonė – sukurti automobilį prieinamą daugeli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Būdas – didelės gamybos apimtys ir žema ka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amybos pajėgų efektyvus panaud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chanizavimas ir skaidymas į atskiras užduo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ininkų special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3DD-A5B1-4545-AA3E-45E4EF4D4D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6 Sukonstruoja savo pirmąjį automobilį Kvadraciklą ir važinėjasi juo po Detroito gat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9 Vedantysis inžinierius – konstruktorius ir vienas iš savininkų naujai įkurtoje Detroito automobilių kompanijoje. Kompanija pagamino tik keletą automobili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901 Bandoma organizuoti Henry Ford Company, bet neišėjus susitarti su galimais investuotojais kompanija neįkuri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2764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50E-1EB0-4EC2-BA30-1214AFCCAA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3 Oficialiai įkuriama Ford Motor Company. Pirmasis Fordo modelis A pateikiamas pirkėjams Detr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8 Fordas pradeda gaminti savo įžymųjį  modelį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10 Pradeda veikti Highland Park gamykla Michigano valst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1017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885-F690-437E-84FF-CC028AA61F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mybos mechanizavim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ybos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vimas linijos – konvejerio princip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oji modernaus konvejerio dalis – magneto vijos surinki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13m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nksčia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as gamindav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-40vnt. per darbo dien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vejeri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 opera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kimo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aikas sutrumpėjo n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iki 1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jerio pritaikymas visoms oper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093-C67D-449C-9677-FEEA983115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Modelis 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asis modelis p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5 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0m. Automobilis kas 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5m. T modelis kas 5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3 min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utomobiliui surink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na 780 USD – 1910-1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0 USD – 1914-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0 USD – 191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30 041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 šią kainą parduoti automobi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E55-87F8-4995-BD6D-A66EB9ACB4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6 sukuriamas trimotoris lėktu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7 Baigiamas gaminti modelis T ir atnaujinus konvejerinę liniją  pradedamas gaminti naujas modelis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87640" cy="25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E3B-1EF8-4458-84FE-D46F17856CB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33360"/>
            <a:ext cx="856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2 sukuriamas pirmasis automobilis su V-8 varikli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3 sėkmingai numalšinamas streikas kurį organizavo visuotinė automobilių gamintojų darbininkų profsąju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267160" cy="357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669-327C-4A9E-A11B-28989E27692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asinės gamybos stebukl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Masinė gamyba eina masinio vartojimo priekyje ir įgalina, sumažinus kainas, gaminti patogesnius dalykus prieinamesnėmis kainom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H. For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00A-2979-471B-A016-CCC0016F90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acionalus požiūris į darbo organizavimą, tiksliai įvertinant užduotis ir proc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užduočių matavimo informacija įgalino tobulinti darbo metodus, veiklos planavi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todų tobulinimas leido didinti darbo našumą ir produktyvu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pmokėjimas susietas su darbo rezulta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D84-E61B-43A8-A0A1-0FE8D754F4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b7e7ff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7840" y="1774440"/>
            <a:ext cx="8227800" cy="43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EB4-BA67-44B1-8F7E-E57BEFC92C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(žem. Lygmens) sureikšminimas ir motyv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Motyvavimas taip pat buvo nukreiptas į fizinių darbo sąlygų pagerinimą darbinink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adėjo pamatus moderniems darbo proceso analizės metodams ir kiekybinėms valdymo technik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379-061F-4572-AAB8-509D5BB802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trūkum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o vaidmens sumažinimas iki primityvaus, rutininio simplifikuotų operacijų atlik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ąlygojo darbo fragmentaciją ir pilno proceso suvokimo prarad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ų motyvacija tapo siaurai pinigin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o proceso ir vietos planavimas tapo išimtinai vadovų užduoti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rastas darbo užmokesčio realus vertinimas, nes tapo “moksliškai” apskaičiuotas, priklausomai nuo įkainių ir laik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C0C-3643-4D0C-8093-190C5ACEB7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b7e7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B8A-7147-41CF-A60B-2BBBF25BF7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6400" y="184428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038-F936-4021-A29A-D9AEE82056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Frank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&amp; </a:t>
            </a: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Lillian Gilbre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B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1-19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tyrinėto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lian M. (1878-19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dymo ir psichologijos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ecialist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yrimo objektas – darbininkų nuovargis ir judesi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darbo sąlygų gerinimas ir judesių optim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54C-1607-4A1F-9533-2F0EF9C36D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Judesių optimizavi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ūrininko darbo efektyvini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Judesių sumaž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iki 4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ai plytai padė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efektyvumo padid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iki 2700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ytų per darbo dien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o darbo tempas išliko toks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DC5-B753-4BF4-B362-11F3B1A899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rincipas: One best wa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uo mažiau judesių tuo mažiau pavargstama – tuo daugiau padar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Judesių tyrimas ir laiko matavi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Geriausių atlikimo būdų nustat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EC5-3F4C-41C6-8CED-DA9914E78B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lanavimas / Vykdy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aisyklių ir procedūrų nustatymas veiklos atlikimo efektyviausiu bū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di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užmokesčio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o ir vykdymo veiklų atskyr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102-DD08-4D33-9779-6B8D3A99F1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17Z</dcterms:modified>
  <cp:revision>26</cp:revision>
  <dc:subject/>
  <dc:title>Introduction to Management</dc:title>
</cp:coreProperties>
</file>