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85A-E22B-46B0-8FA5-71B10D9B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044-C100-480F-B713-A7948AAF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BD9-9243-48B8-894B-E9E304BC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886-FF43-419E-8544-E5C2426D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5CE0-E036-4C7E-9E8E-8432F9B5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6B9B-24D9-4A84-A5CF-DCF91215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B468-3F2D-4B39-AE31-341D32A3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9BB7-FC70-42DB-98D8-02C2B23B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651C-F936-40CB-98F9-69BC7FCD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AAAD-8FF2-4D4A-910A-1E90A1D4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C33D-2A5F-4357-852F-7F117631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76A-BE5A-4CCE-93FF-FD4EC1E0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68FD-2872-4002-A207-BCBF765F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EB6E-BDF3-4145-939B-B3A82E51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F099-DF02-438C-831A-F41B92B7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64C4-EB1D-4D52-92CA-07190AA7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27E8-E1E8-418A-97C3-51C2A6BC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A3D-4F4F-47FC-9EF2-799AE001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41B-2B39-4714-941A-E4A66B28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469-11F5-4736-A9F8-47A67387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77E-6E51-4797-8D40-995C28E3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754-6302-41F8-BC14-5DBD8385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0F5-FB0A-48BF-81F8-746AF2A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E91-99C3-4B89-B9B5-D7DBEBDE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6324-A106-4934-B5F6-69F49D37CCF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10D9-4222-4A3A-AB7E-0E6409765E4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b9efee"/>
                </a:solidFill>
                <a:latin typeface="Garamond"/>
              </a:rPr>
              <a:t>Mokslinio valdymo mokykla: F. Taylor vadybos principai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2835-F4A8-49CD-8BFB-CEAAC6961C8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Funkcinio valdymo ištak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793116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adybinio darbo pasidalij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ienas tiesioginis vadov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Aštuoni funkciniai vadova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 administracijos (operacijų maršrutizavimo, planavimo, apskaitos – ekonomikos, normuotojas, gamybinės drausmės prižiūrėtoj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 gamybos cecho (brigadininkas, darbų tempo, įrengimų remonto, inspektoriu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3B6-5309-4D5E-B4AA-ACD07AEE02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Mokslinio valdymo mokyklos nuopeln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Moksliniai darbo užduočių atlikimo metodai -konvejerinės gamybos linijos pirmtak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Diferencinė darbo užmokesčio sistema – darbininkų motyvavimo metodai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E18-7522-4F41-A959-787DEECD65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Darbo užduočių suskaidymas į operacijas – linijos prielaid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792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Darbininkų judesių analizė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Užduočių atlikimo laiko matavima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Greičiausių ir geriausių darbo operacijų atlikimo metodų projektav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Optimalus turimų įrengimų ir medžiagų panaudoj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Planavimo reikšmės išryškin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F56-1389-4D5B-83BF-2D7E6B7651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Diferencinė darbo užmokesčio sistem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ugiau mokėti geriau dirbanti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Taikyti “moksliškai pakoreguotą” darbo užmokesčio būd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Sistemos nauda kompanijai ir darbinink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Bazinis atlyginimas už atliktą darbo norm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apildomas užmokestis – priedai efektyviau dirbantiems už viršytas nor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F31-51A5-481B-9571-47D98C6EBF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Ribotum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Darbininkų baimė būti dar labiau išnaudojamiems – dirbti sunkiau ir greičia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Per didelis dėmesys darbo atlikimo laiko mažinimui ir pelningumo didinim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Tyrimo objektas – gamybinė veikla ir gamybos rezultat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36A-5DC5-492A-9C40-22B1B6E0B7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Ribotum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Organizacija analizuojama kaip inžinerinis objektas – autonominių darinių jungin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Žmogus tik vykdytojas, privalantis tiksliai ir laiku atlikti darbo užduo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adovo darbas nukreiptas tik darbininkų darbo organizavimui, kitos vadovo veiklos neanalizuoja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0C6-0482-4785-BC83-E4DA4CAAE1B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Paskaitos tiksl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1720" y="1977840"/>
            <a:ext cx="808056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ibūdinti mokslinio valdymo teorijos atsiradimo prielaid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ristatyti pagrindinį jos atstovą – F. Tayl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žvelgti F. Taylor vadybos princip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Įvertinti F. Taylor nuopelnus vadybos moksl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945-316D-43B9-B670-E1E86F92D0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800" spc="-1" strike="noStrike">
                <a:solidFill>
                  <a:srgbClr val="b9efee"/>
                </a:solidFill>
                <a:latin typeface="Garamond"/>
              </a:rPr>
              <a:t>Mokslinio valdymo mokykla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9279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23F-BBD7-48FA-B59B-99EE2E8290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Prielaidos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Gamybos įmonių aug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organizavimo efektyvumo proble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Našumo ir produktyvumo proble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Kvalifikuotos darbo jėgos trūku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motyvavimo klausim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organizavimo mokslinių metodų nebu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8DE-7DB6-4AC2-8492-78AFF337BB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FREDERICK W. TAYLOR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Amerikiečių mokslinink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856 - 191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Pirmas bandymas kompleksiškai nagrinėti organizavimo klausim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Terminas “Fabriko vadyba” – “Shop management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Mokslinės vadybos principai” (The Principles of Scientific Management”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94C6-0867-4725-8E40-0FF796F658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Tikro vadybos mokslo sukūrim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ptimalių darbo metodų sukūr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suskaidymas į užduo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užduočių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likimo b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ū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ustaty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Matematinių skaičiavimų naudoj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našumo didin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B0D-9F03-4782-A43D-0F6625B1DD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Darbininkų parinkimas moksliniais pagrindai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uotojų specializa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atitikimo darbo vietai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vietų racionaliz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FBB-651F-4378-A67D-06521E0C3B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Mokslinis darbininkų lavinimas ir tobulinim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mokymas darbo viet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o judesių optimiz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Teisingas apmokėjimas už darb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norm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2F6-0613-41EF-B43D-AADCB89145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Glaudūs ir draugiški ryšiai tarp administracijos ir darbinink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isiška minties revoliucija” – bendras darbo našumo siek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Motyvacinė darbo apmokėjimo sistema – už viršytas normas mokėti pried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3DA-6B93-4B3B-8433-A72FEB1EFC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56Z</dcterms:modified>
  <cp:revision>24</cp:revision>
  <dc:subject/>
  <dc:title>Introduction to Management</dc:title>
</cp:coreProperties>
</file>