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F35CB-CF1E-49DB-8985-F567DA1F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0CB1-7B8F-496C-AEDA-6FBDDCA9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90B7-497C-4A16-BEB0-F566890C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5CD9-61A2-48DD-AA89-4DF35828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C222-55F4-4476-A683-19E1F02C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C6BD-5660-46D9-BE7A-0FAED2C7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6ABE-C2A5-46A0-8FE3-B8C719D4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AAB0-EC52-44E0-8072-BDE39F01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A5A9-D9D9-4A1B-8F78-9981264D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17D9-9BB6-48AC-8FD0-4A1A62F9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15DD-AD63-49F0-863C-959C458C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2615-BC39-4147-93CD-06B3B25A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7761-41C9-4D84-ABFF-1781B36A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F685-F3B9-42AB-AC06-A79F9E09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8A65-4FB5-44ED-86B6-10303D32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6D09-B49A-4D01-AEF5-9845C1C0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F951-6F31-4438-AD02-3804A33A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ED15-95B3-4068-926C-C5B10E0A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C9A9-4267-4DAC-98B2-C4AEF88B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A5F9-22ED-491B-8BDE-4D36990E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C55D-210E-498A-8E70-41FE2FC4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F35A9-76FA-4A94-9F73-280E8701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2F59-C258-498D-88C7-C23266D6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3E44-0761-4198-BFDF-8F5A18D7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852F-03BA-4D53-B3BE-8BE07EA2B6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51E7-9976-4FF9-BE6B-A00C9FEB58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dfdef6"/>
                </a:solidFill>
                <a:latin typeface="Arial"/>
              </a:rPr>
              <a:t>Klasikinės organizacijų valdymo teorijos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559D-C596-457D-B7E9-FD962134219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ių vadybos teorijų trūku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Idėjos - pagrįstos patirtim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ffffff"/>
                </a:solidFill>
                <a:latin typeface="Arial"/>
              </a:rPr>
              <a:t>Patirtis apribota daugiausiai gamybinių organizacijų veik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Nepatikrintos ir nepagrįstos prielaid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ffffff"/>
                </a:solidFill>
                <a:latin typeface="Arial"/>
              </a:rPr>
              <a:t>Prielaidos pagrįstos vertybiniu vertinimu ir moralinėmis nuostatomis, bet ne moksliniais tyrim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Neformalių santykių organizacijose neįvert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ffffff"/>
                </a:solidFill>
                <a:latin typeface="Arial"/>
              </a:rPr>
              <a:t>Svarbu tik formalūs org. ryšiai, taigi darbuotojų dalyvavimas neanalizuoja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B251-B41E-4D31-9D48-5EE5F0DC6B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ių vadybos teorijų trūku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Nenumatytos ir neapibrėžtos pasekmė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ffffff"/>
                </a:solidFill>
                <a:latin typeface="Arial"/>
              </a:rPr>
              <a:t>Neįvertintas veiklos formalizavimo poveikis darbuotojų veiklos efektyvumui ir racionalum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Mašinistinė organiz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ffffff"/>
                </a:solidFill>
                <a:latin typeface="Arial"/>
              </a:rPr>
              <a:t>Žmogus tik priedas prie mašinų (įrengim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Statinės sąly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ffffff"/>
                </a:solidFill>
                <a:latin typeface="Arial"/>
              </a:rPr>
              <a:t>Neįvertinta aplinkos sąlygų ka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2099-0C87-4E3C-B963-85A3341F7E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Objektyvi klasikinių vadybos teorijų kūrimo aplink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Darbininkai buvo mažai kvalifikuoti, karjeros samprata buvo nesuvoki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Pagrindiniai darbininkų poreikiai koncentravosi fiziologinių lygmeny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Technologijos keitėsi gana sparčiai ir efektyvus jų panaudojimas buvo svarbiau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Vadybos teorinė mintis tik rutuliojosi, taigi autorių požiūris buvo nenuoseklus ir sia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15DD-1450-4D2A-A15A-3F8BC77C7A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ių vadybos teorijų privalu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Į valdymą pažvelgta, kaip į mokslinių tyrimų objekt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Valdymo veikla atskirta nuo darbinės veik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Išryškinta valdymo veiklos įtaka organizacijos veiklos rezultatyvum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Suformuluoti organizacijos ir darbinės veiklos valdymo princip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Į organizaciją pažvelgta, kaip sudėtingą, formalizuotą struktūr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EAC56-94B5-4BF0-B282-287A8381217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ibūdinti klasikinių teorijų atsiradimo priela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žvelgti klasikines vadybos teorij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žvelgti klasikinių teorijų autori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Įvertinti klasikinių vadybos teorijų privalumus ir trūku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EABE-0BDD-4A2B-AD37-55B55DA130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parti verslo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rinkų atsiradimas ir plėtra         (ypač JA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erslo infrastruktūros plėtra (keliai, geležinkeliai, ryšiai – telegraf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technologijų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5F91-5F4A-42DB-AA75-6EC1DF3C41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Valdymo metodų poreiki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Būtinybė naujų valdymo metodų, </a:t>
            </a:r>
            <a:r>
              <a:rPr b="0" i="1" lang="lt-LT" sz="3600" spc="-1" strike="noStrike">
                <a:solidFill>
                  <a:srgbClr val="ffffff"/>
                </a:solidFill>
                <a:latin typeface="Arial"/>
              </a:rPr>
              <a:t>integruojančių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technologijas, medžiagas ir darbo jėg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Poreikis spręsti prekių ir paslaugų gamybos </a:t>
            </a:r>
            <a:r>
              <a:rPr b="0" i="1" lang="lt-LT" sz="3600" spc="-1" strike="noStrike">
                <a:solidFill>
                  <a:srgbClr val="ffffff"/>
                </a:solidFill>
                <a:latin typeface="Arial"/>
              </a:rPr>
              <a:t>produktyvumo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proble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Siekis didinti organizacinės veiklos </a:t>
            </a:r>
            <a:r>
              <a:rPr b="0" i="1" lang="lt-LT" sz="3600" spc="-1" strike="noStrike">
                <a:solidFill>
                  <a:srgbClr val="ffffff"/>
                </a:solidFill>
                <a:latin typeface="Arial"/>
              </a:rPr>
              <a:t>efektyvum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5AB6-6122-4FD5-9191-4DBE9FBFD4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lasikinių vadybos teorijų vystymo krypty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Mokslinio valdymo mokyk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Klasikinės organizacijos (administravimo) teorijų mokyk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8DF0-D695-42E5-AE4C-6A2A11F878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dfdef6"/>
                </a:solidFill>
                <a:latin typeface="Arial"/>
              </a:rPr>
              <a:t>Mokslinio valdymo mokykla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701360"/>
            <a:ext cx="7929720" cy="442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usiformavo JA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iciatoriai – mokslininkai ir organizacijų vadov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bjektas – darbo organizavimas ir darbininkų veiklos produktyvumo did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F0C8-7435-410E-899A-B596AFE152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Mokslinio valdymo mokyklos atstov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ederick W. Tay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an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Lillian Gilbre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Gan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Em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CD23-3065-41E0-AE67-A258B1A392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ų mokykl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siformavo JAV ir Europoj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Iniciatoriai – mokslininkai ir organizacijų vadov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Objektas – organizacijos, kaip visumos, veikla ir jos valdy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1898-1C82-4119-BBF7-0DC6A2D1135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o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dministravimo teo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Henri Fay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Chester Bern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L. Gulic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L. Urw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Idealaus biurokratinio valdymo teo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Max We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B569-9E7A-45FA-8B68-E23E61EFC4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7:27Z</dcterms:modified>
  <cp:revision>22</cp:revision>
  <dc:subject/>
  <dc:title>Introduction to Management</dc:title>
</cp:coreProperties>
</file>