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B46F-7745-4A95-ACED-603950A08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55240" y="3902040"/>
            <a:ext cx="825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6B40-4113-4ECC-8027-DA2E3E23C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5524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8560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65F4-2062-49AC-AEB9-CA2D8AC40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46320" y="175248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737400" y="175248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55240" y="390204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46320" y="390204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737400" y="390204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38B7-D56F-43D8-809A-2A0EC9682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B170A-0B1C-4601-BDD5-3600DCD7F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EEDB8-E290-436D-AADD-60769ED6E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4001B-6058-45B4-917D-C16A76572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86729-9EBD-4048-B96D-9B2CA90AE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BAEAD-595D-4B30-9893-B338BEC58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55240" y="380520"/>
            <a:ext cx="825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0DE2F-A695-452D-8024-78698A646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5524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5485E-DA9E-43D5-8925-2816692E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07F4-C45A-445D-8E87-24DAB61C3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8560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6E9EB-CDB6-44F3-AEA7-CBF91C5E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55240" y="3902040"/>
            <a:ext cx="825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7661E-2741-45D5-94EA-81AA3033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155240" y="3902040"/>
            <a:ext cx="825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8C0BA-01B3-4B9D-870F-098FD963C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5524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8560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9ECE6-0AA0-4F2F-9858-E1753AC65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946320" y="175248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737400" y="175248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155240" y="390204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946320" y="390204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737400" y="390204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87A7F-8B4A-4B5F-9309-7ED1E6AC2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4CD7-DC56-4E07-B3E5-B9BE0A4CC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15A5-C4F0-468F-AED5-76540AE4D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B2AB-487F-4D16-92A9-7C0228B55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55240" y="380520"/>
            <a:ext cx="825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4B37-5937-4AD6-A6D7-18446C404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5524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2309-2E14-451B-913E-88DDA7FB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8560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A959-06E0-45CC-9D34-40133FE1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55240" y="3902040"/>
            <a:ext cx="825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BD07-F6C5-462A-AD70-20514546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0240" y="228600"/>
            <a:ext cx="892656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100160" y="1600200"/>
            <a:ext cx="831060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27944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27944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98720" y="610704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740040" y="610704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454520" y="610704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45F7B-10A3-4A9D-83F3-AB060EEDF7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73120" y="201600"/>
            <a:ext cx="909792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27944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46200" y="4130640"/>
            <a:ext cx="11286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27944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205704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174320" y="60958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816360" y="609588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531200" y="609588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2206-CCD9-44C8-8DCA-D681F48D35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1371600"/>
            <a:ext cx="84200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lt-LT" sz="4000" spc="-1" strike="noStrike">
                <a:solidFill>
                  <a:srgbClr val="221304"/>
                </a:solidFill>
                <a:latin typeface="Times New Roman"/>
              </a:rPr>
              <a:t>DUOMENŲ BAZĖS IR  INFORMACIJOS SISTEMOS</a:t>
            </a: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 2 </a:t>
            </a:r>
            <a:r>
              <a:rPr b="0" lang="lt-LT" sz="2800" spc="-1" strike="noStrike">
                <a:solidFill>
                  <a:srgbClr val="221304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askaita</a:t>
            </a:r>
            <a:r>
              <a:rPr b="0" lang="lt-LT" sz="2800" spc="-1" strike="noStrike">
                <a:solidFill>
                  <a:srgbClr val="221304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lt-LT" sz="2800" spc="-1" strike="noStrike">
                <a:solidFill>
                  <a:srgbClr val="221304"/>
                </a:solidFill>
                <a:latin typeface="Times New Roman"/>
              </a:rPr>
              <a:t>Informacijos sistemos gyvavimo ciklas</a:t>
            </a:r>
            <a:br>
              <a:rPr sz="2800"/>
            </a:br>
            <a:r>
              <a:rPr b="0" lang="lt-LT" sz="2800" spc="-1" strike="noStrike">
                <a:solidFill>
                  <a:srgbClr val="221304"/>
                </a:solidFill>
                <a:latin typeface="Times New Roman"/>
              </a:rPr>
              <a:t>Organizacijos i</a:t>
            </a: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nformacin</a:t>
            </a:r>
            <a:r>
              <a:rPr b="0" lang="lt-LT" sz="2800" spc="-1" strike="noStrike">
                <a:solidFill>
                  <a:srgbClr val="221304"/>
                </a:solidFill>
                <a:latin typeface="Times New Roman"/>
              </a:rPr>
              <a:t>ė</a:t>
            </a: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 architekt</a:t>
            </a:r>
            <a:r>
              <a:rPr b="0" lang="lt-LT" sz="2800" spc="-1" strike="noStrike">
                <a:solidFill>
                  <a:srgbClr val="221304"/>
                </a:solidFill>
                <a:latin typeface="Times New Roman"/>
              </a:rPr>
              <a:t>ū</a:t>
            </a: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ra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760400" y="5040000"/>
            <a:ext cx="693432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Doc. S. Gu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•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udėtingas palaikymas -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nuolat besikeičiantį produktą daug sunkiau aptarnauti;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•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udėtingesnis programavimo proceso valdymas 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sunkiau suvaldyti nuolat besikeičiančius testavimo planus, projektų dokumentus ir t.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94D5-789F-49E0-81F4-675B293D90D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221304"/>
                </a:solidFill>
                <a:latin typeface="Times New Roman"/>
              </a:rPr>
              <a:t>“</a:t>
            </a:r>
            <a:r>
              <a:rPr b="0" lang="lt-LT" sz="3600" spc="-1" strike="noStrike">
                <a:solidFill>
                  <a:srgbClr val="221304"/>
                </a:solidFill>
                <a:latin typeface="Times New Roman"/>
              </a:rPr>
              <a:t>Fontano” tipo IS GC modelis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37040" y="154296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438280" y="914400"/>
            <a:ext cx="5118120" cy="531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CC11-EB27-466B-9EA0-73B5B6EEFA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221304"/>
                </a:solidFill>
                <a:latin typeface="Times New Roman"/>
              </a:rPr>
              <a:t>Organizacijos informacinė architektūra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cinė architektūra – pagrindinis organizacijos IT planavimo įranki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ekvienoje organizacijoje yra keletas įvairios paskirties IS, kurios kompiuterizuoja atskiras veiklos srit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ai aišku, kad reikalingas vieningas IS planavimo būdas, kuris išspręstų IS kūrimo ir pl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ė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os problem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cinės architektūros paskirt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kad kiekvienas veiklos dalyvis – vadybininkas, gamybininkas ar informatikas, IS skyriaus specialistas - turėtų tokį patį supratimą apie veiklą (veiklos modelį savo galvoje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9115-DF80-499A-9791-67C468BAEF9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Informacinės architektūros sudėtis</a:t>
            </a: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keletas skirtingų informacinės architektūros sudėties apibūdinimų (modelių).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eikiamas vienas iš labiau paplitusių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formacinė architektūra susideda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š tokių sluoksnių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     Pagrindas yra organizacijos IT infrastruktūr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konkret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nė įrang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inė įranga,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žtikrinanti paskirstytus duomenų šaltinius, būtinus organizacijos veiklai;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     Centralizuota informacinės architektūros dali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     Decentralizuota IA dalis - funkcinės IS, kitos 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2CC7-760E-4105-A159-82B1F68BB39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221304"/>
                </a:solidFill>
                <a:latin typeface="Times New Roman"/>
              </a:rPr>
              <a:t>Organizacijos informacinė architektūra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63920" y="199548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838080" y="838080"/>
          <a:ext cx="8232840" cy="534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838080"/>
                    <a:ext cx="8232840" cy="534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D778-9FED-4B40-A2C1-EC5D9B36623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221304"/>
                </a:solidFill>
                <a:latin typeface="Times New Roman"/>
              </a:rPr>
              <a:t>Informacinės architektūros pagrindinės dalys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entralizuota IA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 dalis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iznio architek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ū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, kuri nulemi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organizacijos informacin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poreik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uomen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ų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rchitek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ū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a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munikacij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architek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ū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F458-E075-4FAD-998F-AFBED86A755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221304"/>
                </a:solidFill>
                <a:latin typeface="Times New Roman"/>
              </a:rPr>
              <a:t>Informacinės architektūros pagrindinės dalys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entralizuota I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apima organizacijos veiklos funkcijų IS (funkcines IS) ir paslaugų IS (kompiuterizuotos darbo vietos individualiems skaičiavimams, E-mail ir kt.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kcinės 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siskirsto organizacinio valdymo (vadybos) hierarchijos lygiais: strateginės IS, vadybos IS, žinių IS, operatyvaus valdymo IS (skirstomos pagal funkcijas į finansų valdymo IS, gamybos valdymo IS, apskaitos IS, personalo vadybos IS ir kitos)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albinės 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aštinės IS ir komunikavimo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4FA4-200F-4D17-A867-ECBABB58575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Organizacijos informacinė infrastruktūra</a:t>
            </a:r>
            <a:r>
              <a:rPr b="0" lang="lt-LT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im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echninius įrenginiu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laugas 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dymo personalą, kuris aptarnauja organizacijos techninę įrangą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B2AE-1A38-43BB-A48B-A0A2F79E5F1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Organizacijos informacinė infrastruktūr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cinė infrastruktūr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ideda iš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ompiuterinės techninės įrangos ir jų programinė įrang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Bendros paskirties programinės įrang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Duomenų perdavimo ir saugojim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echnologinės priemonė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- duomenų bazių valdymo sistemų (DBM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ompiuterinių tinklų ir komunikacinių įrengim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nformacijos vadybos personalo (IS skyriaus personala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0910-5E50-4399-8E23-618CE4D605D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221304"/>
                </a:solidFill>
                <a:latin typeface="Times New Roman"/>
              </a:rPr>
              <a:t>Informacinės architektūros dalys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95480" y="2171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img024IA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800100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1AB8-BA93-4B83-83ED-4A749F79D8A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SISTEMOS GYVAVIMO CIKLAS</a:t>
            </a:r>
            <a:br>
              <a:rPr sz="3600"/>
            </a:b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Įvedame svarbią sąvoką – sistemos gyvavimo ciklas (system life cycle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Gyvavimo ciklas –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inžinerijo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etodologijos realizavim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roceso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modeli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Kiekviena iš metodologijų reikalauja atitinkamo gyvavimo ciklo, kuris efektyviai realizuoja metodologijos galimyb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e to, gyvavimo ciklo parinkimas susijęs su turimos programinės įrangos galimybėmi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77FD-15EE-42CA-BF79-1CBF3A83C0A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221304"/>
                </a:solidFill>
                <a:latin typeface="Times New Roman"/>
              </a:rPr>
              <a:t>Funkcinės IS ir inf. architektūr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081080" y="1828800"/>
            <a:ext cx="8150400" cy="396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033A-8081-43E4-B15C-0F64A99E73F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1442880" y="304920"/>
            <a:ext cx="7772400" cy="5665680"/>
            <a:chOff x="1442880" y="304920"/>
            <a:chExt cx="7772400" cy="5665680"/>
          </a:xfrm>
        </p:grpSpPr>
        <p:sp>
          <p:nvSpPr>
            <p:cNvPr id="196" name=""/>
            <p:cNvSpPr/>
            <p:nvPr/>
          </p:nvSpPr>
          <p:spPr>
            <a:xfrm>
              <a:off x="1598040" y="307800"/>
              <a:ext cx="1020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Organizacijos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963800" y="496800"/>
              <a:ext cx="128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l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108160" y="496800"/>
              <a:ext cx="192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gi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363400" y="4968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982240" y="307800"/>
              <a:ext cx="1065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Tarnaujančios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287880" y="496800"/>
              <a:ext cx="476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grupė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54160" y="4968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92080" y="68436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742640" y="307800"/>
              <a:ext cx="517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IS tipa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360760" y="3078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073120" y="4968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648120" y="307800"/>
              <a:ext cx="796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Informaci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568640" y="307800"/>
              <a:ext cx="73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ė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607160" y="307800"/>
              <a:ext cx="69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s sistemo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410320" y="3078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549920" y="4968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442880" y="304920"/>
              <a:ext cx="97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442880" y="304920"/>
              <a:ext cx="97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452600" y="304920"/>
              <a:ext cx="13795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32120" y="304920"/>
              <a:ext cx="93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841480" y="304920"/>
              <a:ext cx="14115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253040" y="30492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260960" y="304920"/>
              <a:ext cx="15429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803920" y="30492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11840" y="304920"/>
              <a:ext cx="33955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9207360" y="30492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9207360" y="30492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442880" y="312840"/>
              <a:ext cx="9720" cy="56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832120" y="312840"/>
              <a:ext cx="9360" cy="56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253040" y="312840"/>
              <a:ext cx="7920" cy="56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03920" y="312840"/>
              <a:ext cx="7920" cy="56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207360" y="312840"/>
              <a:ext cx="7920" cy="56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548720" y="879480"/>
              <a:ext cx="1065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Strateginis lygi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781720" y="8794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587960" y="10666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937600" y="879480"/>
              <a:ext cx="773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Vyriausieji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937240" y="1066680"/>
              <a:ext cx="805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menedžeria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881880" y="10666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977200" y="12542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356360" y="882720"/>
              <a:ext cx="605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1500" spc="-1" strike="noStrike">
                  <a:solidFill>
                    <a:srgbClr val="000000"/>
                  </a:solidFill>
                  <a:latin typeface="Times New Roman"/>
                </a:rPr>
                <a:t>Vadov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357440" y="1106640"/>
              <a:ext cx="218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1500" spc="-1" strike="noStrike">
                  <a:solidFill>
                    <a:srgbClr val="000000"/>
                  </a:solidFill>
                  <a:latin typeface="Times New Roman"/>
                </a:rPr>
                <a:t>IS</a:t>
              </a: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357080" y="1332000"/>
              <a:ext cx="505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(ESS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732280" y="133200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397760" y="15508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962680" y="87948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5 m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361560" y="87948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ų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413400" y="879480"/>
              <a:ext cx="2350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pardavimų krypties prognozavimo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951880" y="1066680"/>
              <a:ext cx="192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IS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158520" y="10666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945760" y="125424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035760" y="125424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059520" y="1254240"/>
              <a:ext cx="2117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metų operacinio planavimo IS ;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469720" y="12542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945760" y="144144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035760" y="144144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059160" y="1441440"/>
              <a:ext cx="2259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metų biudžetas prognozavimo IS;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617320" y="14414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904000" y="162576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P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085080" y="1625760"/>
              <a:ext cx="1180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lno planavimo IS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447320" y="162576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442880" y="874800"/>
              <a:ext cx="97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52600" y="874800"/>
              <a:ext cx="13795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832120" y="874800"/>
              <a:ext cx="93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841480" y="874800"/>
              <a:ext cx="14115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253040" y="87480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260960" y="874800"/>
              <a:ext cx="15429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803920" y="87480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811840" y="874800"/>
              <a:ext cx="33955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9207360" y="87480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442880" y="882720"/>
              <a:ext cx="9720" cy="93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832120" y="882720"/>
              <a:ext cx="9360" cy="93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253040" y="882720"/>
              <a:ext cx="7920" cy="93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803920" y="882720"/>
              <a:ext cx="7920" cy="93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9207360" y="882720"/>
              <a:ext cx="7920" cy="93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48360" y="1820880"/>
              <a:ext cx="974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Valdymo lygi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659680" y="18208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587960" y="20080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938320" y="1820880"/>
              <a:ext cx="1052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Vidutinio lygio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37240" y="2008080"/>
              <a:ext cx="805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menedžeria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881880" y="20080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977200" y="21956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358160" y="1820880"/>
              <a:ext cx="654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Valdymo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358520" y="2008080"/>
              <a:ext cx="901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informacinės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358880" y="2195640"/>
              <a:ext cx="1098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sistemos (MIS);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17080" y="21956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397760" y="23828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445640" y="23828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358880" y="2571840"/>
              <a:ext cx="723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Sprendimų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09920" y="257184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358160" y="2759040"/>
              <a:ext cx="736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palaikymo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358880" y="2946240"/>
              <a:ext cx="1065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sistemos (DSS)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577480" y="29462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908320" y="1820880"/>
              <a:ext cx="2707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Pardavimų valdymo IS; Inventorizacijos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07600" y="2008080"/>
              <a:ext cx="2483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controlės IS; kasmetinio biudžeto IS;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06160" y="2195640"/>
              <a:ext cx="2103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kapitalo investicijų analizės IS;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303040" y="21956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943960" y="23828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951880" y="238284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Par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295320" y="2382840"/>
              <a:ext cx="2428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avimų regiono anaizės IS; Gamybos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06520" y="2571840"/>
              <a:ext cx="2199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planavimo IS; Kaštų analizės IS;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417520" y="25718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424720" y="2571840"/>
              <a:ext cx="444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Kainų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906880" y="2759040"/>
              <a:ext cx="2794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analizės IS; Kontraktinių kaštų analizės I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9098280" y="27590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442880" y="1817640"/>
              <a:ext cx="97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452600" y="1817640"/>
              <a:ext cx="13795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832120" y="1817640"/>
              <a:ext cx="93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41480" y="1817640"/>
              <a:ext cx="14115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253040" y="1817640"/>
              <a:ext cx="79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260960" y="1817640"/>
              <a:ext cx="15429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803920" y="1817640"/>
              <a:ext cx="79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811840" y="1817640"/>
              <a:ext cx="33955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9207360" y="1817640"/>
              <a:ext cx="79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442880" y="1824120"/>
              <a:ext cx="9720" cy="131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832120" y="1824120"/>
              <a:ext cx="9360" cy="131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253040" y="1824120"/>
              <a:ext cx="7920" cy="131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803920" y="1824120"/>
              <a:ext cx="7920" cy="131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9207360" y="1824120"/>
              <a:ext cx="7920" cy="131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548720" y="3141720"/>
              <a:ext cx="718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Žinių lygi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88240" y="314172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937960" y="3141720"/>
              <a:ext cx="942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Dirbantieji su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937240" y="3328920"/>
              <a:ext cx="608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žiniomis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664440" y="332892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982240" y="351648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i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096000" y="35164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980080" y="370368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074040" y="37036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937960" y="3890880"/>
              <a:ext cx="942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Dirbantieji su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937600" y="4079880"/>
              <a:ext cx="814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duomenimi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86560" y="40798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977200" y="42624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977200" y="44496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359240" y="3141720"/>
              <a:ext cx="1116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Žinybinės darbo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358520" y="3328920"/>
              <a:ext cx="1130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sistemos (KWS)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647320" y="332892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359960" y="3516480"/>
              <a:ext cx="1262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Dirbtinio intelekto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359240" y="3703680"/>
              <a:ext cx="974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tinklai (ANN)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494680" y="37036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357800" y="3890880"/>
              <a:ext cx="416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Biuro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358880" y="4079880"/>
              <a:ext cx="1102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automatizavimo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358520" y="4262400"/>
              <a:ext cx="1047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sistemos (OAS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555160" y="42624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907240" y="3141720"/>
              <a:ext cx="2620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Darbo stočių inžinerija; Grafinės darbo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905080" y="3328920"/>
              <a:ext cx="2058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stotys;Valnadčios darbo stotys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215920" y="332892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906880" y="3516480"/>
              <a:ext cx="2227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Žodžio apdorojimas; Dokumentų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907600" y="3703680"/>
              <a:ext cx="2478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paruošimas; Elektroniniai kalendoria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739720" y="37036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442880" y="3137040"/>
              <a:ext cx="97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452600" y="3137040"/>
              <a:ext cx="13795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832120" y="3137040"/>
              <a:ext cx="93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841480" y="3137040"/>
              <a:ext cx="14115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253040" y="313704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260960" y="3137040"/>
              <a:ext cx="15429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803920" y="313704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811840" y="3137040"/>
              <a:ext cx="33955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9207360" y="313704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442880" y="3144960"/>
              <a:ext cx="9720" cy="149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832120" y="3144960"/>
              <a:ext cx="9360" cy="149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253040" y="3144960"/>
              <a:ext cx="7920" cy="149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803920" y="3144960"/>
              <a:ext cx="7920" cy="149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9207360" y="3144960"/>
              <a:ext cx="7920" cy="149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548000" y="4645080"/>
              <a:ext cx="1075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Operacinis lygi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781720" y="46450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979360" y="464508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068640" y="464508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ykdanty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759840" y="46450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937240" y="4834080"/>
              <a:ext cx="805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menedžeria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881880" y="48340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977200" y="50212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358520" y="4645080"/>
              <a:ext cx="627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Sandėrių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358880" y="4834080"/>
              <a:ext cx="801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apdorojimo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59240" y="5021280"/>
              <a:ext cx="1047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sistemos (TPS)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559840" y="50212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404960" y="5208480"/>
              <a:ext cx="201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O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579920" y="5208480"/>
              <a:ext cx="581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eracinės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358880" y="5396040"/>
              <a:ext cx="791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(funkcinės)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358880" y="5583240"/>
              <a:ext cx="910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Informacinės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357440" y="5770440"/>
              <a:ext cx="567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sistemo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021640" y="57704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909040" y="4645080"/>
              <a:ext cx="2629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Eilės sekimo IS; orderių apdorojimo IS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876160" y="46450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907960" y="4834080"/>
              <a:ext cx="2840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Mašinų kontrolės IS; Sodinimo planavimo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907240" y="5021280"/>
              <a:ext cx="1966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IS; grynųjų pinigų valdymas;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141040" y="50212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906880" y="5208480"/>
              <a:ext cx="2455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Atlyginimai, paruošimas &amp; kūrimas;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906520" y="5396040"/>
              <a:ext cx="1788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Tarnautojų įrašų sekimo I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949160" y="53960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442880" y="4641840"/>
              <a:ext cx="97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452600" y="4641840"/>
              <a:ext cx="13795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832120" y="4641840"/>
              <a:ext cx="93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841480" y="4641840"/>
              <a:ext cx="14115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253040" y="464184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260960" y="4641840"/>
              <a:ext cx="15429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803920" y="464184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811840" y="4641840"/>
              <a:ext cx="33955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9207360" y="464184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442880" y="4649760"/>
              <a:ext cx="9720" cy="131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442880" y="5962680"/>
              <a:ext cx="97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442880" y="5962680"/>
              <a:ext cx="97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1452600" y="5962680"/>
            <a:ext cx="13795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832120" y="4649760"/>
            <a:ext cx="9360" cy="1312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832120" y="5962680"/>
            <a:ext cx="9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841480" y="5962680"/>
            <a:ext cx="1411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253040" y="4649760"/>
            <a:ext cx="7920" cy="1312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253040" y="596268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260960" y="5962680"/>
            <a:ext cx="1542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3920" y="4649760"/>
            <a:ext cx="7920" cy="1312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803920" y="596268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811840" y="5962680"/>
            <a:ext cx="33955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9207360" y="4649760"/>
            <a:ext cx="7920" cy="1312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9207360" y="596268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9207360" y="596268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587960" y="596592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EFD4-2012-4DBD-9293-E871CDB4189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221304"/>
                </a:solidFill>
                <a:latin typeface="Times New Roman"/>
              </a:rPr>
              <a:t>Transakcijų IS (</a:t>
            </a: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TPS</a:t>
            </a:r>
            <a:r>
              <a:rPr b="0" lang="lt-LT" sz="3200" spc="-1" strike="noStrike">
                <a:solidFill>
                  <a:srgbClr val="221304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 ir </a:t>
            </a:r>
            <a:r>
              <a:rPr b="0" lang="lt-LT" sz="3200" spc="-1" strike="noStrike">
                <a:solidFill>
                  <a:srgbClr val="221304"/>
                </a:solidFill>
                <a:latin typeface="Times New Roman"/>
              </a:rPr>
              <a:t>valdymo IS (</a:t>
            </a: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MIS</a:t>
            </a:r>
            <a:r>
              <a:rPr b="0" lang="lt-LT" sz="3200" spc="-1" strike="noStrike">
                <a:solidFill>
                  <a:srgbClr val="221304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155240" y="1447920"/>
            <a:ext cx="8255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PS ir MIS yra skirstomos pagal funkcines srit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ardavimo ir marketingo TPS (ir MI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gamybos valdymo TPS (ir MI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3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finansų ir apskaitos TPS (ir MI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4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ersonalo valdymo TPS (ir MI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5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riklausomai nuo pramonės ti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79C1-8B7B-4BEA-A7D1-5FF53A89F62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221304"/>
                </a:solidFill>
                <a:latin typeface="Times New Roman"/>
              </a:rPr>
              <a:t>Ž</a:t>
            </a:r>
            <a:r>
              <a:rPr b="1" lang="lt-LT" sz="4400" spc="-1" strike="noStrike">
                <a:solidFill>
                  <a:srgbClr val="221304"/>
                </a:solidFill>
                <a:latin typeface="Times New Roman"/>
                <a:ea typeface="Arial Unicode MS"/>
              </a:rPr>
              <a:t>ini</a:t>
            </a:r>
            <a:r>
              <a:rPr b="1" lang="lt-LT" sz="4400" spc="-1" strike="noStrike">
                <a:solidFill>
                  <a:srgbClr val="221304"/>
                </a:solidFill>
                <a:latin typeface="Times New Roman"/>
              </a:rPr>
              <a:t>ų</a:t>
            </a:r>
            <a:r>
              <a:rPr b="1" lang="lt-LT" sz="4400" spc="-1" strike="noStrike">
                <a:solidFill>
                  <a:srgbClr val="221304"/>
                </a:solidFill>
                <a:latin typeface="Times New Roman"/>
                <a:ea typeface="Arial Unicode MS"/>
              </a:rPr>
              <a:t> IS </a:t>
            </a:r>
            <a:r>
              <a:rPr b="1" lang="lt-LT" sz="4400" spc="-1" strike="noStrike">
                <a:solidFill>
                  <a:srgbClr val="221304"/>
                </a:solidFill>
                <a:latin typeface="Times New Roman"/>
              </a:rPr>
              <a:t>(</a:t>
            </a:r>
            <a:r>
              <a:rPr b="1" lang="lt-LT" sz="4400" spc="-1" strike="noStrike">
                <a:solidFill>
                  <a:srgbClr val="221304"/>
                </a:solidFill>
                <a:latin typeface="Times New Roman"/>
                <a:ea typeface="Arial Unicode MS"/>
              </a:rPr>
              <a:t>KWS</a:t>
            </a:r>
            <a:r>
              <a:rPr b="1" lang="lt-LT" sz="4400" spc="-1" strike="noStrike">
                <a:solidFill>
                  <a:srgbClr val="221304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kirtos darbuotojams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, tvarkantiems veiklos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žini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as (pvz., naujų gaminių ar technologijų projektuotojai)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NN – dirbtiniai neuroniniai tinklai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- ekspertinė sistem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52A7-3756-4E02-85EB-496067A3D61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221304"/>
                </a:solidFill>
                <a:latin typeface="Times New Roman"/>
              </a:rPr>
              <a:t>IS Integravimas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3549600" y="1676520"/>
            <a:ext cx="3219120" cy="2285640"/>
            <a:chOff x="3549600" y="1676520"/>
            <a:chExt cx="3219120" cy="2285640"/>
          </a:xfrm>
        </p:grpSpPr>
        <p:sp>
          <p:nvSpPr>
            <p:cNvPr id="416" name=""/>
            <p:cNvSpPr/>
            <p:nvPr/>
          </p:nvSpPr>
          <p:spPr>
            <a:xfrm>
              <a:off x="4787640" y="1676520"/>
              <a:ext cx="74304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SS (EI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549600" y="2019240"/>
              <a:ext cx="74268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I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549600" y="2819520"/>
              <a:ext cx="74268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KW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787640" y="3390840"/>
              <a:ext cx="74304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026040" y="2819520"/>
              <a:ext cx="74268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PS funk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026040" y="2019240"/>
              <a:ext cx="74268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flipV="1">
              <a:off x="5530320" y="2018880"/>
              <a:ext cx="4950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4292280" y="2018880"/>
              <a:ext cx="4950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4044600" y="247644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796920" y="247644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 flipV="1">
              <a:off x="4168440" y="3276720"/>
              <a:ext cx="61884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5530680" y="3276720"/>
              <a:ext cx="61920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6397560" y="259092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 flipV="1">
              <a:off x="5283000" y="2247840"/>
              <a:ext cx="74304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 flipV="1">
              <a:off x="4168440" y="2361600"/>
              <a:ext cx="18572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4292280" y="3048120"/>
              <a:ext cx="173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292280" y="2361960"/>
              <a:ext cx="173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1155600" y="3809880"/>
            <a:ext cx="87505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IS – administravimo 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IS – vadybos I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SS – sprendimo priėmimo I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PS – transakcijų (funkcinė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AS – ofiso automatizavimo sistemo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KWS – žinių sistemos (pvz., kompiuterizuoto projektavimo CAD sistem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4018-551B-4904-8BF8-8ABB08BFCC5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1304"/>
                </a:solidFill>
                <a:latin typeface="Times New Roman"/>
              </a:rPr>
              <a:t>Informacijos sistem</a:t>
            </a:r>
            <a:r>
              <a:rPr b="1" lang="lt-LT" sz="3600" spc="-1" strike="noStrike">
                <a:solidFill>
                  <a:srgbClr val="221304"/>
                </a:solidFill>
                <a:latin typeface="Times New Roman"/>
              </a:rPr>
              <a:t>ų klasifikavimas pagal integravimo laipsnį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38400" y="1676520"/>
            <a:ext cx="825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aikomosios sistemos gamybos veiklai valdyt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tskiroms funkcijoms kompiuterizuoti; šios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buvo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ažai susijusi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tarpusavyje, pvz., įrenginių kontrolės IS , gamybos planavimo IS, sandėliavimo apskaitos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RP - materialių resursų planavimo siste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 integruoja atskiras funkcines gamybos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3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RP II – gamybos resursų planavimo I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4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IM – integruotos gamybos sistemos (stambesnė už MRP I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5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RP – įmonės resursų planavimo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rporganizacinės IS, kurios plečia ERP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galimybe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FFE1-600E-4096-BCDA-C8F0A54B02C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221304"/>
                </a:solidFill>
                <a:latin typeface="Times New Roman"/>
              </a:rPr>
              <a:t>IS evoliucija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X a. 5 d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mtmetis- sukurta pirmoji verslui skirta programinė įran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XXa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 d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mtmetis- sukurta pirmoji verslo IS, kuri galėjo atlikti elementarius skaičiavimus, prognozes, ataskaitas ir k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XXa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 d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mtmetis- staigi verslo IS plėtra panaudojant elektronines telekomunikacijas (bilietų rezervavimo sistemos ir kt.), taip pat prasidėjo sprendimų priėmimo sistemų vystymas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 d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mtmetis- dirbtinio intelekto ir ekspertinių sistemų plėt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F281-ED90-4D84-8C32-DF99EDFC2D5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IS kūrimo proceso gyvavimo ciklų modeliai</a:t>
            </a:r>
            <a:br>
              <a:rPr sz="3600"/>
            </a:b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Tradicinis  (top-down) arba “krioklio tipo” GC,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kirt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truktūrinei-funkcinei IS inžinerija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bjektinis (bottom-up) arba “fontano” tipo GC, skirtas realizuoti OO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S inžinerijos metod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3.Iteracinis GC (spiral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 tipo), realizuojantis evoliucinį IS 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ū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i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4.Lygiagretusis GC, taikomas dideliems projektams, kuriuos vykdo didel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projektavimo koman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5.SCRUM metodas, kurio privalumas - leid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a keisti reikalavimus IS kiekviename projektavimo etape bet kuriuo moment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0C11-0700-40A5-9230-73C3170938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IS kūrimo proceso gyvavimo ciklų modeliai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uo metu yra sukurta daug (virš 50) CASE paketų, kiekvienas realizuoja savo gyvavimo ciklo modelį, kuris kažkuo skiriasi nuo kitų sistemų GC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vyzdžiui, CASE sistema “Rational Rose”  grindžiama gyvavimo ciklu, kuris vadinamas 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P – Rational Unified Process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7616-FD46-4552-A06B-6AAFDBFF1A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255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1304"/>
                </a:solidFill>
                <a:latin typeface="Times New Roman"/>
              </a:rPr>
              <a:t>Tradicinis </a:t>
            </a:r>
            <a:r>
              <a:rPr b="1" lang="lt-LT" sz="2400" spc="-1" strike="noStrike">
                <a:solidFill>
                  <a:srgbClr val="221304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221304"/>
                </a:solidFill>
                <a:latin typeface="Times New Roman"/>
              </a:rPr>
              <a:t>krioklio tipo</a:t>
            </a:r>
            <a:r>
              <a:rPr b="1" lang="lt-LT" sz="2400" spc="-1" strike="noStrike">
                <a:solidFill>
                  <a:srgbClr val="221304"/>
                </a:solidFill>
                <a:latin typeface="Times New Roman"/>
              </a:rPr>
              <a:t>”</a:t>
            </a:r>
            <a:r>
              <a:rPr b="1" lang="en-US" sz="2400" spc="-1" strike="noStrike">
                <a:solidFill>
                  <a:srgbClr val="221304"/>
                </a:solidFill>
                <a:latin typeface="Times New Roman"/>
              </a:rPr>
              <a:t> IS k</a:t>
            </a:r>
            <a:r>
              <a:rPr b="1" lang="lt-LT" sz="2400" spc="-1" strike="noStrike">
                <a:solidFill>
                  <a:srgbClr val="221304"/>
                </a:solidFill>
                <a:latin typeface="Times New Roman"/>
              </a:rPr>
              <a:t>ū</a:t>
            </a:r>
            <a:r>
              <a:rPr b="1" lang="en-US" sz="2400" spc="-1" strike="noStrike">
                <a:solidFill>
                  <a:srgbClr val="221304"/>
                </a:solidFill>
                <a:latin typeface="Times New Roman"/>
              </a:rPr>
              <a:t>rimo </a:t>
            </a:r>
            <a:r>
              <a:rPr b="1" lang="lt-LT" sz="2400" spc="-1" strike="noStrike">
                <a:solidFill>
                  <a:srgbClr val="221304"/>
                </a:solidFill>
                <a:latin typeface="Times New Roman"/>
              </a:rPr>
              <a:t>gyvavimo ciklas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7146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72040" y="782640"/>
            <a:ext cx="2505240" cy="30636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14760" y="870120"/>
            <a:ext cx="1613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Vartotojo reikalavimų analizė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72040" y="1243080"/>
            <a:ext cx="2505240" cy="30780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1330200"/>
            <a:ext cx="2036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Vartotojo reikalavimų specifikavi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1676520"/>
            <a:ext cx="2505240" cy="50616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10000" y="1712880"/>
            <a:ext cx="195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eikalavimų </a:t>
            </a:r>
            <a:r>
              <a:rPr b="0" lang="lt-LT" sz="10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ograminei įranga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64400" y="1870200"/>
            <a:ext cx="823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pecifikavi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72040" y="2438280"/>
            <a:ext cx="2505240" cy="49536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57680" y="2514600"/>
            <a:ext cx="136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istemos (architektūro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62400" y="2666880"/>
            <a:ext cx="2076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ojektavimas (loginis projektavima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72040" y="3087720"/>
            <a:ext cx="2505240" cy="49356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10640" y="3097080"/>
            <a:ext cx="198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ogramų (detalusis) projektavi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641560" y="3254400"/>
            <a:ext cx="1216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(fizinis projektavima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72040" y="4008600"/>
            <a:ext cx="2505240" cy="30924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86400" y="4097160"/>
            <a:ext cx="1497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ealizavimas (Kodavima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72040" y="4471920"/>
            <a:ext cx="2505240" cy="30636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35840" y="4481640"/>
            <a:ext cx="193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ogramų testavimas: atskirų dalių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987520" y="4637160"/>
            <a:ext cx="605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estavi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72040" y="4932360"/>
            <a:ext cx="2505240" cy="30636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94080" y="5019840"/>
            <a:ext cx="2024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ogramų testavimas: IS testavi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72040" y="5392800"/>
            <a:ext cx="2505240" cy="30780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49560" y="5479920"/>
            <a:ext cx="1026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S eksploatavi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072040" y="5853240"/>
            <a:ext cx="2505240" cy="30960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883480" y="5942160"/>
            <a:ext cx="786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S palaiky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08720" y="1089000"/>
            <a:ext cx="144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69120" y="1136520"/>
            <a:ext cx="75960" cy="106560"/>
          </a:xfrm>
          <a:custGeom>
            <a:avLst/>
            <a:gdLst/>
            <a:ahLst/>
            <a:rect l="l" t="t" r="r" b="b"/>
            <a:pathLst>
              <a:path w="48" h="67">
                <a:moveTo>
                  <a:pt x="48" y="0"/>
                </a:moveTo>
                <a:lnTo>
                  <a:pt x="25" y="67"/>
                </a:lnTo>
                <a:lnTo>
                  <a:pt x="0" y="0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08720" y="1550880"/>
            <a:ext cx="144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69120" y="1600200"/>
            <a:ext cx="75960" cy="103320"/>
          </a:xfrm>
          <a:custGeom>
            <a:avLst/>
            <a:gdLst/>
            <a:ahLst/>
            <a:rect l="l" t="t" r="r" b="b"/>
            <a:pathLst>
              <a:path w="48" h="65">
                <a:moveTo>
                  <a:pt x="48" y="0"/>
                </a:moveTo>
                <a:lnTo>
                  <a:pt x="25" y="65"/>
                </a:lnTo>
                <a:lnTo>
                  <a:pt x="0" y="0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08720" y="2933640"/>
            <a:ext cx="144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369120" y="2981160"/>
            <a:ext cx="75960" cy="106560"/>
          </a:xfrm>
          <a:custGeom>
            <a:avLst/>
            <a:gdLst/>
            <a:ahLst/>
            <a:rect l="l" t="t" r="r" b="b"/>
            <a:pathLst>
              <a:path w="48" h="67">
                <a:moveTo>
                  <a:pt x="48" y="0"/>
                </a:moveTo>
                <a:lnTo>
                  <a:pt x="25" y="67"/>
                </a:lnTo>
                <a:lnTo>
                  <a:pt x="0" y="0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08720" y="4317840"/>
            <a:ext cx="1440" cy="55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369120" y="4365720"/>
            <a:ext cx="75960" cy="106200"/>
          </a:xfrm>
          <a:custGeom>
            <a:avLst/>
            <a:gdLst/>
            <a:ahLst/>
            <a:rect l="l" t="t" r="r" b="b"/>
            <a:pathLst>
              <a:path w="48" h="67">
                <a:moveTo>
                  <a:pt x="48" y="0"/>
                </a:moveTo>
                <a:lnTo>
                  <a:pt x="25" y="67"/>
                </a:lnTo>
                <a:lnTo>
                  <a:pt x="0" y="0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08720" y="4778280"/>
            <a:ext cx="144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69120" y="4826160"/>
            <a:ext cx="75960" cy="106200"/>
          </a:xfrm>
          <a:custGeom>
            <a:avLst/>
            <a:gdLst/>
            <a:ahLst/>
            <a:rect l="l" t="t" r="r" b="b"/>
            <a:pathLst>
              <a:path w="48" h="67">
                <a:moveTo>
                  <a:pt x="48" y="0"/>
                </a:moveTo>
                <a:lnTo>
                  <a:pt x="25" y="67"/>
                </a:lnTo>
                <a:lnTo>
                  <a:pt x="0" y="0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408720" y="5238720"/>
            <a:ext cx="144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69120" y="5289480"/>
            <a:ext cx="75960" cy="103320"/>
          </a:xfrm>
          <a:custGeom>
            <a:avLst/>
            <a:gdLst/>
            <a:ahLst/>
            <a:rect l="l" t="t" r="r" b="b"/>
            <a:pathLst>
              <a:path w="48" h="65">
                <a:moveTo>
                  <a:pt x="48" y="0"/>
                </a:moveTo>
                <a:lnTo>
                  <a:pt x="25" y="65"/>
                </a:lnTo>
                <a:lnTo>
                  <a:pt x="0" y="0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08720" y="5700600"/>
            <a:ext cx="144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69120" y="5749920"/>
            <a:ext cx="75960" cy="103320"/>
          </a:xfrm>
          <a:custGeom>
            <a:avLst/>
            <a:gdLst/>
            <a:ahLst/>
            <a:rect l="l" t="t" r="r" b="b"/>
            <a:pathLst>
              <a:path w="48" h="65">
                <a:moveTo>
                  <a:pt x="48" y="0"/>
                </a:moveTo>
                <a:lnTo>
                  <a:pt x="25" y="65"/>
                </a:lnTo>
                <a:lnTo>
                  <a:pt x="0" y="0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408720" y="5950080"/>
            <a:ext cx="1335240" cy="366480"/>
          </a:xfrm>
          <a:custGeom>
            <a:avLst/>
            <a:gdLst/>
            <a:ahLst/>
            <a:rect l="l" t="t" r="r" b="b"/>
            <a:pathLst>
              <a:path w="841" h="231">
                <a:moveTo>
                  <a:pt x="0" y="134"/>
                </a:moveTo>
                <a:lnTo>
                  <a:pt x="0" y="231"/>
                </a:lnTo>
                <a:lnTo>
                  <a:pt x="841" y="231"/>
                </a:lnTo>
                <a:lnTo>
                  <a:pt x="841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07240" y="5853240"/>
            <a:ext cx="76320" cy="106200"/>
          </a:xfrm>
          <a:custGeom>
            <a:avLst/>
            <a:gdLst/>
            <a:ahLst/>
            <a:rect l="l" t="t" r="r" b="b"/>
            <a:pathLst>
              <a:path w="48" h="67">
                <a:moveTo>
                  <a:pt x="0" y="67"/>
                </a:moveTo>
                <a:lnTo>
                  <a:pt x="23" y="0"/>
                </a:lnTo>
                <a:lnTo>
                  <a:pt x="48" y="67"/>
                </a:lnTo>
                <a:lnTo>
                  <a:pt x="0" y="6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67200" y="843120"/>
            <a:ext cx="1001520" cy="86040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33960" y="1208160"/>
            <a:ext cx="41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alizė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67200" y="1857240"/>
            <a:ext cx="1001520" cy="199872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27320" y="2790720"/>
            <a:ext cx="794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ojektavi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67200" y="4008600"/>
            <a:ext cx="1001520" cy="215424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41720" y="4267080"/>
            <a:ext cx="8967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nstravimas</a:t>
            </a:r>
            <a:r>
              <a:rPr b="0" lang="lt-LT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Arial"/>
              </a:rPr>
              <a:t>(Taikomosios programinės įrangos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68680" y="1703520"/>
            <a:ext cx="1440" cy="568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32320" y="1752480"/>
            <a:ext cx="75960" cy="104760"/>
          </a:xfrm>
          <a:custGeom>
            <a:avLst/>
            <a:gdLst/>
            <a:ahLst/>
            <a:rect l="l" t="t" r="r" b="b"/>
            <a:pathLst>
              <a:path w="48" h="66">
                <a:moveTo>
                  <a:pt x="48" y="0"/>
                </a:moveTo>
                <a:lnTo>
                  <a:pt x="23" y="66"/>
                </a:lnTo>
                <a:lnTo>
                  <a:pt x="0" y="0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68680" y="3855960"/>
            <a:ext cx="144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2320" y="3905280"/>
            <a:ext cx="75960" cy="103320"/>
          </a:xfrm>
          <a:custGeom>
            <a:avLst/>
            <a:gdLst/>
            <a:ahLst/>
            <a:rect l="l" t="t" r="r" b="b"/>
            <a:pathLst>
              <a:path w="48" h="65">
                <a:moveTo>
                  <a:pt x="48" y="0"/>
                </a:moveTo>
                <a:lnTo>
                  <a:pt x="23" y="65"/>
                </a:lnTo>
                <a:lnTo>
                  <a:pt x="0" y="0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1031760"/>
            <a:ext cx="1440" cy="4222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32400" y="936720"/>
            <a:ext cx="75960" cy="102960"/>
          </a:xfrm>
          <a:custGeom>
            <a:avLst/>
            <a:gdLst/>
            <a:ahLst/>
            <a:rect l="l" t="t" r="r" b="b"/>
            <a:pathLst>
              <a:path w="48" h="65">
                <a:moveTo>
                  <a:pt x="0" y="65"/>
                </a:moveTo>
                <a:lnTo>
                  <a:pt x="25" y="0"/>
                </a:lnTo>
                <a:lnTo>
                  <a:pt x="48" y="65"/>
                </a:lnTo>
                <a:lnTo>
                  <a:pt x="0" y="6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32400" y="1446120"/>
            <a:ext cx="75960" cy="104760"/>
          </a:xfrm>
          <a:custGeom>
            <a:avLst/>
            <a:gdLst/>
            <a:ahLst/>
            <a:rect l="l" t="t" r="r" b="b"/>
            <a:pathLst>
              <a:path w="48" h="66">
                <a:moveTo>
                  <a:pt x="48" y="0"/>
                </a:moveTo>
                <a:lnTo>
                  <a:pt x="25" y="66"/>
                </a:lnTo>
                <a:lnTo>
                  <a:pt x="0" y="0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4349520" y="1203120"/>
            <a:ext cx="15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1954080"/>
            <a:ext cx="1440" cy="1805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32400" y="1857240"/>
            <a:ext cx="75960" cy="106560"/>
          </a:xfrm>
          <a:custGeom>
            <a:avLst/>
            <a:gdLst/>
            <a:ahLst/>
            <a:rect l="l" t="t" r="r" b="b"/>
            <a:pathLst>
              <a:path w="48" h="67">
                <a:moveTo>
                  <a:pt x="0" y="67"/>
                </a:moveTo>
                <a:lnTo>
                  <a:pt x="25" y="0"/>
                </a:lnTo>
                <a:lnTo>
                  <a:pt x="48" y="67"/>
                </a:lnTo>
                <a:lnTo>
                  <a:pt x="0" y="6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32400" y="3751200"/>
            <a:ext cx="75960" cy="104760"/>
          </a:xfrm>
          <a:custGeom>
            <a:avLst/>
            <a:gdLst/>
            <a:ahLst/>
            <a:rect l="l" t="t" r="r" b="b"/>
            <a:pathLst>
              <a:path w="48" h="66">
                <a:moveTo>
                  <a:pt x="48" y="0"/>
                </a:moveTo>
                <a:lnTo>
                  <a:pt x="25" y="66"/>
                </a:lnTo>
                <a:lnTo>
                  <a:pt x="0" y="0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4299120" y="277236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Ka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00800" y="2209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00800" y="3581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E9D9-3475-4CE2-8326-1EF2DF80981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221304"/>
                </a:solidFill>
                <a:latin typeface="Times New Roman"/>
              </a:rPr>
              <a:t>IS </a:t>
            </a:r>
            <a:r>
              <a:rPr b="1" i="1" lang="en-US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GC etap</a:t>
            </a:r>
            <a:r>
              <a:rPr b="1" i="1" lang="lt-LT" sz="4400" spc="-1" strike="noStrike">
                <a:solidFill>
                  <a:srgbClr val="221304"/>
                </a:solidFill>
                <a:latin typeface="Times New Roman"/>
              </a:rPr>
              <a:t>ų</a:t>
            </a:r>
            <a:r>
              <a:rPr b="1" i="1" lang="en-US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pavadinimai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totojo reikalavimų analiz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totojo reikalavimų specifikav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ikalavimų programinei įrangai specifikav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stemos (architektūros) projektavimas (loginis projektavim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ų (detalusis) projektavimas (fizinis projektavim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izavimas (Kodavim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ų testavimas: atskirų dalių testav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ų testavimas: IS testav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eksploatav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palaiky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FD36-A6E0-4E22-B496-00760854367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221304"/>
                </a:solidFill>
                <a:latin typeface="Times New Roman"/>
              </a:rPr>
              <a:t>Tradicinio IS GC trūkumai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kūrimo metu neatsižvelgiama į evoliucinius (kompiuterizuojamos sistemos) pakitim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ktuojant šiuo metodu (“iš viršaus žemyn” – top down),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S siejama su veikl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unkcij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omis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i labai abejotinas dalyk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 nes jos nuolat kin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ktuojant metodu “iš viršaus žemyn” yra atlie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 funkcinė dekompozicija, duomenų struktūrų aspektas užmirštamas, kartais visiška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ėl paminėtų priežasčių struktūrinis-funkcinis IS 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jektavi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o būd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iš viršaus žemyn”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etinka siekiant sukurti pakartotino panaudojimo programinę įrangą (reusability)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D78C-01E2-4BF2-8F74-ACA808ACCF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Spiralės </a:t>
            </a:r>
            <a:r>
              <a:rPr b="0" lang="lt-LT" sz="4400" spc="-1" strike="noStrike">
                <a:solidFill>
                  <a:srgbClr val="221304"/>
                </a:solidFill>
                <a:latin typeface="Times New Roman"/>
              </a:rPr>
              <a:t>tipo GC 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modelis</a:t>
            </a: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71840" y="24717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752480" y="1371600"/>
            <a:ext cx="6934320" cy="448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A84A-BD61-4A15-959C-5A7B5A9A45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221304"/>
                </a:solidFill>
                <a:latin typeface="Times New Roman"/>
              </a:rPr>
              <a:t>Spiralės tipo GC trūkumai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•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iekada nesibaigiantys projektai 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kadangi "spiralės" modeliui būdingas nuolatinis tų pačių programos funkcijų peržiūrėjimas ir tobulinimas, o tobulinimui ribų nėra, atsiranda rizika, jog projektas niekada nesibaigs, jei jam nenustatytas termina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•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ežinomi kaštai 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daugeliu atvejų neaišku, kiek iteracijų reikės praeiti, kol projektas bus galutinai įgyvendintas, todėl praktiškai neįmanoma apskaičiuoti jo trukmės ir kaštų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5089-626A-47EB-B8B5-F751917386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47:31Z</dcterms:created>
  <dc:creator>Rasa</dc:creator>
  <dc:description/>
  <dc:language>en-US</dc:language>
  <cp:lastModifiedBy>Saulius</cp:lastModifiedBy>
  <cp:lastPrinted>2002-08-27T15:34:20Z</cp:lastPrinted>
  <dcterms:modified xsi:type="dcterms:W3CDTF">2002-09-18T06:01:05Z</dcterms:modified>
  <cp:revision>81</cp:revision>
  <dc:subject/>
  <dc:title>Informacinės sistemos gamybos valdymui  IT apibrėžimas ir klasifikacija</dc:title>
</cp:coreProperties>
</file>