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953-9448-4EB0-92FE-7F3AB0DE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B45-EA67-40AB-BC65-491F0C6E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A2B-5656-4E5B-8BC8-E84F6BD0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699-7B60-4502-B57F-1C2589B6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CED0-4969-467A-A3F7-AA2E1C25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D957-BE65-4DFE-A8AF-04F3C092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178B-82B7-4D08-A813-09FB82E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331B-FBF2-43F8-BD89-AB541E46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47DC-3246-4365-8DFE-14DBC43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C35C-88E1-4B34-B4D0-31BFB2A3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C1DF-015F-4379-BEE6-F028EAD8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128-B295-4088-A9F3-83F56F2F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D042-246E-4BE4-9A27-1BFD7673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1D7-6514-49F3-8CBA-4F302172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19D4-0164-4CF0-BC78-D67CCE0F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889B-B94F-4426-BA9E-FB2FCBCD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6FBE-0CE2-42AA-A53F-C6F15387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AAB-09D8-4DDE-945B-BD7A9A6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511-4AFD-45A7-A89B-A1310B0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84F-23C3-497E-AAC6-972288A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DF0-AEC7-4BB1-B3D7-575D58B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4E1-CC5C-4C30-B70A-2DB5493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100-08C6-4A99-891F-42F59260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3EF-D1E0-451B-B1BD-F157D3A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2EE-7532-4B2D-9A79-0F2E9CBE7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2612-37BF-458D-8067-29D92ACC9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karai.lt/klientam/tinklai/teorija/111.htm" TargetMode="External"/><Relationship Id="rId2" Type="http://schemas.openxmlformats.org/officeDocument/2006/relationships/hyperlink" Target="http://www.vakarai.lt/klientam/tinklai/teorija/111.htm" TargetMode="External"/><Relationship Id="rId3" Type="http://schemas.openxmlformats.org/officeDocument/2006/relationships/hyperlink" Target="http://www.vakarai.lt/klientam/tinklai/teorija/112.htm" TargetMode="External"/><Relationship Id="rId4" Type="http://schemas.openxmlformats.org/officeDocument/2006/relationships/hyperlink" Target="http://www.vakarai.lt/klientam/tinklai/teorija/11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 IR 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1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5040000"/>
            <a:ext cx="8153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aulius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n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žinerijos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7760" y="21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1523880"/>
          <a:ext cx="75438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75438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8AB-2C9D-48C9-AC08-D9D06D89AD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8400" y="294840"/>
            <a:ext cx="8462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ų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inžiner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iu požiūriu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chnical approaches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vystymuisi turi įtakos informatika (computer science), operacijų tyrimas, vadybos moks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gsenos požiū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al approache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grinėja IS kūrimo ir IS eksploatavimo (palaikym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us. Svarbiausios problemos yra strateginis veiklos integravimas,  veiklos kompiuterizavimo IS projektavimas ir realizavimas, kompiuterizuoti vadybos procesai. Šių veiklos sričių modelių kompiuterizavimas  grindžiamas techninio požiūrio modeliais ir metodai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rečias požiūris į IS vietą organizacijos veiklo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ociotechnologinis požiūris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049-158D-4AC6-864B-8933428B0D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5600" y="380880"/>
            <a:ext cx="8255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rganizacijos dal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ų sąsaja su IT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1371600"/>
            <a:ext cx="825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5 pag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dinė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dal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m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ą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orm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us į aplinkos poveik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uktūra ir bendroji kul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ateg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ybos ir biznio (verslo) proces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vidai ir jų ro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formacinė technologija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3886200"/>
            <a:ext cx="4038480" cy="2133720"/>
            <a:chOff x="5257800" y="3886200"/>
            <a:chExt cx="4038480" cy="2133720"/>
          </a:xfrm>
        </p:grpSpPr>
        <p:sp>
          <p:nvSpPr>
            <p:cNvPr id="119" name=""/>
            <p:cNvSpPr/>
            <p:nvPr/>
          </p:nvSpPr>
          <p:spPr>
            <a:xfrm>
              <a:off x="5257800" y="4739760"/>
              <a:ext cx="384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192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16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654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2280" y="409932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832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24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0404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9680" y="388620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968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38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76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1180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2280" y="4953240"/>
              <a:ext cx="7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8320" y="4953240"/>
              <a:ext cx="5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2480" y="495324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5593320"/>
              <a:ext cx="4038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96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38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98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040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C34-DB6E-4376-B1A4-5EA855714E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T apibūd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560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u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macin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 dalis: techninė įranga, DB valdymo sistema, kompiuterinis tinklas, sisteminė program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kit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ąja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rganizacijos techninė, komun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rogram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uri atitikti veiklos sričių poreikius. Atsiradus naujoms veiklos problemoms ar pasikeitus veiklos pobūdžiui, seni IT sprendimai turi būti modifik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1F7-0673-4EF1-B27D-C6FAA18AE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IT dal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1752480"/>
            <a:ext cx="8255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organizacijos IT skirstoma į dal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nės sistemos,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os pirmavimui konkurencinėje kovoj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tinio veiklos tobulinimo darb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ų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o reinžiner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PR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yst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ktroni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c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yra viena iš organizacijos IT sudedamųjų dalių. Efektyvus veiklos sričių tvarkymas gali būti tik įdiegus atitinkamos paskirtie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F56-D95B-4936-98E2-6C077DF0BF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998720"/>
            <a:ext cx="8915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KOMPONENT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tai veiklos problemos, duomenys, nurodymai, galimyb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doroji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ai programos, įranga (technika), žmonės,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š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ataskaitos, grafikai, skaičiavimo rezultatai, sprendim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ldym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yvauja sprendimą priimantys asmen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90720" y="1219320"/>
            <a:ext cx="8048160" cy="2412360"/>
            <a:chOff x="990720" y="1219320"/>
            <a:chExt cx="8048160" cy="2412360"/>
          </a:xfrm>
        </p:grpSpPr>
        <p:sp>
          <p:nvSpPr>
            <p:cNvPr id="147" name=""/>
            <p:cNvSpPr/>
            <p:nvPr/>
          </p:nvSpPr>
          <p:spPr>
            <a:xfrm>
              <a:off x="990720" y="1219320"/>
              <a:ext cx="10058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į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0240" y="2942640"/>
              <a:ext cx="1508760" cy="6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valdy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81400" y="1219320"/>
              <a:ext cx="125748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iš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7320" y="1219320"/>
              <a:ext cx="20120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pdoroji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6560" y="1563840"/>
              <a:ext cx="17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360" y="1563840"/>
              <a:ext cx="20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69000" y="1908720"/>
              <a:ext cx="251532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014800" y="1908720"/>
              <a:ext cx="0" cy="10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3280" y="1908360"/>
              <a:ext cx="276660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138480" y="3808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yra IS funkciniu požiūri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88F-E66B-4954-864C-B52E906A5F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5240" y="380880"/>
            <a:ext cx="8255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37160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 tenden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nant kainos efektyvumo 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ai vis labiau pirmaus prieš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aus darb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s labiau dominuos draugišk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ui interfeisai (kalba, vaizdas ir k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ugojimo įreng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lpa labai iša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augy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ehou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Jose bus saugoj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 visi veiklos duomeny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rabai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ai išaugs daugialypių t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multimedijos) panaudoj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diegi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ntelektualios sist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r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bjektiškai orientuotas (OO) programavima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ys kompiuteriai bus dar labiau kompaktiš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2DA-7AC3-4385-B422-BA099CF1BD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3160" y="0"/>
            <a:ext cx="82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0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3160" y="1447920"/>
            <a:ext cx="852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osi skaičiavim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iuterių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pagrįstos sistemos, kurių technologinis pagrindas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/server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T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rauja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labiau įsig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ernešami ko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bas namuose su k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ut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perspektyvi s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rneto reikš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naudojimas išaugs. Bus sukurtas informacijos supergreitke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ranetas taps vyraujančia tinklo sistema organizacij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stysis elektroninė komercija iš es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keisdam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ganizacijų veiklo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lektu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rograminiai agentai (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re ag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naršys d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azes taupydami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ai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CDC-14D9-4D1B-BCF8-1C91EAEAF9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ai tinkla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r informaci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jos sistem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us IS vaidmuo organizacijos veikloje yra paaiškinamas išaugusiu skaičiavimo technikos (techninės ir programinės įrangų) galingu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 kainos mažėjim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iuterinių sistemų pajėg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 išau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iradus kompiuterių tinklams.  Jie susiejo skirtingas darbo vietas, įgalino bendrai naudotis vieninga duomenų baze, paskirstyti informaciją pagal darbo vietų poreiki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turėjo įtakos organizacijų struktūrų pokyčiams, veiklos formoms ir metod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2D4-7F90-4DED-8942-7A2BC031B8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ų tinklų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mpiuterinių tinklų topologij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Bendros magistral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 (Bus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Žvaigžd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 (Star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edo (Ring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(Tre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u kiekvienu (Mesh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66F-A30C-44F1-8415-D66F200483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4160" y="580680"/>
            <a:ext cx="9356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forma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sistema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nka, apdoroja, saugo, analizuoja ir paskirsto informaciją, turinčią konkrečią paskir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rganizacijos veikl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or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omenis) 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formuoja iš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askaitas, 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vestin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uos nusiunčia vartotojui arba kit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veikia tam tikroje aplink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organizacinėje aplinkoje, technologinėje aplink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sistemos yra informacinės technologijos, įdiegtos organizacijoje, dali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38F-1ED6-4F75-9F73-B07E41A031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agistral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0524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111a" descr=""/>
          <p:cNvPicPr/>
          <p:nvPr/>
        </p:nvPicPr>
        <p:blipFill>
          <a:blip r:embed="rId1"/>
          <a:stretch/>
        </p:blipFill>
        <p:spPr>
          <a:xfrm>
            <a:off x="2063880" y="1371600"/>
            <a:ext cx="5448240" cy="1341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111b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467160" cy="320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11c" descr=""/>
          <p:cNvPicPr/>
          <p:nvPr/>
        </p:nvPicPr>
        <p:blipFill>
          <a:blip r:embed="rId3"/>
          <a:stretch/>
        </p:blipFill>
        <p:spPr>
          <a:xfrm>
            <a:off x="5410080" y="2895480"/>
            <a:ext cx="354960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179-1177-41BF-B4D3-13A0849DA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vaigždė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8560" y="2676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112a" descr="star topology picture"/>
          <p:cNvPicPr/>
          <p:nvPr/>
        </p:nvPicPr>
        <p:blipFill>
          <a:blip r:embed="rId1"/>
          <a:stretch/>
        </p:blipFill>
        <p:spPr>
          <a:xfrm>
            <a:off x="1238400" y="1752480"/>
            <a:ext cx="371448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112b" descr=""/>
          <p:cNvPicPr/>
          <p:nvPr/>
        </p:nvPicPr>
        <p:blipFill>
          <a:blip r:embed="rId2"/>
          <a:stretch/>
        </p:blipFill>
        <p:spPr>
          <a:xfrm>
            <a:off x="5448240" y="1600200"/>
            <a:ext cx="388008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9F1-5E84-45FE-A196-0C53AE828E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iedo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6880" y="27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90920" y="1828800"/>
          <a:ext cx="47242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47242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AF6-170E-476E-A66B-E57C3D62EF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Mesh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27097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9440" y="2133720"/>
          <a:ext cx="438120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438120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E97-BCE3-4F3F-972C-F2A294BEC4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S klasifikavima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 gali būti klasifikuojama pa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nės struktūros lygme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unkcines veiklos s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zuojamo proceso (pagalbos) pobūd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stemos architektūr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eiklos, kuri kompiuterizuojama, valdymo lygmen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584-CD19-4FA5-AB38-4E38323DF8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8040" y="685440"/>
            <a:ext cx="8057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S klasifikacija pagal organizacinės struktūros lygmeni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alin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dažniausiai būna skirta tik konkrečią funkciją atliekančiam padaliniui, pvz., žmogiškųjų išteklių valdymo IS skirta personalo skyri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ganizacij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skirta kelių arba visų organizacijos padalinių funkcijų kompiuteriz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organizacinės 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i sudėtingos IS, kompiuterizuojanti kelių organizacijų veiklos procesus ar funkcijas, pvz.: pasaulinė aviabilietų rezervavimo siste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13A-6A2F-4A8E-9324-F25CBB7C95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veiklos 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unkcines srit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25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skaitos 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apskaitos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an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finansų valdym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yb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gamybos procesus, jų valdymą ir kontrol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keting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piuterizuoja veiklos marketingo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onal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personalo valdymo funk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31B-546F-4221-B843-2B43993A04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pagalbos pob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nkci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iklos s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č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nformacijos sistema (Management I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- raš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is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S - grupinio darbo informacijos sistemos (group suport syste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- sprendimo p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mo 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vadovo IS (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ecutive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S – intelektuali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ksper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sistemos (ES), neuron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ink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 (AN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96E-40DE-49D4-9E8B-02B7BE007A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S klasifikacija pagal architektūr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j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avi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aš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veikiančios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infram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ski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ersonal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sudaryt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stytos informacijos sistemo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stributed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48B-33D9-411C-A7F5-FC9FA7B347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Klasifikacija pagal veiklos valdymo lygme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y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s valdy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ion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ageri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rateginė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tegic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9A4-8DCE-4D09-A2B1-18CCBC6A4E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prastai organizacijos informacijos sistema (dar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 informacija ir priemonių visuma) yra dalinai kompiuterizuota, skirstoma į ne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 ir 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stumo dėlei, mes sąvoką “kompiuterizuota informacijos sistema” toliau pakeisime terminu “informacijos sistema (IS)”, kadangi nekompiuterizuotų darbų su informacija nenagrinės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787-8CC5-473F-8B6B-8D4EEA8C49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240" y="704880"/>
            <a:ext cx="825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jo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os sudėti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24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rindinia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ekvie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jo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sistemos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ponentai yr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chninė įrang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įrenginių rinkinys tokių kaip procesorius, monitorius, klaviatūra ir spausdintuvas, kurie priima duomenis, apdoroja ir išveda j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inė įrang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programų rinkinys, kuris įgalina techninę įrangą apdoroti duomen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omenų bazė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usijusių failų, lentelių, ryšių ir t.t. rinkinys, kuriame saugomi duomenys ir asociacijos tarp j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n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j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kuri leidžia resursų pasidalijimą tarp skirtingų kompiuter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dūro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instrukcijų rinkinys apie tai, kaip apjungti aukščiau išvardintus komponentus tam, kad būtų galima apdoroti informaciją ir sugeneruoti pageidaujamą rezulta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Žmonė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okie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rganizacijos darbuotoj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naudojasi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naudoja j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a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taip pat informatikos specialistai, kurie užtikrina IS funkcionavim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1DA-4DFC-47E1-BC4A-76893B6A13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840" y="304920"/>
            <a:ext cx="784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sistemos </a:t>
            </a:r>
            <a:r>
              <a:rPr b="1" lang="lt-LT" sz="2600" spc="-1" strike="noStrike">
                <a:solidFill>
                  <a:srgbClr val="221304"/>
                </a:solidFill>
                <a:latin typeface="Times New Roman"/>
              </a:rPr>
              <a:t>sudėtis ir sąsaja su organizacija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00280" y="2038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185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1523880"/>
          <a:ext cx="8585280" cy="45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523880"/>
                    <a:ext cx="8585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712-E11A-4CD0-BB2E-0C4935A11B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PROGRAMINĖS ĮRANGOS TIP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4120" y="2166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143000"/>
          <a:ext cx="88326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8832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FC6-8820-48AE-8126-BE5194D016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klasifikacij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y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arptautinės mokslininkų grupės darbo 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 srities pavadinimas,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os įver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Adekvačios biznio procesui IT infrastruktūros sukūrimas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9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iznio proceso perprojektavimo kompiuterizavimas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7,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Paskirstytų IS kūrimas ir tvarkymas.                                                       7,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Organizacijos informacinės architektūros kūrimas ir realizavimas.        7,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Komunikacinių tinklų planavimas ir tvarkymas.                                     7,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IS kūrimo efektyvumo didinimas.                                                            7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Duomenų šaltinio tikslinio naudojimo užtikrinimas.                               7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IS personalo kvalifikacijos kėlimas.                                                         7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IS organizavimas atsižvelgiant į organizacijos struktūros vystymąsi.     7,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S strateginio planavimo įvertinimas.                                                     6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84A-B2F4-467C-ADB2-263199964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A.Kolektyvinio darbo sistemų kūrimas ir valdymas.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B.IS efektyvumo ir našumo matavimas.                    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Supratimo apie IS vaidmenį ir įtaką organizacijai didinimas.                 6,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Organizacijos personalo apmokymo kompiuterizavimas.                       6,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Esamos IS valdymas.                                                                                6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Galutiniam vartotojui skirtų IS kūrimas ir tvarkymas.                             6,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IS panaudojimas konkurenciniam pirmavimui.                                        6,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Atvirų sistemų planavimas ir integravimas (skirtingų IS integravimas)  6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Elektroninių duomenų mainų (EDI) kūrimas ir tvarkymas.                     5,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Atskirų informacinių paslaugų nuomavimas (outsourcing).                     5,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1B8-5FBC-43F0-9F61-07122F989E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3160" y="456840"/>
            <a:ext cx="808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ių technologijų 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įtaka veikla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380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im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as 1997 metų pabaigoje, nustat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ki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iausias I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tako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Našumo didinimas (improving productivit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Savikainos mažinimas (reducing cos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Priimamų sprendimų gerinimas (improving decision mak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Ryšio su vartotojais tobulinimas (enhancing customer relation­ship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Naujų s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inės paskirties IS kūrimas (developing new strategic applica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5EB-7560-45F1-ACAB-A15E113BA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8255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zav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dyba ir kontrolė globalioje rin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 pasaulio rink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darbo grup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produkto paskirstymo sist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814-823B-4152-B0E1-A9C5159C99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5240" y="1371600"/>
            <a:ext cx="825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ustrinės ekonomik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mis ir informacija grindžiama ekono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yv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ji produktai ir paslau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s: pagrindinis gamybos ir strateginis tu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, kurioje svarbus laiko faktorius (time-based compet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mpesnis produkto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ulentinė apl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tas darbuotojų žinių bag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947-995B-4C5B-9249-1167770BC9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ikl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nės struktūros plokštėjimas (flatt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ldymo d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slank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(flex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etumas nuo geografinės padėties (location indepe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mos transakcijų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vimo ka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uotojo teisių didėjimas (empower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ektyvinis darbas ir grupinis dar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D1B-C0A7-4251-8685-955859F6D0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isd</cp:lastModifiedBy>
  <cp:lastPrinted>2002-08-27T15:34:20Z</cp:lastPrinted>
  <dcterms:modified xsi:type="dcterms:W3CDTF">2002-09-11T14:42:15Z</dcterms:modified>
  <cp:revision>86</cp:revision>
  <dc:subject/>
  <dc:title>Informacinės sistemos gamybos valdymui  IT apibrėžimas ir klasifikacija</dc:title>
</cp:coreProperties>
</file>